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736-A44F-408B-9F09-CA00A05E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BDB-7BE2-4492-9864-1D65A780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011-10D8-4A07-8629-C498F491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3A5-BDAD-4AC3-BA13-A3C1CC2D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FAFC-E812-4D60-83AE-DA030C1D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7058-B47C-42E1-996B-2CB84BD8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7801-C0B2-4869-80BE-4D7D2DAE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B9B9-3120-4F21-A597-64CBB7D9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A26D-E050-4B60-AD5B-4B757BD7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13CA-2E9F-4B5A-8FE6-81806116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238D-16B7-41B5-9CD9-A123CBF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33B-B393-476A-87B8-BBE776C8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563F-F8EF-4E80-81C8-432EF058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4FDA-D009-4525-901A-85D86D30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A9E7-0A14-4085-9B19-BF46D744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7AB1-18A4-4A98-BF2A-1642B883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F3D2-3FD8-42CB-B877-8FF9A670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2DD-91B2-4E0C-9CBD-31103906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E00-A3E6-491B-909B-A0D5B7E9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3C4-80D9-48FF-B6DC-2E5147D6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0B2-834D-4365-B736-2D883693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6BC-3092-427F-A733-7755EFFA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3A9-313D-43D2-82D8-4357C2C2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692-E85C-4E9B-8053-28F8AFDB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5F7E-2513-41FB-B8F1-24E953B731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AD05-469D-4043-AD35-95DB414A86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6120" y="1552680"/>
            <a:ext cx="772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Cartesian graphs work? (i.e. y = 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y = 3x + 2                    x can be an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676920" y="2771640"/>
            <a:ext cx="0" cy="357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8120" y="45864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60640" y="2060640"/>
            <a:ext cx="3062520" cy="53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06440" y="2935440"/>
          <a:ext cx="2395440" cy="3584520"/>
        </p:xfrm>
        <a:graphic>
          <a:graphicData uri="http://schemas.openxmlformats.org/drawingml/2006/table">
            <a:tbl>
              <a:tblPr/>
              <a:tblGrid>
                <a:gridCol w="1197720"/>
                <a:gridCol w="1197720"/>
              </a:tblGrid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6964200" y="3662280"/>
            <a:ext cx="144720" cy="144360"/>
            <a:chOff x="6964200" y="3662280"/>
            <a:chExt cx="144720" cy="144360"/>
          </a:xfrm>
        </p:grpSpPr>
        <p:sp>
          <p:nvSpPr>
            <p:cNvPr id="101" name=""/>
            <p:cNvSpPr/>
            <p:nvPr/>
          </p:nvSpPr>
          <p:spPr>
            <a:xfrm flipH="1">
              <a:off x="6964200" y="366228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64200" y="366228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191000" y="3241800"/>
            <a:ext cx="144720" cy="144360"/>
            <a:chOff x="7191000" y="3241800"/>
            <a:chExt cx="144720" cy="144360"/>
          </a:xfrm>
        </p:grpSpPr>
        <p:sp>
          <p:nvSpPr>
            <p:cNvPr id="104" name=""/>
            <p:cNvSpPr/>
            <p:nvPr/>
          </p:nvSpPr>
          <p:spPr>
            <a:xfrm flipH="1">
              <a:off x="7191000" y="32418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91360" y="32418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927400" y="5532480"/>
            <a:ext cx="144720" cy="144360"/>
            <a:chOff x="5927400" y="5532480"/>
            <a:chExt cx="144720" cy="144360"/>
          </a:xfrm>
        </p:grpSpPr>
        <p:sp>
          <p:nvSpPr>
            <p:cNvPr id="107" name=""/>
            <p:cNvSpPr/>
            <p:nvPr/>
          </p:nvSpPr>
          <p:spPr>
            <a:xfrm flipH="1">
              <a:off x="5927400" y="5532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27760" y="5532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722640" y="4065480"/>
            <a:ext cx="144720" cy="144360"/>
            <a:chOff x="6722640" y="4065480"/>
            <a:chExt cx="144720" cy="144360"/>
          </a:xfrm>
        </p:grpSpPr>
        <p:sp>
          <p:nvSpPr>
            <p:cNvPr id="110" name=""/>
            <p:cNvSpPr/>
            <p:nvPr/>
          </p:nvSpPr>
          <p:spPr>
            <a:xfrm flipH="1">
              <a:off x="6722640" y="4065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23000" y="406548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5616720" y="2583000"/>
            <a:ext cx="2017440" cy="373032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70120" y="2428920"/>
            <a:ext cx="2205000" cy="1803240"/>
          </a:xfrm>
          <a:custGeom>
            <a:avLst/>
            <a:gdLst/>
            <a:ahLst/>
            <a:rect l="l" t="t" r="r" b="b"/>
            <a:pathLst>
              <a:path w="6127" h="5011">
                <a:moveTo>
                  <a:pt x="7417" y="9798"/>
                </a:moveTo>
                <a:cubicBezTo>
                  <a:pt x="7454" y="9855"/>
                  <a:pt x="7432" y="9847"/>
                  <a:pt x="7491" y="9847"/>
                </a:cubicBezTo>
                <a:cubicBezTo>
                  <a:pt x="7491" y="9767"/>
                  <a:pt x="7507" y="9701"/>
                  <a:pt x="7516" y="9624"/>
                </a:cubicBezTo>
                <a:cubicBezTo>
                  <a:pt x="7528" y="9519"/>
                  <a:pt x="7543" y="9405"/>
                  <a:pt x="7565" y="9302"/>
                </a:cubicBezTo>
                <a:cubicBezTo>
                  <a:pt x="7585" y="9241"/>
                  <a:pt x="7583" y="9226"/>
                  <a:pt x="7615" y="9203"/>
                </a:cubicBezTo>
                <a:cubicBezTo>
                  <a:pt x="7662" y="9249"/>
                  <a:pt x="7684" y="9292"/>
                  <a:pt x="7714" y="9351"/>
                </a:cubicBezTo>
                <a:cubicBezTo>
                  <a:pt x="7743" y="9410"/>
                  <a:pt x="7764" y="9420"/>
                  <a:pt x="7813" y="9376"/>
                </a:cubicBezTo>
                <a:cubicBezTo>
                  <a:pt x="7860" y="9334"/>
                  <a:pt x="7846" y="9302"/>
                  <a:pt x="7913" y="9302"/>
                </a:cubicBezTo>
                <a:cubicBezTo>
                  <a:pt x="7955" y="9302"/>
                  <a:pt x="7983" y="9347"/>
                  <a:pt x="8012" y="9376"/>
                </a:cubicBezTo>
              </a:path>
              <a:path w="6127" h="5011">
                <a:moveTo>
                  <a:pt x="8607" y="9103"/>
                </a:moveTo>
                <a:cubicBezTo>
                  <a:pt x="8549" y="9103"/>
                  <a:pt x="8492" y="9103"/>
                  <a:pt x="8434" y="9103"/>
                </a:cubicBezTo>
              </a:path>
              <a:path w="6127" h="5011">
                <a:moveTo>
                  <a:pt x="8607" y="9203"/>
                </a:moveTo>
                <a:cubicBezTo>
                  <a:pt x="8639" y="9203"/>
                  <a:pt x="8694" y="9220"/>
                  <a:pt x="8632" y="9227"/>
                </a:cubicBezTo>
                <a:cubicBezTo>
                  <a:pt x="8624" y="9227"/>
                  <a:pt x="8615" y="9227"/>
                  <a:pt x="8607" y="9227"/>
                </a:cubicBezTo>
              </a:path>
              <a:path w="6127" h="5011">
                <a:moveTo>
                  <a:pt x="9277" y="9004"/>
                </a:moveTo>
                <a:cubicBezTo>
                  <a:pt x="9277" y="8935"/>
                  <a:pt x="9274" y="9045"/>
                  <a:pt x="9277" y="9054"/>
                </a:cubicBezTo>
                <a:cubicBezTo>
                  <a:pt x="9299" y="9113"/>
                  <a:pt x="9332" y="9159"/>
                  <a:pt x="9376" y="9203"/>
                </a:cubicBezTo>
                <a:cubicBezTo>
                  <a:pt x="9463" y="9168"/>
                  <a:pt x="9449" y="9131"/>
                  <a:pt x="9475" y="9054"/>
                </a:cubicBezTo>
                <a:cubicBezTo>
                  <a:pt x="9483" y="9037"/>
                  <a:pt x="9492" y="9021"/>
                  <a:pt x="9500" y="9004"/>
                </a:cubicBezTo>
                <a:cubicBezTo>
                  <a:pt x="9583" y="9004"/>
                  <a:pt x="9567" y="9057"/>
                  <a:pt x="9599" y="9128"/>
                </a:cubicBezTo>
                <a:cubicBezTo>
                  <a:pt x="9647" y="9235"/>
                  <a:pt x="9705" y="9352"/>
                  <a:pt x="9674" y="9475"/>
                </a:cubicBezTo>
                <a:cubicBezTo>
                  <a:pt x="9650" y="9571"/>
                  <a:pt x="9550" y="9550"/>
                  <a:pt x="9475" y="9550"/>
                </a:cubicBezTo>
                <a:cubicBezTo>
                  <a:pt x="9400" y="9550"/>
                  <a:pt x="9283" y="9542"/>
                  <a:pt x="9227" y="9500"/>
                </a:cubicBezTo>
                <a:cubicBezTo>
                  <a:pt x="9205" y="9478"/>
                  <a:pt x="9197" y="9473"/>
                  <a:pt x="9203" y="9451"/>
                </a:cubicBezTo>
              </a:path>
              <a:path w="6127" h="5011">
                <a:moveTo>
                  <a:pt x="10021" y="9103"/>
                </a:moveTo>
                <a:cubicBezTo>
                  <a:pt x="10047" y="9084"/>
                  <a:pt x="10117" y="9079"/>
                  <a:pt x="10071" y="9079"/>
                </a:cubicBezTo>
                <a:cubicBezTo>
                  <a:pt x="9973" y="9079"/>
                  <a:pt x="9890" y="9082"/>
                  <a:pt x="9798" y="9103"/>
                </a:cubicBezTo>
                <a:cubicBezTo>
                  <a:pt x="9773" y="9103"/>
                  <a:pt x="9765" y="9103"/>
                  <a:pt x="9748" y="9103"/>
                </a:cubicBezTo>
              </a:path>
              <a:path w="6127" h="5011">
                <a:moveTo>
                  <a:pt x="9823" y="9004"/>
                </a:moveTo>
                <a:cubicBezTo>
                  <a:pt x="9871" y="8983"/>
                  <a:pt x="9917" y="8955"/>
                  <a:pt x="9922" y="9029"/>
                </a:cubicBezTo>
                <a:cubicBezTo>
                  <a:pt x="9927" y="9098"/>
                  <a:pt x="9929" y="9145"/>
                  <a:pt x="9947" y="9203"/>
                </a:cubicBezTo>
                <a:cubicBezTo>
                  <a:pt x="9947" y="9211"/>
                  <a:pt x="9947" y="9219"/>
                  <a:pt x="9947" y="9227"/>
                </a:cubicBezTo>
              </a:path>
              <a:path w="6127" h="5011">
                <a:moveTo>
                  <a:pt x="10269" y="8781"/>
                </a:moveTo>
                <a:cubicBezTo>
                  <a:pt x="10269" y="8764"/>
                  <a:pt x="10269" y="8748"/>
                  <a:pt x="10269" y="8731"/>
                </a:cubicBezTo>
                <a:cubicBezTo>
                  <a:pt x="10281" y="8780"/>
                  <a:pt x="10282" y="8826"/>
                  <a:pt x="10294" y="8880"/>
                </a:cubicBezTo>
                <a:cubicBezTo>
                  <a:pt x="10310" y="8954"/>
                  <a:pt x="10319" y="9003"/>
                  <a:pt x="10319" y="9079"/>
                </a:cubicBezTo>
              </a:path>
              <a:path w="6127" h="5011">
                <a:moveTo>
                  <a:pt x="10641" y="9302"/>
                </a:moveTo>
                <a:cubicBezTo>
                  <a:pt x="10596" y="9302"/>
                  <a:pt x="10582" y="9324"/>
                  <a:pt x="10542" y="9327"/>
                </a:cubicBezTo>
                <a:cubicBezTo>
                  <a:pt x="10234" y="9349"/>
                  <a:pt x="9867" y="9254"/>
                  <a:pt x="9575" y="9351"/>
                </a:cubicBezTo>
                <a:cubicBezTo>
                  <a:pt x="9521" y="9369"/>
                  <a:pt x="9476" y="9388"/>
                  <a:pt x="9426" y="9401"/>
                </a:cubicBezTo>
              </a:path>
              <a:path w="6127" h="5011">
                <a:moveTo>
                  <a:pt x="9897" y="9624"/>
                </a:moveTo>
                <a:cubicBezTo>
                  <a:pt x="9875" y="9617"/>
                  <a:pt x="9852" y="9586"/>
                  <a:pt x="9872" y="9550"/>
                </a:cubicBezTo>
                <a:cubicBezTo>
                  <a:pt x="9893" y="9513"/>
                  <a:pt x="9960" y="9503"/>
                  <a:pt x="9996" y="9500"/>
                </a:cubicBezTo>
                <a:cubicBezTo>
                  <a:pt x="10059" y="9495"/>
                  <a:pt x="10046" y="9556"/>
                  <a:pt x="10046" y="9599"/>
                </a:cubicBezTo>
                <a:cubicBezTo>
                  <a:pt x="10046" y="9683"/>
                  <a:pt x="9979" y="9725"/>
                  <a:pt x="9922" y="9773"/>
                </a:cubicBezTo>
                <a:cubicBezTo>
                  <a:pt x="9878" y="9810"/>
                  <a:pt x="9887" y="9857"/>
                  <a:pt x="9947" y="9872"/>
                </a:cubicBezTo>
                <a:cubicBezTo>
                  <a:pt x="9996" y="9884"/>
                  <a:pt x="10077" y="9861"/>
                  <a:pt x="10120" y="9847"/>
                </a:cubicBezTo>
                <a:cubicBezTo>
                  <a:pt x="10170" y="9831"/>
                  <a:pt x="10191" y="9823"/>
                  <a:pt x="10244" y="9823"/>
                </a:cubicBezTo>
              </a:path>
              <a:path w="6127" h="5011">
                <a:moveTo>
                  <a:pt x="10666" y="6796"/>
                </a:moveTo>
                <a:cubicBezTo>
                  <a:pt x="10708" y="6791"/>
                  <a:pt x="10727" y="6778"/>
                  <a:pt x="10765" y="6772"/>
                </a:cubicBezTo>
                <a:cubicBezTo>
                  <a:pt x="10817" y="6764"/>
                  <a:pt x="10861" y="6750"/>
                  <a:pt x="10914" y="6747"/>
                </a:cubicBezTo>
                <a:cubicBezTo>
                  <a:pt x="10974" y="6744"/>
                  <a:pt x="11015" y="6744"/>
                  <a:pt x="11063" y="6772"/>
                </a:cubicBezTo>
                <a:cubicBezTo>
                  <a:pt x="11103" y="6795"/>
                  <a:pt x="11122" y="6837"/>
                  <a:pt x="11137" y="6871"/>
                </a:cubicBezTo>
                <a:cubicBezTo>
                  <a:pt x="11161" y="6926"/>
                  <a:pt x="11162" y="6983"/>
                  <a:pt x="11162" y="7045"/>
                </a:cubicBezTo>
                <a:cubicBezTo>
                  <a:pt x="11162" y="7287"/>
                  <a:pt x="11163" y="7531"/>
                  <a:pt x="11187" y="7764"/>
                </a:cubicBezTo>
                <a:cubicBezTo>
                  <a:pt x="11197" y="7863"/>
                  <a:pt x="11202" y="7968"/>
                  <a:pt x="11212" y="8062"/>
                </a:cubicBezTo>
                <a:cubicBezTo>
                  <a:pt x="11219" y="8131"/>
                  <a:pt x="11233" y="8193"/>
                  <a:pt x="11237" y="8260"/>
                </a:cubicBezTo>
                <a:cubicBezTo>
                  <a:pt x="11244" y="8378"/>
                  <a:pt x="11247" y="8502"/>
                  <a:pt x="11261" y="8607"/>
                </a:cubicBezTo>
                <a:cubicBezTo>
                  <a:pt x="11274" y="8709"/>
                  <a:pt x="11232" y="8868"/>
                  <a:pt x="11286" y="8930"/>
                </a:cubicBezTo>
                <a:cubicBezTo>
                  <a:pt x="11303" y="8949"/>
                  <a:pt x="11337" y="8996"/>
                  <a:pt x="11385" y="9004"/>
                </a:cubicBezTo>
                <a:cubicBezTo>
                  <a:pt x="11432" y="9012"/>
                  <a:pt x="11468" y="9022"/>
                  <a:pt x="11509" y="9029"/>
                </a:cubicBezTo>
                <a:cubicBezTo>
                  <a:pt x="11553" y="9036"/>
                  <a:pt x="11574" y="9032"/>
                  <a:pt x="11509" y="9054"/>
                </a:cubicBezTo>
                <a:cubicBezTo>
                  <a:pt x="11471" y="9067"/>
                  <a:pt x="11423" y="9064"/>
                  <a:pt x="11385" y="9079"/>
                </a:cubicBezTo>
                <a:cubicBezTo>
                  <a:pt x="11350" y="9093"/>
                  <a:pt x="11327" y="9115"/>
                  <a:pt x="11311" y="9128"/>
                </a:cubicBezTo>
              </a:path>
              <a:path w="6127" h="5011">
                <a:moveTo>
                  <a:pt x="11361" y="9178"/>
                </a:moveTo>
                <a:cubicBezTo>
                  <a:pt x="11361" y="9402"/>
                  <a:pt x="11372" y="9632"/>
                  <a:pt x="11336" y="9847"/>
                </a:cubicBezTo>
                <a:cubicBezTo>
                  <a:pt x="11316" y="9968"/>
                  <a:pt x="11330" y="10101"/>
                  <a:pt x="11311" y="10220"/>
                </a:cubicBezTo>
                <a:cubicBezTo>
                  <a:pt x="11277" y="10430"/>
                  <a:pt x="11314" y="10694"/>
                  <a:pt x="11336" y="10889"/>
                </a:cubicBezTo>
                <a:cubicBezTo>
                  <a:pt x="11344" y="10961"/>
                  <a:pt x="11350" y="11021"/>
                  <a:pt x="11361" y="11088"/>
                </a:cubicBezTo>
                <a:cubicBezTo>
                  <a:pt x="11381" y="11206"/>
                  <a:pt x="11373" y="11376"/>
                  <a:pt x="11336" y="11485"/>
                </a:cubicBezTo>
                <a:cubicBezTo>
                  <a:pt x="11315" y="11546"/>
                  <a:pt x="11291" y="11591"/>
                  <a:pt x="11237" y="11633"/>
                </a:cubicBezTo>
                <a:cubicBezTo>
                  <a:pt x="11174" y="11682"/>
                  <a:pt x="11154" y="11704"/>
                  <a:pt x="11088" y="11733"/>
                </a:cubicBezTo>
                <a:cubicBezTo>
                  <a:pt x="11031" y="11758"/>
                  <a:pt x="11001" y="11757"/>
                  <a:pt x="10939" y="11757"/>
                </a:cubicBezTo>
              </a:path>
              <a:path w="6127" h="5011">
                <a:moveTo>
                  <a:pt x="12105" y="8731"/>
                </a:moveTo>
                <a:cubicBezTo>
                  <a:pt x="12085" y="8758"/>
                  <a:pt x="12080" y="8826"/>
                  <a:pt x="12080" y="8781"/>
                </a:cubicBezTo>
                <a:cubicBezTo>
                  <a:pt x="12080" y="8728"/>
                  <a:pt x="12091" y="8720"/>
                  <a:pt x="12129" y="8682"/>
                </a:cubicBezTo>
                <a:cubicBezTo>
                  <a:pt x="12175" y="8636"/>
                  <a:pt x="12228" y="8672"/>
                  <a:pt x="12278" y="8706"/>
                </a:cubicBezTo>
                <a:cubicBezTo>
                  <a:pt x="12329" y="8741"/>
                  <a:pt x="12344" y="8848"/>
                  <a:pt x="12328" y="8905"/>
                </a:cubicBezTo>
                <a:cubicBezTo>
                  <a:pt x="12309" y="8972"/>
                  <a:pt x="12265" y="9000"/>
                  <a:pt x="12204" y="9004"/>
                </a:cubicBezTo>
                <a:cubicBezTo>
                  <a:pt x="12151" y="9007"/>
                  <a:pt x="12147" y="8990"/>
                  <a:pt x="12105" y="8979"/>
                </a:cubicBezTo>
              </a:path>
              <a:path w="6127" h="5011">
                <a:moveTo>
                  <a:pt x="12477" y="8657"/>
                </a:moveTo>
                <a:cubicBezTo>
                  <a:pt x="12541" y="8593"/>
                  <a:pt x="12436" y="8716"/>
                  <a:pt x="12427" y="8731"/>
                </a:cubicBezTo>
                <a:cubicBezTo>
                  <a:pt x="12373" y="8816"/>
                  <a:pt x="12335" y="8877"/>
                  <a:pt x="12328" y="8979"/>
                </a:cubicBezTo>
                <a:cubicBezTo>
                  <a:pt x="12321" y="9070"/>
                  <a:pt x="12420" y="9010"/>
                  <a:pt x="12452" y="9004"/>
                </a:cubicBezTo>
                <a:cubicBezTo>
                  <a:pt x="12469" y="9004"/>
                  <a:pt x="12485" y="9004"/>
                  <a:pt x="12502" y="9004"/>
                </a:cubicBezTo>
              </a:path>
              <a:path w="6127" h="5011">
                <a:moveTo>
                  <a:pt x="12774" y="8855"/>
                </a:moveTo>
                <a:cubicBezTo>
                  <a:pt x="12710" y="8855"/>
                  <a:pt x="12813" y="8855"/>
                  <a:pt x="12824" y="8855"/>
                </a:cubicBezTo>
                <a:cubicBezTo>
                  <a:pt x="12898" y="8855"/>
                  <a:pt x="12973" y="8855"/>
                  <a:pt x="13047" y="8855"/>
                </a:cubicBezTo>
              </a:path>
              <a:path w="6127" h="5011">
                <a:moveTo>
                  <a:pt x="13246" y="8508"/>
                </a:moveTo>
                <a:cubicBezTo>
                  <a:pt x="13268" y="8486"/>
                  <a:pt x="13273" y="8477"/>
                  <a:pt x="13295" y="8483"/>
                </a:cubicBezTo>
                <a:cubicBezTo>
                  <a:pt x="13295" y="8603"/>
                  <a:pt x="13291" y="8714"/>
                  <a:pt x="13320" y="8830"/>
                </a:cubicBezTo>
              </a:path>
              <a:path w="6127" h="5011">
                <a:moveTo>
                  <a:pt x="13543" y="9252"/>
                </a:moveTo>
                <a:cubicBezTo>
                  <a:pt x="13479" y="9252"/>
                  <a:pt x="13428" y="9235"/>
                  <a:pt x="13370" y="9227"/>
                </a:cubicBezTo>
                <a:cubicBezTo>
                  <a:pt x="13272" y="9214"/>
                  <a:pt x="13169" y="9187"/>
                  <a:pt x="13072" y="9178"/>
                </a:cubicBezTo>
                <a:cubicBezTo>
                  <a:pt x="12815" y="9154"/>
                  <a:pt x="12413" y="9125"/>
                  <a:pt x="12179" y="9203"/>
                </a:cubicBezTo>
                <a:cubicBezTo>
                  <a:pt x="12136" y="9217"/>
                  <a:pt x="12144" y="9183"/>
                  <a:pt x="12129" y="9227"/>
                </a:cubicBezTo>
              </a:path>
              <a:path w="6127" h="5011">
                <a:moveTo>
                  <a:pt x="12774" y="9451"/>
                </a:moveTo>
                <a:cubicBezTo>
                  <a:pt x="12752" y="9428"/>
                  <a:pt x="12744" y="9423"/>
                  <a:pt x="12750" y="9401"/>
                </a:cubicBezTo>
                <a:cubicBezTo>
                  <a:pt x="12808" y="9401"/>
                  <a:pt x="12865" y="9401"/>
                  <a:pt x="12923" y="9401"/>
                </a:cubicBezTo>
                <a:cubicBezTo>
                  <a:pt x="12923" y="9440"/>
                  <a:pt x="12934" y="9475"/>
                  <a:pt x="12898" y="9500"/>
                </a:cubicBezTo>
                <a:cubicBezTo>
                  <a:pt x="12857" y="9529"/>
                  <a:pt x="12798" y="9522"/>
                  <a:pt x="12774" y="9575"/>
                </a:cubicBezTo>
                <a:cubicBezTo>
                  <a:pt x="12774" y="9583"/>
                  <a:pt x="12774" y="9591"/>
                  <a:pt x="12774" y="9599"/>
                </a:cubicBezTo>
                <a:cubicBezTo>
                  <a:pt x="12831" y="9645"/>
                  <a:pt x="12895" y="9671"/>
                  <a:pt x="12948" y="9723"/>
                </a:cubicBezTo>
                <a:cubicBezTo>
                  <a:pt x="12978" y="9753"/>
                  <a:pt x="12973" y="9758"/>
                  <a:pt x="12973" y="9798"/>
                </a:cubicBezTo>
                <a:cubicBezTo>
                  <a:pt x="12908" y="9798"/>
                  <a:pt x="12852" y="9784"/>
                  <a:pt x="12799" y="9773"/>
                </a:cubicBezTo>
                <a:cubicBezTo>
                  <a:pt x="12783" y="9773"/>
                  <a:pt x="12766" y="9773"/>
                  <a:pt x="12750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26040" y="3340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4362" y="9277"/>
                </a:moveTo>
                <a:cubicBezTo>
                  <a:pt x="14370" y="9277"/>
                  <a:pt x="14379" y="9277"/>
                  <a:pt x="14387" y="9277"/>
                </a:cubicBezTo>
                <a:cubicBezTo>
                  <a:pt x="14337" y="9277"/>
                  <a:pt x="14328" y="9288"/>
                  <a:pt x="14288" y="9302"/>
                </a:cubicBezTo>
                <a:cubicBezTo>
                  <a:pt x="14263" y="9302"/>
                  <a:pt x="14255" y="9302"/>
                  <a:pt x="14238" y="9302"/>
                </a:cubicBezTo>
              </a:path>
              <a:path w="150" h="150">
                <a:moveTo>
                  <a:pt x="14362" y="9376"/>
                </a:moveTo>
                <a:cubicBezTo>
                  <a:pt x="14352" y="9417"/>
                  <a:pt x="14353" y="9416"/>
                  <a:pt x="14312" y="94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8880" y="3098880"/>
            <a:ext cx="1347840" cy="46512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15131" y="8855"/>
                </a:moveTo>
                <a:cubicBezTo>
                  <a:pt x="15144" y="8817"/>
                  <a:pt x="15156" y="8835"/>
                  <a:pt x="15156" y="8781"/>
                </a:cubicBezTo>
                <a:cubicBezTo>
                  <a:pt x="15120" y="8793"/>
                  <a:pt x="15118" y="8857"/>
                  <a:pt x="15131" y="8905"/>
                </a:cubicBezTo>
                <a:cubicBezTo>
                  <a:pt x="15144" y="8952"/>
                  <a:pt x="15181" y="9085"/>
                  <a:pt x="15255" y="9079"/>
                </a:cubicBezTo>
                <a:cubicBezTo>
                  <a:pt x="15307" y="9075"/>
                  <a:pt x="15337" y="8988"/>
                  <a:pt x="15379" y="8979"/>
                </a:cubicBezTo>
                <a:cubicBezTo>
                  <a:pt x="15387" y="8979"/>
                  <a:pt x="15396" y="8979"/>
                  <a:pt x="15404" y="8979"/>
                </a:cubicBezTo>
                <a:cubicBezTo>
                  <a:pt x="15459" y="9062"/>
                  <a:pt x="15475" y="9151"/>
                  <a:pt x="15478" y="9252"/>
                </a:cubicBezTo>
                <a:cubicBezTo>
                  <a:pt x="15480" y="9326"/>
                  <a:pt x="15474" y="9454"/>
                  <a:pt x="15379" y="9475"/>
                </a:cubicBezTo>
                <a:cubicBezTo>
                  <a:pt x="15303" y="9492"/>
                  <a:pt x="15219" y="9470"/>
                  <a:pt x="15156" y="9426"/>
                </a:cubicBezTo>
                <a:cubicBezTo>
                  <a:pt x="15126" y="9396"/>
                  <a:pt x="15115" y="9382"/>
                  <a:pt x="15106" y="9351"/>
                </a:cubicBezTo>
              </a:path>
              <a:path w="3747" h="1291">
                <a:moveTo>
                  <a:pt x="15900" y="8979"/>
                </a:moveTo>
                <a:cubicBezTo>
                  <a:pt x="15908" y="8979"/>
                  <a:pt x="15917" y="8979"/>
                  <a:pt x="15925" y="8979"/>
                </a:cubicBezTo>
                <a:cubicBezTo>
                  <a:pt x="15846" y="8979"/>
                  <a:pt x="15738" y="9001"/>
                  <a:pt x="15677" y="8954"/>
                </a:cubicBezTo>
              </a:path>
              <a:path w="3747" h="1291">
                <a:moveTo>
                  <a:pt x="15751" y="8855"/>
                </a:moveTo>
                <a:cubicBezTo>
                  <a:pt x="15764" y="8908"/>
                  <a:pt x="15776" y="8940"/>
                  <a:pt x="15776" y="9004"/>
                </a:cubicBezTo>
                <a:cubicBezTo>
                  <a:pt x="15776" y="9046"/>
                  <a:pt x="15776" y="9054"/>
                  <a:pt x="15776" y="9079"/>
                </a:cubicBezTo>
              </a:path>
              <a:path w="3747" h="1291">
                <a:moveTo>
                  <a:pt x="16197" y="8607"/>
                </a:moveTo>
                <a:cubicBezTo>
                  <a:pt x="16241" y="8622"/>
                  <a:pt x="16222" y="8678"/>
                  <a:pt x="16222" y="8731"/>
                </a:cubicBezTo>
                <a:cubicBezTo>
                  <a:pt x="16222" y="8820"/>
                  <a:pt x="16202" y="8893"/>
                  <a:pt x="16197" y="8979"/>
                </a:cubicBezTo>
                <a:cubicBezTo>
                  <a:pt x="16197" y="8996"/>
                  <a:pt x="16197" y="9012"/>
                  <a:pt x="16197" y="9029"/>
                </a:cubicBezTo>
              </a:path>
              <a:path w="3747" h="1291">
                <a:moveTo>
                  <a:pt x="16321" y="9327"/>
                </a:moveTo>
                <a:cubicBezTo>
                  <a:pt x="16282" y="9337"/>
                  <a:pt x="16266" y="9351"/>
                  <a:pt x="16222" y="9351"/>
                </a:cubicBezTo>
                <a:cubicBezTo>
                  <a:pt x="16062" y="9351"/>
                  <a:pt x="15904" y="9346"/>
                  <a:pt x="15751" y="9327"/>
                </a:cubicBezTo>
                <a:cubicBezTo>
                  <a:pt x="15640" y="9313"/>
                  <a:pt x="15535" y="9336"/>
                  <a:pt x="15429" y="9351"/>
                </a:cubicBezTo>
                <a:cubicBezTo>
                  <a:pt x="15379" y="9358"/>
                  <a:pt x="15347" y="9371"/>
                  <a:pt x="15304" y="9376"/>
                </a:cubicBezTo>
                <a:cubicBezTo>
                  <a:pt x="15296" y="9376"/>
                  <a:pt x="15288" y="9376"/>
                  <a:pt x="15280" y="9376"/>
                </a:cubicBezTo>
              </a:path>
              <a:path w="3747" h="1291">
                <a:moveTo>
                  <a:pt x="15553" y="9599"/>
                </a:moveTo>
                <a:cubicBezTo>
                  <a:pt x="15528" y="9599"/>
                  <a:pt x="15520" y="9599"/>
                  <a:pt x="15528" y="9575"/>
                </a:cubicBezTo>
                <a:cubicBezTo>
                  <a:pt x="15533" y="9561"/>
                  <a:pt x="15574" y="9508"/>
                  <a:pt x="15602" y="9500"/>
                </a:cubicBezTo>
                <a:cubicBezTo>
                  <a:pt x="15651" y="9486"/>
                  <a:pt x="15691" y="9504"/>
                  <a:pt x="15701" y="9550"/>
                </a:cubicBezTo>
                <a:cubicBezTo>
                  <a:pt x="15710" y="9593"/>
                  <a:pt x="15677" y="9668"/>
                  <a:pt x="15652" y="9699"/>
                </a:cubicBezTo>
                <a:cubicBezTo>
                  <a:pt x="15615" y="9744"/>
                  <a:pt x="15620" y="9749"/>
                  <a:pt x="15652" y="9773"/>
                </a:cubicBezTo>
                <a:cubicBezTo>
                  <a:pt x="15691" y="9802"/>
                  <a:pt x="15748" y="9813"/>
                  <a:pt x="15801" y="9798"/>
                </a:cubicBezTo>
                <a:cubicBezTo>
                  <a:pt x="15842" y="9787"/>
                  <a:pt x="15869" y="9771"/>
                  <a:pt x="15900" y="9748"/>
                </a:cubicBezTo>
              </a:path>
              <a:path w="3747" h="1291">
                <a:moveTo>
                  <a:pt x="16917" y="9376"/>
                </a:moveTo>
                <a:cubicBezTo>
                  <a:pt x="16942" y="9376"/>
                  <a:pt x="16950" y="9376"/>
                  <a:pt x="16966" y="9376"/>
                </a:cubicBezTo>
                <a:cubicBezTo>
                  <a:pt x="16930" y="9376"/>
                  <a:pt x="16893" y="9383"/>
                  <a:pt x="16867" y="9401"/>
                </a:cubicBezTo>
                <a:cubicBezTo>
                  <a:pt x="16845" y="9423"/>
                  <a:pt x="16840" y="9432"/>
                  <a:pt x="16818" y="9426"/>
                </a:cubicBezTo>
              </a:path>
              <a:path w="3747" h="1291">
                <a:moveTo>
                  <a:pt x="16892" y="9475"/>
                </a:moveTo>
                <a:cubicBezTo>
                  <a:pt x="16949" y="9489"/>
                  <a:pt x="16951" y="9505"/>
                  <a:pt x="16917" y="9550"/>
                </a:cubicBezTo>
              </a:path>
              <a:path w="3747" h="1291">
                <a:moveTo>
                  <a:pt x="17587" y="8880"/>
                </a:moveTo>
                <a:cubicBezTo>
                  <a:pt x="17632" y="8868"/>
                  <a:pt x="17657" y="8855"/>
                  <a:pt x="17711" y="8855"/>
                </a:cubicBezTo>
                <a:cubicBezTo>
                  <a:pt x="17757" y="8855"/>
                  <a:pt x="17779" y="8854"/>
                  <a:pt x="17785" y="8905"/>
                </a:cubicBezTo>
                <a:cubicBezTo>
                  <a:pt x="17793" y="8978"/>
                  <a:pt x="17768" y="8977"/>
                  <a:pt x="17735" y="9029"/>
                </a:cubicBezTo>
                <a:cubicBezTo>
                  <a:pt x="17712" y="9066"/>
                  <a:pt x="17653" y="9115"/>
                  <a:pt x="17636" y="9153"/>
                </a:cubicBezTo>
                <a:cubicBezTo>
                  <a:pt x="17636" y="9161"/>
                  <a:pt x="17636" y="9170"/>
                  <a:pt x="17636" y="9178"/>
                </a:cubicBezTo>
                <a:cubicBezTo>
                  <a:pt x="17732" y="9178"/>
                  <a:pt x="17884" y="9147"/>
                  <a:pt x="17959" y="9203"/>
                </a:cubicBezTo>
              </a:path>
              <a:path w="3747" h="1291">
                <a:moveTo>
                  <a:pt x="18058" y="9054"/>
                </a:moveTo>
                <a:cubicBezTo>
                  <a:pt x="18050" y="9054"/>
                  <a:pt x="18041" y="9054"/>
                  <a:pt x="18033" y="9054"/>
                </a:cubicBezTo>
                <a:cubicBezTo>
                  <a:pt x="18102" y="9054"/>
                  <a:pt x="18142" y="9045"/>
                  <a:pt x="18207" y="9029"/>
                </a:cubicBezTo>
                <a:cubicBezTo>
                  <a:pt x="18215" y="9029"/>
                  <a:pt x="18223" y="9029"/>
                  <a:pt x="18231" y="9029"/>
                </a:cubicBezTo>
              </a:path>
              <a:path w="3747" h="1291">
                <a:moveTo>
                  <a:pt x="18504" y="8781"/>
                </a:moveTo>
                <a:cubicBezTo>
                  <a:pt x="18529" y="8756"/>
                  <a:pt x="18537" y="8748"/>
                  <a:pt x="18554" y="8731"/>
                </a:cubicBezTo>
                <a:cubicBezTo>
                  <a:pt x="18513" y="8812"/>
                  <a:pt x="18483" y="8863"/>
                  <a:pt x="18479" y="8954"/>
                </a:cubicBezTo>
                <a:cubicBezTo>
                  <a:pt x="18476" y="9010"/>
                  <a:pt x="18470" y="9060"/>
                  <a:pt x="18504" y="9103"/>
                </a:cubicBezTo>
                <a:cubicBezTo>
                  <a:pt x="18538" y="9145"/>
                  <a:pt x="18603" y="9128"/>
                  <a:pt x="18653" y="9128"/>
                </a:cubicBezTo>
                <a:cubicBezTo>
                  <a:pt x="18707" y="9128"/>
                  <a:pt x="18732" y="9108"/>
                  <a:pt x="18777" y="9103"/>
                </a:cubicBezTo>
                <a:cubicBezTo>
                  <a:pt x="18818" y="9098"/>
                  <a:pt x="18802" y="9064"/>
                  <a:pt x="18802" y="9128"/>
                </a:cubicBezTo>
              </a:path>
              <a:path w="3747" h="1291">
                <a:moveTo>
                  <a:pt x="18678" y="9029"/>
                </a:moveTo>
                <a:cubicBezTo>
                  <a:pt x="18670" y="9021"/>
                  <a:pt x="18661" y="9012"/>
                  <a:pt x="18653" y="9004"/>
                </a:cubicBezTo>
                <a:cubicBezTo>
                  <a:pt x="18653" y="9087"/>
                  <a:pt x="18653" y="9169"/>
                  <a:pt x="18653" y="9252"/>
                </a:cubicBezTo>
              </a:path>
              <a:path w="3747" h="1291">
                <a:moveTo>
                  <a:pt x="18852" y="9500"/>
                </a:moveTo>
                <a:cubicBezTo>
                  <a:pt x="18748" y="9500"/>
                  <a:pt x="18656" y="9498"/>
                  <a:pt x="18554" y="9475"/>
                </a:cubicBezTo>
                <a:cubicBezTo>
                  <a:pt x="18419" y="9445"/>
                  <a:pt x="18270" y="9418"/>
                  <a:pt x="18132" y="9401"/>
                </a:cubicBezTo>
                <a:cubicBezTo>
                  <a:pt x="18028" y="9388"/>
                  <a:pt x="17930" y="9404"/>
                  <a:pt x="17835" y="9426"/>
                </a:cubicBezTo>
                <a:cubicBezTo>
                  <a:pt x="17806" y="9433"/>
                  <a:pt x="17765" y="9426"/>
                  <a:pt x="17735" y="9426"/>
                </a:cubicBezTo>
              </a:path>
              <a:path w="3747" h="1291">
                <a:moveTo>
                  <a:pt x="18231" y="9649"/>
                </a:moveTo>
                <a:cubicBezTo>
                  <a:pt x="18231" y="9608"/>
                  <a:pt x="18231" y="9682"/>
                  <a:pt x="18231" y="9723"/>
                </a:cubicBezTo>
                <a:cubicBezTo>
                  <a:pt x="18231" y="9781"/>
                  <a:pt x="18231" y="9839"/>
                  <a:pt x="1823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70120" y="2428920"/>
            <a:ext cx="2205000" cy="1803240"/>
          </a:xfrm>
          <a:custGeom>
            <a:avLst/>
            <a:gdLst/>
            <a:ahLst/>
            <a:rect l="l" t="t" r="r" b="b"/>
            <a:pathLst>
              <a:path w="6127" h="5011">
                <a:moveTo>
                  <a:pt x="7417" y="9798"/>
                </a:moveTo>
                <a:cubicBezTo>
                  <a:pt x="7454" y="9855"/>
                  <a:pt x="7432" y="9847"/>
                  <a:pt x="7491" y="9847"/>
                </a:cubicBezTo>
                <a:cubicBezTo>
                  <a:pt x="7491" y="9767"/>
                  <a:pt x="7507" y="9701"/>
                  <a:pt x="7516" y="9624"/>
                </a:cubicBezTo>
                <a:cubicBezTo>
                  <a:pt x="7528" y="9519"/>
                  <a:pt x="7543" y="9405"/>
                  <a:pt x="7565" y="9302"/>
                </a:cubicBezTo>
                <a:cubicBezTo>
                  <a:pt x="7585" y="9241"/>
                  <a:pt x="7583" y="9226"/>
                  <a:pt x="7615" y="9203"/>
                </a:cubicBezTo>
                <a:cubicBezTo>
                  <a:pt x="7662" y="9249"/>
                  <a:pt x="7684" y="9292"/>
                  <a:pt x="7714" y="9351"/>
                </a:cubicBezTo>
                <a:cubicBezTo>
                  <a:pt x="7743" y="9410"/>
                  <a:pt x="7764" y="9420"/>
                  <a:pt x="7813" y="9376"/>
                </a:cubicBezTo>
                <a:cubicBezTo>
                  <a:pt x="7860" y="9334"/>
                  <a:pt x="7846" y="9302"/>
                  <a:pt x="7913" y="9302"/>
                </a:cubicBezTo>
                <a:cubicBezTo>
                  <a:pt x="7955" y="9302"/>
                  <a:pt x="7983" y="9347"/>
                  <a:pt x="8012" y="9376"/>
                </a:cubicBezTo>
              </a:path>
              <a:path w="6127" h="5011">
                <a:moveTo>
                  <a:pt x="8607" y="9103"/>
                </a:moveTo>
                <a:cubicBezTo>
                  <a:pt x="8549" y="9103"/>
                  <a:pt x="8492" y="9103"/>
                  <a:pt x="8434" y="9103"/>
                </a:cubicBezTo>
              </a:path>
              <a:path w="6127" h="5011">
                <a:moveTo>
                  <a:pt x="8607" y="9203"/>
                </a:moveTo>
                <a:cubicBezTo>
                  <a:pt x="8639" y="9203"/>
                  <a:pt x="8694" y="9220"/>
                  <a:pt x="8632" y="9227"/>
                </a:cubicBezTo>
                <a:cubicBezTo>
                  <a:pt x="8624" y="9227"/>
                  <a:pt x="8615" y="9227"/>
                  <a:pt x="8607" y="9227"/>
                </a:cubicBezTo>
              </a:path>
              <a:path w="6127" h="5011">
                <a:moveTo>
                  <a:pt x="9277" y="9004"/>
                </a:moveTo>
                <a:cubicBezTo>
                  <a:pt x="9277" y="8935"/>
                  <a:pt x="9274" y="9045"/>
                  <a:pt x="9277" y="9054"/>
                </a:cubicBezTo>
                <a:cubicBezTo>
                  <a:pt x="9299" y="9113"/>
                  <a:pt x="9332" y="9159"/>
                  <a:pt x="9376" y="9203"/>
                </a:cubicBezTo>
                <a:cubicBezTo>
                  <a:pt x="9463" y="9168"/>
                  <a:pt x="9449" y="9131"/>
                  <a:pt x="9475" y="9054"/>
                </a:cubicBezTo>
                <a:cubicBezTo>
                  <a:pt x="9483" y="9037"/>
                  <a:pt x="9492" y="9021"/>
                  <a:pt x="9500" y="9004"/>
                </a:cubicBezTo>
                <a:cubicBezTo>
                  <a:pt x="9583" y="9004"/>
                  <a:pt x="9567" y="9057"/>
                  <a:pt x="9599" y="9128"/>
                </a:cubicBezTo>
                <a:cubicBezTo>
                  <a:pt x="9647" y="9235"/>
                  <a:pt x="9705" y="9352"/>
                  <a:pt x="9674" y="9475"/>
                </a:cubicBezTo>
                <a:cubicBezTo>
                  <a:pt x="9650" y="9571"/>
                  <a:pt x="9550" y="9550"/>
                  <a:pt x="9475" y="9550"/>
                </a:cubicBezTo>
                <a:cubicBezTo>
                  <a:pt x="9400" y="9550"/>
                  <a:pt x="9283" y="9542"/>
                  <a:pt x="9227" y="9500"/>
                </a:cubicBezTo>
                <a:cubicBezTo>
                  <a:pt x="9205" y="9478"/>
                  <a:pt x="9197" y="9473"/>
                  <a:pt x="9203" y="9451"/>
                </a:cubicBezTo>
              </a:path>
              <a:path w="6127" h="5011">
                <a:moveTo>
                  <a:pt x="10021" y="9103"/>
                </a:moveTo>
                <a:cubicBezTo>
                  <a:pt x="10047" y="9084"/>
                  <a:pt x="10117" y="9079"/>
                  <a:pt x="10071" y="9079"/>
                </a:cubicBezTo>
                <a:cubicBezTo>
                  <a:pt x="9973" y="9079"/>
                  <a:pt x="9890" y="9082"/>
                  <a:pt x="9798" y="9103"/>
                </a:cubicBezTo>
                <a:cubicBezTo>
                  <a:pt x="9773" y="9103"/>
                  <a:pt x="9765" y="9103"/>
                  <a:pt x="9748" y="9103"/>
                </a:cubicBezTo>
              </a:path>
              <a:path w="6127" h="5011">
                <a:moveTo>
                  <a:pt x="9823" y="9004"/>
                </a:moveTo>
                <a:cubicBezTo>
                  <a:pt x="9871" y="8983"/>
                  <a:pt x="9917" y="8955"/>
                  <a:pt x="9922" y="9029"/>
                </a:cubicBezTo>
                <a:cubicBezTo>
                  <a:pt x="9927" y="9098"/>
                  <a:pt x="9929" y="9145"/>
                  <a:pt x="9947" y="9203"/>
                </a:cubicBezTo>
                <a:cubicBezTo>
                  <a:pt x="9947" y="9211"/>
                  <a:pt x="9947" y="9219"/>
                  <a:pt x="9947" y="9227"/>
                </a:cubicBezTo>
              </a:path>
              <a:path w="6127" h="5011">
                <a:moveTo>
                  <a:pt x="10269" y="8781"/>
                </a:moveTo>
                <a:cubicBezTo>
                  <a:pt x="10269" y="8764"/>
                  <a:pt x="10269" y="8748"/>
                  <a:pt x="10269" y="8731"/>
                </a:cubicBezTo>
                <a:cubicBezTo>
                  <a:pt x="10281" y="8780"/>
                  <a:pt x="10282" y="8826"/>
                  <a:pt x="10294" y="8880"/>
                </a:cubicBezTo>
                <a:cubicBezTo>
                  <a:pt x="10310" y="8954"/>
                  <a:pt x="10319" y="9003"/>
                  <a:pt x="10319" y="9079"/>
                </a:cubicBezTo>
              </a:path>
              <a:path w="6127" h="5011">
                <a:moveTo>
                  <a:pt x="10641" y="9302"/>
                </a:moveTo>
                <a:cubicBezTo>
                  <a:pt x="10596" y="9302"/>
                  <a:pt x="10582" y="9324"/>
                  <a:pt x="10542" y="9327"/>
                </a:cubicBezTo>
                <a:cubicBezTo>
                  <a:pt x="10234" y="9349"/>
                  <a:pt x="9867" y="9254"/>
                  <a:pt x="9575" y="9351"/>
                </a:cubicBezTo>
                <a:cubicBezTo>
                  <a:pt x="9521" y="9369"/>
                  <a:pt x="9476" y="9388"/>
                  <a:pt x="9426" y="9401"/>
                </a:cubicBezTo>
              </a:path>
              <a:path w="6127" h="5011">
                <a:moveTo>
                  <a:pt x="9897" y="9624"/>
                </a:moveTo>
                <a:cubicBezTo>
                  <a:pt x="9875" y="9617"/>
                  <a:pt x="9852" y="9586"/>
                  <a:pt x="9872" y="9550"/>
                </a:cubicBezTo>
                <a:cubicBezTo>
                  <a:pt x="9893" y="9513"/>
                  <a:pt x="9960" y="9503"/>
                  <a:pt x="9996" y="9500"/>
                </a:cubicBezTo>
                <a:cubicBezTo>
                  <a:pt x="10059" y="9495"/>
                  <a:pt x="10046" y="9556"/>
                  <a:pt x="10046" y="9599"/>
                </a:cubicBezTo>
                <a:cubicBezTo>
                  <a:pt x="10046" y="9683"/>
                  <a:pt x="9979" y="9725"/>
                  <a:pt x="9922" y="9773"/>
                </a:cubicBezTo>
                <a:cubicBezTo>
                  <a:pt x="9878" y="9810"/>
                  <a:pt x="9887" y="9857"/>
                  <a:pt x="9947" y="9872"/>
                </a:cubicBezTo>
                <a:cubicBezTo>
                  <a:pt x="9996" y="9884"/>
                  <a:pt x="10077" y="9861"/>
                  <a:pt x="10120" y="9847"/>
                </a:cubicBezTo>
                <a:cubicBezTo>
                  <a:pt x="10170" y="9831"/>
                  <a:pt x="10191" y="9823"/>
                  <a:pt x="10244" y="9823"/>
                </a:cubicBezTo>
              </a:path>
              <a:path w="6127" h="5011">
                <a:moveTo>
                  <a:pt x="10666" y="6796"/>
                </a:moveTo>
                <a:cubicBezTo>
                  <a:pt x="10708" y="6791"/>
                  <a:pt x="10727" y="6778"/>
                  <a:pt x="10765" y="6772"/>
                </a:cubicBezTo>
                <a:cubicBezTo>
                  <a:pt x="10817" y="6764"/>
                  <a:pt x="10861" y="6750"/>
                  <a:pt x="10914" y="6747"/>
                </a:cubicBezTo>
                <a:cubicBezTo>
                  <a:pt x="10974" y="6744"/>
                  <a:pt x="11015" y="6744"/>
                  <a:pt x="11063" y="6772"/>
                </a:cubicBezTo>
                <a:cubicBezTo>
                  <a:pt x="11103" y="6795"/>
                  <a:pt x="11122" y="6837"/>
                  <a:pt x="11137" y="6871"/>
                </a:cubicBezTo>
                <a:cubicBezTo>
                  <a:pt x="11161" y="6926"/>
                  <a:pt x="11162" y="6983"/>
                  <a:pt x="11162" y="7045"/>
                </a:cubicBezTo>
                <a:cubicBezTo>
                  <a:pt x="11162" y="7287"/>
                  <a:pt x="11163" y="7531"/>
                  <a:pt x="11187" y="7764"/>
                </a:cubicBezTo>
                <a:cubicBezTo>
                  <a:pt x="11197" y="7863"/>
                  <a:pt x="11202" y="7968"/>
                  <a:pt x="11212" y="8062"/>
                </a:cubicBezTo>
                <a:cubicBezTo>
                  <a:pt x="11219" y="8131"/>
                  <a:pt x="11233" y="8193"/>
                  <a:pt x="11237" y="8260"/>
                </a:cubicBezTo>
                <a:cubicBezTo>
                  <a:pt x="11244" y="8378"/>
                  <a:pt x="11247" y="8502"/>
                  <a:pt x="11261" y="8607"/>
                </a:cubicBezTo>
                <a:cubicBezTo>
                  <a:pt x="11274" y="8709"/>
                  <a:pt x="11232" y="8868"/>
                  <a:pt x="11286" y="8930"/>
                </a:cubicBezTo>
                <a:cubicBezTo>
                  <a:pt x="11303" y="8949"/>
                  <a:pt x="11337" y="8996"/>
                  <a:pt x="11385" y="9004"/>
                </a:cubicBezTo>
                <a:cubicBezTo>
                  <a:pt x="11432" y="9012"/>
                  <a:pt x="11468" y="9022"/>
                  <a:pt x="11509" y="9029"/>
                </a:cubicBezTo>
                <a:cubicBezTo>
                  <a:pt x="11553" y="9036"/>
                  <a:pt x="11574" y="9032"/>
                  <a:pt x="11509" y="9054"/>
                </a:cubicBezTo>
                <a:cubicBezTo>
                  <a:pt x="11471" y="9067"/>
                  <a:pt x="11423" y="9064"/>
                  <a:pt x="11385" y="9079"/>
                </a:cubicBezTo>
                <a:cubicBezTo>
                  <a:pt x="11350" y="9093"/>
                  <a:pt x="11327" y="9115"/>
                  <a:pt x="11311" y="9128"/>
                </a:cubicBezTo>
              </a:path>
              <a:path w="6127" h="5011">
                <a:moveTo>
                  <a:pt x="11361" y="9178"/>
                </a:moveTo>
                <a:cubicBezTo>
                  <a:pt x="11361" y="9402"/>
                  <a:pt x="11372" y="9632"/>
                  <a:pt x="11336" y="9847"/>
                </a:cubicBezTo>
                <a:cubicBezTo>
                  <a:pt x="11316" y="9968"/>
                  <a:pt x="11330" y="10101"/>
                  <a:pt x="11311" y="10220"/>
                </a:cubicBezTo>
                <a:cubicBezTo>
                  <a:pt x="11277" y="10430"/>
                  <a:pt x="11314" y="10694"/>
                  <a:pt x="11336" y="10889"/>
                </a:cubicBezTo>
                <a:cubicBezTo>
                  <a:pt x="11344" y="10961"/>
                  <a:pt x="11350" y="11021"/>
                  <a:pt x="11361" y="11088"/>
                </a:cubicBezTo>
                <a:cubicBezTo>
                  <a:pt x="11381" y="11206"/>
                  <a:pt x="11373" y="11376"/>
                  <a:pt x="11336" y="11485"/>
                </a:cubicBezTo>
                <a:cubicBezTo>
                  <a:pt x="11315" y="11546"/>
                  <a:pt x="11291" y="11591"/>
                  <a:pt x="11237" y="11633"/>
                </a:cubicBezTo>
                <a:cubicBezTo>
                  <a:pt x="11174" y="11682"/>
                  <a:pt x="11154" y="11704"/>
                  <a:pt x="11088" y="11733"/>
                </a:cubicBezTo>
                <a:cubicBezTo>
                  <a:pt x="11031" y="11758"/>
                  <a:pt x="11001" y="11757"/>
                  <a:pt x="10939" y="11757"/>
                </a:cubicBezTo>
              </a:path>
              <a:path w="6127" h="5011">
                <a:moveTo>
                  <a:pt x="12105" y="8731"/>
                </a:moveTo>
                <a:cubicBezTo>
                  <a:pt x="12085" y="8758"/>
                  <a:pt x="12080" y="8826"/>
                  <a:pt x="12080" y="8781"/>
                </a:cubicBezTo>
                <a:cubicBezTo>
                  <a:pt x="12080" y="8728"/>
                  <a:pt x="12091" y="8720"/>
                  <a:pt x="12129" y="8682"/>
                </a:cubicBezTo>
                <a:cubicBezTo>
                  <a:pt x="12175" y="8636"/>
                  <a:pt x="12228" y="8672"/>
                  <a:pt x="12278" y="8706"/>
                </a:cubicBezTo>
                <a:cubicBezTo>
                  <a:pt x="12329" y="8741"/>
                  <a:pt x="12344" y="8848"/>
                  <a:pt x="12328" y="8905"/>
                </a:cubicBezTo>
                <a:cubicBezTo>
                  <a:pt x="12309" y="8972"/>
                  <a:pt x="12265" y="9000"/>
                  <a:pt x="12204" y="9004"/>
                </a:cubicBezTo>
                <a:cubicBezTo>
                  <a:pt x="12151" y="9007"/>
                  <a:pt x="12147" y="8990"/>
                  <a:pt x="12105" y="8979"/>
                </a:cubicBezTo>
              </a:path>
              <a:path w="6127" h="5011">
                <a:moveTo>
                  <a:pt x="12477" y="8657"/>
                </a:moveTo>
                <a:cubicBezTo>
                  <a:pt x="12541" y="8593"/>
                  <a:pt x="12436" y="8716"/>
                  <a:pt x="12427" y="8731"/>
                </a:cubicBezTo>
                <a:cubicBezTo>
                  <a:pt x="12373" y="8816"/>
                  <a:pt x="12335" y="8877"/>
                  <a:pt x="12328" y="8979"/>
                </a:cubicBezTo>
                <a:cubicBezTo>
                  <a:pt x="12321" y="9070"/>
                  <a:pt x="12420" y="9010"/>
                  <a:pt x="12452" y="9004"/>
                </a:cubicBezTo>
                <a:cubicBezTo>
                  <a:pt x="12469" y="9004"/>
                  <a:pt x="12485" y="9004"/>
                  <a:pt x="12502" y="9004"/>
                </a:cubicBezTo>
              </a:path>
              <a:path w="6127" h="5011">
                <a:moveTo>
                  <a:pt x="12774" y="8855"/>
                </a:moveTo>
                <a:cubicBezTo>
                  <a:pt x="12710" y="8855"/>
                  <a:pt x="12813" y="8855"/>
                  <a:pt x="12824" y="8855"/>
                </a:cubicBezTo>
                <a:cubicBezTo>
                  <a:pt x="12898" y="8855"/>
                  <a:pt x="12973" y="8855"/>
                  <a:pt x="13047" y="8855"/>
                </a:cubicBezTo>
              </a:path>
              <a:path w="6127" h="5011">
                <a:moveTo>
                  <a:pt x="13246" y="8508"/>
                </a:moveTo>
                <a:cubicBezTo>
                  <a:pt x="13268" y="8486"/>
                  <a:pt x="13273" y="8477"/>
                  <a:pt x="13295" y="8483"/>
                </a:cubicBezTo>
                <a:cubicBezTo>
                  <a:pt x="13295" y="8603"/>
                  <a:pt x="13291" y="8714"/>
                  <a:pt x="13320" y="8830"/>
                </a:cubicBezTo>
              </a:path>
              <a:path w="6127" h="5011">
                <a:moveTo>
                  <a:pt x="13543" y="9252"/>
                </a:moveTo>
                <a:cubicBezTo>
                  <a:pt x="13479" y="9252"/>
                  <a:pt x="13428" y="9235"/>
                  <a:pt x="13370" y="9227"/>
                </a:cubicBezTo>
                <a:cubicBezTo>
                  <a:pt x="13272" y="9214"/>
                  <a:pt x="13169" y="9187"/>
                  <a:pt x="13072" y="9178"/>
                </a:cubicBezTo>
                <a:cubicBezTo>
                  <a:pt x="12815" y="9154"/>
                  <a:pt x="12413" y="9125"/>
                  <a:pt x="12179" y="9203"/>
                </a:cubicBezTo>
                <a:cubicBezTo>
                  <a:pt x="12136" y="9217"/>
                  <a:pt x="12144" y="9183"/>
                  <a:pt x="12129" y="9227"/>
                </a:cubicBezTo>
              </a:path>
              <a:path w="6127" h="5011">
                <a:moveTo>
                  <a:pt x="12774" y="9451"/>
                </a:moveTo>
                <a:cubicBezTo>
                  <a:pt x="12752" y="9428"/>
                  <a:pt x="12744" y="9423"/>
                  <a:pt x="12750" y="9401"/>
                </a:cubicBezTo>
                <a:cubicBezTo>
                  <a:pt x="12808" y="9401"/>
                  <a:pt x="12865" y="9401"/>
                  <a:pt x="12923" y="9401"/>
                </a:cubicBezTo>
                <a:cubicBezTo>
                  <a:pt x="12923" y="9440"/>
                  <a:pt x="12934" y="9475"/>
                  <a:pt x="12898" y="9500"/>
                </a:cubicBezTo>
                <a:cubicBezTo>
                  <a:pt x="12857" y="9529"/>
                  <a:pt x="12798" y="9522"/>
                  <a:pt x="12774" y="9575"/>
                </a:cubicBezTo>
                <a:cubicBezTo>
                  <a:pt x="12774" y="9583"/>
                  <a:pt x="12774" y="9591"/>
                  <a:pt x="12774" y="9599"/>
                </a:cubicBezTo>
                <a:cubicBezTo>
                  <a:pt x="12831" y="9645"/>
                  <a:pt x="12895" y="9671"/>
                  <a:pt x="12948" y="9723"/>
                </a:cubicBezTo>
                <a:cubicBezTo>
                  <a:pt x="12978" y="9753"/>
                  <a:pt x="12973" y="9758"/>
                  <a:pt x="12973" y="9798"/>
                </a:cubicBezTo>
                <a:cubicBezTo>
                  <a:pt x="12908" y="9798"/>
                  <a:pt x="12852" y="9784"/>
                  <a:pt x="12799" y="9773"/>
                </a:cubicBezTo>
                <a:cubicBezTo>
                  <a:pt x="12783" y="9773"/>
                  <a:pt x="12766" y="9773"/>
                  <a:pt x="12750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26040" y="3340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4362" y="9277"/>
                </a:moveTo>
                <a:cubicBezTo>
                  <a:pt x="14370" y="9277"/>
                  <a:pt x="14379" y="9277"/>
                  <a:pt x="14387" y="9277"/>
                </a:cubicBezTo>
                <a:cubicBezTo>
                  <a:pt x="14337" y="9277"/>
                  <a:pt x="14328" y="9288"/>
                  <a:pt x="14288" y="9302"/>
                </a:cubicBezTo>
                <a:cubicBezTo>
                  <a:pt x="14263" y="9302"/>
                  <a:pt x="14255" y="9302"/>
                  <a:pt x="14238" y="9302"/>
                </a:cubicBezTo>
              </a:path>
              <a:path w="150" h="150">
                <a:moveTo>
                  <a:pt x="14362" y="9376"/>
                </a:moveTo>
                <a:cubicBezTo>
                  <a:pt x="14352" y="9417"/>
                  <a:pt x="14353" y="9416"/>
                  <a:pt x="14312" y="94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38880" y="3098880"/>
            <a:ext cx="1347840" cy="46512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15131" y="8855"/>
                </a:moveTo>
                <a:cubicBezTo>
                  <a:pt x="15144" y="8817"/>
                  <a:pt x="15156" y="8835"/>
                  <a:pt x="15156" y="8781"/>
                </a:cubicBezTo>
                <a:cubicBezTo>
                  <a:pt x="15120" y="8793"/>
                  <a:pt x="15118" y="8857"/>
                  <a:pt x="15131" y="8905"/>
                </a:cubicBezTo>
                <a:cubicBezTo>
                  <a:pt x="15144" y="8952"/>
                  <a:pt x="15181" y="9085"/>
                  <a:pt x="15255" y="9079"/>
                </a:cubicBezTo>
                <a:cubicBezTo>
                  <a:pt x="15307" y="9075"/>
                  <a:pt x="15337" y="8988"/>
                  <a:pt x="15379" y="8979"/>
                </a:cubicBezTo>
                <a:cubicBezTo>
                  <a:pt x="15387" y="8979"/>
                  <a:pt x="15396" y="8979"/>
                  <a:pt x="15404" y="8979"/>
                </a:cubicBezTo>
                <a:cubicBezTo>
                  <a:pt x="15459" y="9062"/>
                  <a:pt x="15475" y="9151"/>
                  <a:pt x="15478" y="9252"/>
                </a:cubicBezTo>
                <a:cubicBezTo>
                  <a:pt x="15480" y="9326"/>
                  <a:pt x="15474" y="9454"/>
                  <a:pt x="15379" y="9475"/>
                </a:cubicBezTo>
                <a:cubicBezTo>
                  <a:pt x="15303" y="9492"/>
                  <a:pt x="15219" y="9470"/>
                  <a:pt x="15156" y="9426"/>
                </a:cubicBezTo>
                <a:cubicBezTo>
                  <a:pt x="15126" y="9396"/>
                  <a:pt x="15115" y="9382"/>
                  <a:pt x="15106" y="9351"/>
                </a:cubicBezTo>
              </a:path>
              <a:path w="3747" h="1291">
                <a:moveTo>
                  <a:pt x="15900" y="8979"/>
                </a:moveTo>
                <a:cubicBezTo>
                  <a:pt x="15908" y="8979"/>
                  <a:pt x="15917" y="8979"/>
                  <a:pt x="15925" y="8979"/>
                </a:cubicBezTo>
                <a:cubicBezTo>
                  <a:pt x="15846" y="8979"/>
                  <a:pt x="15738" y="9001"/>
                  <a:pt x="15677" y="8954"/>
                </a:cubicBezTo>
              </a:path>
              <a:path w="3747" h="1291">
                <a:moveTo>
                  <a:pt x="15751" y="8855"/>
                </a:moveTo>
                <a:cubicBezTo>
                  <a:pt x="15764" y="8908"/>
                  <a:pt x="15776" y="8940"/>
                  <a:pt x="15776" y="9004"/>
                </a:cubicBezTo>
                <a:cubicBezTo>
                  <a:pt x="15776" y="9046"/>
                  <a:pt x="15776" y="9054"/>
                  <a:pt x="15776" y="9079"/>
                </a:cubicBezTo>
              </a:path>
              <a:path w="3747" h="1291">
                <a:moveTo>
                  <a:pt x="16197" y="8607"/>
                </a:moveTo>
                <a:cubicBezTo>
                  <a:pt x="16241" y="8622"/>
                  <a:pt x="16222" y="8678"/>
                  <a:pt x="16222" y="8731"/>
                </a:cubicBezTo>
                <a:cubicBezTo>
                  <a:pt x="16222" y="8820"/>
                  <a:pt x="16202" y="8893"/>
                  <a:pt x="16197" y="8979"/>
                </a:cubicBezTo>
                <a:cubicBezTo>
                  <a:pt x="16197" y="8996"/>
                  <a:pt x="16197" y="9012"/>
                  <a:pt x="16197" y="9029"/>
                </a:cubicBezTo>
              </a:path>
              <a:path w="3747" h="1291">
                <a:moveTo>
                  <a:pt x="16321" y="9327"/>
                </a:moveTo>
                <a:cubicBezTo>
                  <a:pt x="16282" y="9337"/>
                  <a:pt x="16266" y="9351"/>
                  <a:pt x="16222" y="9351"/>
                </a:cubicBezTo>
                <a:cubicBezTo>
                  <a:pt x="16062" y="9351"/>
                  <a:pt x="15904" y="9346"/>
                  <a:pt x="15751" y="9327"/>
                </a:cubicBezTo>
                <a:cubicBezTo>
                  <a:pt x="15640" y="9313"/>
                  <a:pt x="15535" y="9336"/>
                  <a:pt x="15429" y="9351"/>
                </a:cubicBezTo>
                <a:cubicBezTo>
                  <a:pt x="15379" y="9358"/>
                  <a:pt x="15347" y="9371"/>
                  <a:pt x="15304" y="9376"/>
                </a:cubicBezTo>
                <a:cubicBezTo>
                  <a:pt x="15296" y="9376"/>
                  <a:pt x="15288" y="9376"/>
                  <a:pt x="15280" y="9376"/>
                </a:cubicBezTo>
              </a:path>
              <a:path w="3747" h="1291">
                <a:moveTo>
                  <a:pt x="15553" y="9599"/>
                </a:moveTo>
                <a:cubicBezTo>
                  <a:pt x="15528" y="9599"/>
                  <a:pt x="15520" y="9599"/>
                  <a:pt x="15528" y="9575"/>
                </a:cubicBezTo>
                <a:cubicBezTo>
                  <a:pt x="15533" y="9561"/>
                  <a:pt x="15574" y="9508"/>
                  <a:pt x="15602" y="9500"/>
                </a:cubicBezTo>
                <a:cubicBezTo>
                  <a:pt x="15651" y="9486"/>
                  <a:pt x="15691" y="9504"/>
                  <a:pt x="15701" y="9550"/>
                </a:cubicBezTo>
                <a:cubicBezTo>
                  <a:pt x="15710" y="9593"/>
                  <a:pt x="15677" y="9668"/>
                  <a:pt x="15652" y="9699"/>
                </a:cubicBezTo>
                <a:cubicBezTo>
                  <a:pt x="15615" y="9744"/>
                  <a:pt x="15620" y="9749"/>
                  <a:pt x="15652" y="9773"/>
                </a:cubicBezTo>
                <a:cubicBezTo>
                  <a:pt x="15691" y="9802"/>
                  <a:pt x="15748" y="9813"/>
                  <a:pt x="15801" y="9798"/>
                </a:cubicBezTo>
                <a:cubicBezTo>
                  <a:pt x="15842" y="9787"/>
                  <a:pt x="15869" y="9771"/>
                  <a:pt x="15900" y="9748"/>
                </a:cubicBezTo>
              </a:path>
              <a:path w="3747" h="1291">
                <a:moveTo>
                  <a:pt x="16917" y="9376"/>
                </a:moveTo>
                <a:cubicBezTo>
                  <a:pt x="16942" y="9376"/>
                  <a:pt x="16950" y="9376"/>
                  <a:pt x="16966" y="9376"/>
                </a:cubicBezTo>
                <a:cubicBezTo>
                  <a:pt x="16930" y="9376"/>
                  <a:pt x="16893" y="9383"/>
                  <a:pt x="16867" y="9401"/>
                </a:cubicBezTo>
                <a:cubicBezTo>
                  <a:pt x="16845" y="9423"/>
                  <a:pt x="16840" y="9432"/>
                  <a:pt x="16818" y="9426"/>
                </a:cubicBezTo>
              </a:path>
              <a:path w="3747" h="1291">
                <a:moveTo>
                  <a:pt x="16892" y="9475"/>
                </a:moveTo>
                <a:cubicBezTo>
                  <a:pt x="16949" y="9489"/>
                  <a:pt x="16951" y="9505"/>
                  <a:pt x="16917" y="9550"/>
                </a:cubicBezTo>
              </a:path>
              <a:path w="3747" h="1291">
                <a:moveTo>
                  <a:pt x="17587" y="8880"/>
                </a:moveTo>
                <a:cubicBezTo>
                  <a:pt x="17632" y="8868"/>
                  <a:pt x="17657" y="8855"/>
                  <a:pt x="17711" y="8855"/>
                </a:cubicBezTo>
                <a:cubicBezTo>
                  <a:pt x="17757" y="8855"/>
                  <a:pt x="17779" y="8854"/>
                  <a:pt x="17785" y="8905"/>
                </a:cubicBezTo>
                <a:cubicBezTo>
                  <a:pt x="17793" y="8978"/>
                  <a:pt x="17768" y="8977"/>
                  <a:pt x="17735" y="9029"/>
                </a:cubicBezTo>
                <a:cubicBezTo>
                  <a:pt x="17712" y="9066"/>
                  <a:pt x="17653" y="9115"/>
                  <a:pt x="17636" y="9153"/>
                </a:cubicBezTo>
                <a:cubicBezTo>
                  <a:pt x="17636" y="9161"/>
                  <a:pt x="17636" y="9170"/>
                  <a:pt x="17636" y="9178"/>
                </a:cubicBezTo>
                <a:cubicBezTo>
                  <a:pt x="17732" y="9178"/>
                  <a:pt x="17884" y="9147"/>
                  <a:pt x="17959" y="9203"/>
                </a:cubicBezTo>
              </a:path>
              <a:path w="3747" h="1291">
                <a:moveTo>
                  <a:pt x="18058" y="9054"/>
                </a:moveTo>
                <a:cubicBezTo>
                  <a:pt x="18050" y="9054"/>
                  <a:pt x="18041" y="9054"/>
                  <a:pt x="18033" y="9054"/>
                </a:cubicBezTo>
                <a:cubicBezTo>
                  <a:pt x="18102" y="9054"/>
                  <a:pt x="18142" y="9045"/>
                  <a:pt x="18207" y="9029"/>
                </a:cubicBezTo>
                <a:cubicBezTo>
                  <a:pt x="18215" y="9029"/>
                  <a:pt x="18223" y="9029"/>
                  <a:pt x="18231" y="9029"/>
                </a:cubicBezTo>
              </a:path>
              <a:path w="3747" h="1291">
                <a:moveTo>
                  <a:pt x="18504" y="8781"/>
                </a:moveTo>
                <a:cubicBezTo>
                  <a:pt x="18529" y="8756"/>
                  <a:pt x="18537" y="8748"/>
                  <a:pt x="18554" y="8731"/>
                </a:cubicBezTo>
                <a:cubicBezTo>
                  <a:pt x="18513" y="8812"/>
                  <a:pt x="18483" y="8863"/>
                  <a:pt x="18479" y="8954"/>
                </a:cubicBezTo>
                <a:cubicBezTo>
                  <a:pt x="18476" y="9010"/>
                  <a:pt x="18470" y="9060"/>
                  <a:pt x="18504" y="9103"/>
                </a:cubicBezTo>
                <a:cubicBezTo>
                  <a:pt x="18538" y="9145"/>
                  <a:pt x="18603" y="9128"/>
                  <a:pt x="18653" y="9128"/>
                </a:cubicBezTo>
                <a:cubicBezTo>
                  <a:pt x="18707" y="9128"/>
                  <a:pt x="18732" y="9108"/>
                  <a:pt x="18777" y="9103"/>
                </a:cubicBezTo>
                <a:cubicBezTo>
                  <a:pt x="18818" y="9098"/>
                  <a:pt x="18802" y="9064"/>
                  <a:pt x="18802" y="9128"/>
                </a:cubicBezTo>
              </a:path>
              <a:path w="3747" h="1291">
                <a:moveTo>
                  <a:pt x="18678" y="9029"/>
                </a:moveTo>
                <a:cubicBezTo>
                  <a:pt x="18670" y="9021"/>
                  <a:pt x="18661" y="9012"/>
                  <a:pt x="18653" y="9004"/>
                </a:cubicBezTo>
                <a:cubicBezTo>
                  <a:pt x="18653" y="9087"/>
                  <a:pt x="18653" y="9169"/>
                  <a:pt x="18653" y="9252"/>
                </a:cubicBezTo>
              </a:path>
              <a:path w="3747" h="1291">
                <a:moveTo>
                  <a:pt x="18852" y="9500"/>
                </a:moveTo>
                <a:cubicBezTo>
                  <a:pt x="18748" y="9500"/>
                  <a:pt x="18656" y="9498"/>
                  <a:pt x="18554" y="9475"/>
                </a:cubicBezTo>
                <a:cubicBezTo>
                  <a:pt x="18419" y="9445"/>
                  <a:pt x="18270" y="9418"/>
                  <a:pt x="18132" y="9401"/>
                </a:cubicBezTo>
                <a:cubicBezTo>
                  <a:pt x="18028" y="9388"/>
                  <a:pt x="17930" y="9404"/>
                  <a:pt x="17835" y="9426"/>
                </a:cubicBezTo>
                <a:cubicBezTo>
                  <a:pt x="17806" y="9433"/>
                  <a:pt x="17765" y="9426"/>
                  <a:pt x="17735" y="9426"/>
                </a:cubicBezTo>
              </a:path>
              <a:path w="3747" h="1291">
                <a:moveTo>
                  <a:pt x="18231" y="9649"/>
                </a:moveTo>
                <a:cubicBezTo>
                  <a:pt x="18231" y="9608"/>
                  <a:pt x="18231" y="9682"/>
                  <a:pt x="18231" y="9723"/>
                </a:cubicBezTo>
                <a:cubicBezTo>
                  <a:pt x="18231" y="9781"/>
                  <a:pt x="18231" y="9839"/>
                  <a:pt x="1823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52880" y="4616280"/>
            <a:ext cx="696960" cy="223920"/>
          </a:xfrm>
          <a:custGeom>
            <a:avLst/>
            <a:gdLst/>
            <a:ahLst/>
            <a:rect l="l" t="t" r="r" b="b"/>
            <a:pathLst>
              <a:path w="1936" h="621">
                <a:moveTo>
                  <a:pt x="8905" y="12948"/>
                </a:moveTo>
                <a:cubicBezTo>
                  <a:pt x="8938" y="12923"/>
                  <a:pt x="8965" y="12915"/>
                  <a:pt x="8979" y="12874"/>
                </a:cubicBezTo>
                <a:cubicBezTo>
                  <a:pt x="8979" y="12846"/>
                  <a:pt x="8977" y="12835"/>
                  <a:pt x="8954" y="12824"/>
                </a:cubicBezTo>
                <a:cubicBezTo>
                  <a:pt x="8898" y="12847"/>
                  <a:pt x="8833" y="12888"/>
                  <a:pt x="8806" y="12948"/>
                </a:cubicBezTo>
                <a:cubicBezTo>
                  <a:pt x="8760" y="13049"/>
                  <a:pt x="8727" y="13190"/>
                  <a:pt x="8781" y="13295"/>
                </a:cubicBezTo>
                <a:cubicBezTo>
                  <a:pt x="8819" y="13334"/>
                  <a:pt x="8821" y="13351"/>
                  <a:pt x="8855" y="13345"/>
                </a:cubicBezTo>
                <a:cubicBezTo>
                  <a:pt x="8897" y="13324"/>
                  <a:pt x="8916" y="13268"/>
                  <a:pt x="8930" y="13221"/>
                </a:cubicBezTo>
                <a:cubicBezTo>
                  <a:pt x="8930" y="13196"/>
                  <a:pt x="8930" y="13188"/>
                  <a:pt x="8954" y="13196"/>
                </a:cubicBezTo>
                <a:cubicBezTo>
                  <a:pt x="8979" y="13221"/>
                  <a:pt x="9004" y="13246"/>
                  <a:pt x="9029" y="13271"/>
                </a:cubicBezTo>
              </a:path>
              <a:path w="1936" h="621">
                <a:moveTo>
                  <a:pt x="9079" y="13221"/>
                </a:moveTo>
                <a:cubicBezTo>
                  <a:pt x="9131" y="13266"/>
                  <a:pt x="9147" y="13296"/>
                  <a:pt x="9203" y="13246"/>
                </a:cubicBezTo>
                <a:cubicBezTo>
                  <a:pt x="9231" y="13221"/>
                  <a:pt x="9237" y="13181"/>
                  <a:pt x="9252" y="13146"/>
                </a:cubicBezTo>
                <a:cubicBezTo>
                  <a:pt x="9213" y="13137"/>
                  <a:pt x="9187" y="13098"/>
                  <a:pt x="9153" y="13146"/>
                </a:cubicBezTo>
                <a:cubicBezTo>
                  <a:pt x="9105" y="13214"/>
                  <a:pt x="9135" y="13282"/>
                  <a:pt x="9178" y="13345"/>
                </a:cubicBezTo>
                <a:cubicBezTo>
                  <a:pt x="9205" y="13383"/>
                  <a:pt x="9282" y="13418"/>
                  <a:pt x="9327" y="13395"/>
                </a:cubicBezTo>
                <a:cubicBezTo>
                  <a:pt x="9335" y="13387"/>
                  <a:pt x="9343" y="13378"/>
                  <a:pt x="9351" y="13370"/>
                </a:cubicBezTo>
              </a:path>
              <a:path w="1936" h="621">
                <a:moveTo>
                  <a:pt x="9401" y="13246"/>
                </a:moveTo>
                <a:cubicBezTo>
                  <a:pt x="9401" y="13276"/>
                  <a:pt x="9401" y="13442"/>
                  <a:pt x="9401" y="13395"/>
                </a:cubicBezTo>
                <a:cubicBezTo>
                  <a:pt x="9401" y="13327"/>
                  <a:pt x="9430" y="13272"/>
                  <a:pt x="9475" y="13221"/>
                </a:cubicBezTo>
                <a:cubicBezTo>
                  <a:pt x="9520" y="13170"/>
                  <a:pt x="9569" y="13220"/>
                  <a:pt x="9599" y="13271"/>
                </a:cubicBezTo>
                <a:cubicBezTo>
                  <a:pt x="9613" y="13295"/>
                  <a:pt x="9618" y="13341"/>
                  <a:pt x="9624" y="13370"/>
                </a:cubicBezTo>
              </a:path>
              <a:path w="1936" h="621">
                <a:moveTo>
                  <a:pt x="9575" y="13320"/>
                </a:moveTo>
                <a:cubicBezTo>
                  <a:pt x="9614" y="13320"/>
                  <a:pt x="9730" y="13341"/>
                  <a:pt x="9748" y="13295"/>
                </a:cubicBezTo>
                <a:cubicBezTo>
                  <a:pt x="9748" y="13246"/>
                  <a:pt x="9748" y="13229"/>
                  <a:pt x="9748" y="13196"/>
                </a:cubicBezTo>
                <a:cubicBezTo>
                  <a:pt x="9696" y="13196"/>
                  <a:pt x="9666" y="13179"/>
                  <a:pt x="9649" y="13246"/>
                </a:cubicBezTo>
                <a:cubicBezTo>
                  <a:pt x="9634" y="13304"/>
                  <a:pt x="9648" y="13383"/>
                  <a:pt x="9699" y="13419"/>
                </a:cubicBezTo>
                <a:cubicBezTo>
                  <a:pt x="9756" y="13460"/>
                  <a:pt x="9795" y="13446"/>
                  <a:pt x="9847" y="13419"/>
                </a:cubicBezTo>
                <a:cubicBezTo>
                  <a:pt x="9864" y="13411"/>
                  <a:pt x="9880" y="13403"/>
                  <a:pt x="9897" y="13395"/>
                </a:cubicBezTo>
              </a:path>
              <a:path w="1936" h="621">
                <a:moveTo>
                  <a:pt x="9971" y="13370"/>
                </a:moveTo>
                <a:cubicBezTo>
                  <a:pt x="9971" y="13378"/>
                  <a:pt x="9971" y="13387"/>
                  <a:pt x="9971" y="13395"/>
                </a:cubicBezTo>
                <a:cubicBezTo>
                  <a:pt x="9971" y="13328"/>
                  <a:pt x="9951" y="13246"/>
                  <a:pt x="9996" y="13196"/>
                </a:cubicBezTo>
                <a:cubicBezTo>
                  <a:pt x="10037" y="13150"/>
                  <a:pt x="10050" y="13185"/>
                  <a:pt x="10096" y="13196"/>
                </a:cubicBezTo>
              </a:path>
              <a:path w="1936" h="621">
                <a:moveTo>
                  <a:pt x="10195" y="13246"/>
                </a:moveTo>
                <a:cubicBezTo>
                  <a:pt x="10179" y="13180"/>
                  <a:pt x="10166" y="13198"/>
                  <a:pt x="10145" y="13246"/>
                </a:cubicBezTo>
                <a:cubicBezTo>
                  <a:pt x="10117" y="13310"/>
                  <a:pt x="10111" y="13314"/>
                  <a:pt x="10145" y="13370"/>
                </a:cubicBezTo>
                <a:cubicBezTo>
                  <a:pt x="10202" y="13370"/>
                  <a:pt x="10216" y="13357"/>
                  <a:pt x="10220" y="13295"/>
                </a:cubicBezTo>
                <a:cubicBezTo>
                  <a:pt x="10220" y="13251"/>
                  <a:pt x="10217" y="13238"/>
                  <a:pt x="10244" y="13221"/>
                </a:cubicBezTo>
                <a:cubicBezTo>
                  <a:pt x="10262" y="13252"/>
                  <a:pt x="10305" y="13354"/>
                  <a:pt x="10344" y="13345"/>
                </a:cubicBezTo>
                <a:cubicBezTo>
                  <a:pt x="10450" y="13322"/>
                  <a:pt x="10466" y="13238"/>
                  <a:pt x="10492" y="13146"/>
                </a:cubicBezTo>
                <a:cubicBezTo>
                  <a:pt x="10520" y="13046"/>
                  <a:pt x="10531" y="12943"/>
                  <a:pt x="10567" y="12849"/>
                </a:cubicBezTo>
                <a:cubicBezTo>
                  <a:pt x="10579" y="12957"/>
                  <a:pt x="10614" y="13064"/>
                  <a:pt x="10641" y="13171"/>
                </a:cubicBezTo>
                <a:cubicBezTo>
                  <a:pt x="10662" y="13255"/>
                  <a:pt x="10663" y="13275"/>
                  <a:pt x="10691" y="133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00680" y="4572000"/>
            <a:ext cx="420480" cy="23184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11286" y="12898"/>
                </a:moveTo>
                <a:cubicBezTo>
                  <a:pt x="11322" y="12872"/>
                  <a:pt x="11355" y="12874"/>
                  <a:pt x="11361" y="12824"/>
                </a:cubicBezTo>
                <a:cubicBezTo>
                  <a:pt x="11366" y="12783"/>
                  <a:pt x="11363" y="12715"/>
                  <a:pt x="11311" y="12700"/>
                </a:cubicBezTo>
                <a:cubicBezTo>
                  <a:pt x="11227" y="12676"/>
                  <a:pt x="11218" y="12738"/>
                  <a:pt x="11187" y="12799"/>
                </a:cubicBezTo>
                <a:cubicBezTo>
                  <a:pt x="11142" y="12888"/>
                  <a:pt x="11162" y="12998"/>
                  <a:pt x="11162" y="13097"/>
                </a:cubicBezTo>
                <a:cubicBezTo>
                  <a:pt x="11162" y="13168"/>
                  <a:pt x="11187" y="13225"/>
                  <a:pt x="11187" y="13295"/>
                </a:cubicBezTo>
              </a:path>
              <a:path w="1167" h="646">
                <a:moveTo>
                  <a:pt x="11286" y="13097"/>
                </a:moveTo>
                <a:cubicBezTo>
                  <a:pt x="11286" y="13080"/>
                  <a:pt x="11286" y="13064"/>
                  <a:pt x="11286" y="13047"/>
                </a:cubicBezTo>
                <a:cubicBezTo>
                  <a:pt x="11230" y="13047"/>
                  <a:pt x="11206" y="13085"/>
                  <a:pt x="11162" y="13097"/>
                </a:cubicBezTo>
                <a:cubicBezTo>
                  <a:pt x="11145" y="13097"/>
                  <a:pt x="11129" y="13097"/>
                  <a:pt x="11112" y="13097"/>
                </a:cubicBezTo>
              </a:path>
              <a:path w="1167" h="646">
                <a:moveTo>
                  <a:pt x="11336" y="13097"/>
                </a:moveTo>
                <a:cubicBezTo>
                  <a:pt x="11380" y="13097"/>
                  <a:pt x="11375" y="13099"/>
                  <a:pt x="11410" y="13072"/>
                </a:cubicBezTo>
                <a:cubicBezTo>
                  <a:pt x="11454" y="13105"/>
                  <a:pt x="11488" y="13106"/>
                  <a:pt x="11509" y="13171"/>
                </a:cubicBezTo>
                <a:cubicBezTo>
                  <a:pt x="11526" y="13222"/>
                  <a:pt x="11512" y="13265"/>
                  <a:pt x="11460" y="13271"/>
                </a:cubicBezTo>
                <a:cubicBezTo>
                  <a:pt x="11434" y="13274"/>
                  <a:pt x="11371" y="13262"/>
                  <a:pt x="11361" y="13246"/>
                </a:cubicBezTo>
                <a:cubicBezTo>
                  <a:pt x="11361" y="13221"/>
                  <a:pt x="11361" y="13213"/>
                  <a:pt x="11361" y="13196"/>
                </a:cubicBezTo>
              </a:path>
              <a:path w="1167" h="646">
                <a:moveTo>
                  <a:pt x="11559" y="13196"/>
                </a:moveTo>
                <a:cubicBezTo>
                  <a:pt x="11579" y="13257"/>
                  <a:pt x="11577" y="13272"/>
                  <a:pt x="11609" y="13295"/>
                </a:cubicBezTo>
                <a:cubicBezTo>
                  <a:pt x="11609" y="13244"/>
                  <a:pt x="11593" y="13162"/>
                  <a:pt x="11633" y="13122"/>
                </a:cubicBezTo>
                <a:cubicBezTo>
                  <a:pt x="11643" y="13112"/>
                  <a:pt x="11691" y="13101"/>
                  <a:pt x="11708" y="13097"/>
                </a:cubicBezTo>
              </a:path>
              <a:path w="1167" h="646">
                <a:moveTo>
                  <a:pt x="11832" y="13146"/>
                </a:moveTo>
                <a:cubicBezTo>
                  <a:pt x="11832" y="13212"/>
                  <a:pt x="11832" y="13279"/>
                  <a:pt x="11832" y="13345"/>
                </a:cubicBezTo>
                <a:cubicBezTo>
                  <a:pt x="11867" y="13299"/>
                  <a:pt x="11874" y="13256"/>
                  <a:pt x="11881" y="13196"/>
                </a:cubicBezTo>
                <a:cubicBezTo>
                  <a:pt x="11953" y="13196"/>
                  <a:pt x="11935" y="13189"/>
                  <a:pt x="11981" y="13246"/>
                </a:cubicBezTo>
                <a:cubicBezTo>
                  <a:pt x="11989" y="13254"/>
                  <a:pt x="11997" y="13263"/>
                  <a:pt x="12005" y="13271"/>
                </a:cubicBezTo>
                <a:cubicBezTo>
                  <a:pt x="12052" y="13259"/>
                  <a:pt x="12105" y="13191"/>
                  <a:pt x="12129" y="13146"/>
                </a:cubicBezTo>
                <a:cubicBezTo>
                  <a:pt x="12148" y="13111"/>
                  <a:pt x="12159" y="13106"/>
                  <a:pt x="12204" y="13097"/>
                </a:cubicBezTo>
                <a:cubicBezTo>
                  <a:pt x="12239" y="13159"/>
                  <a:pt x="12264" y="13205"/>
                  <a:pt x="12278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83040" y="5072040"/>
            <a:ext cx="615960" cy="411120"/>
          </a:xfrm>
          <a:custGeom>
            <a:avLst/>
            <a:gdLst/>
            <a:ahLst/>
            <a:rect l="l" t="t" r="r" b="b"/>
            <a:pathLst>
              <a:path w="1712" h="1142">
                <a:moveTo>
                  <a:pt x="11112" y="14163"/>
                </a:moveTo>
                <a:cubicBezTo>
                  <a:pt x="11104" y="14171"/>
                  <a:pt x="11096" y="14180"/>
                  <a:pt x="11088" y="14188"/>
                </a:cubicBezTo>
                <a:cubicBezTo>
                  <a:pt x="11088" y="14153"/>
                  <a:pt x="11093" y="14102"/>
                  <a:pt x="11137" y="14089"/>
                </a:cubicBezTo>
                <a:cubicBezTo>
                  <a:pt x="11218" y="14066"/>
                  <a:pt x="11293" y="14173"/>
                  <a:pt x="11311" y="14238"/>
                </a:cubicBezTo>
                <a:cubicBezTo>
                  <a:pt x="11324" y="14286"/>
                  <a:pt x="11314" y="14431"/>
                  <a:pt x="11261" y="14461"/>
                </a:cubicBezTo>
                <a:cubicBezTo>
                  <a:pt x="11203" y="14494"/>
                  <a:pt x="11111" y="14436"/>
                  <a:pt x="11063" y="14412"/>
                </a:cubicBezTo>
              </a:path>
              <a:path w="1712" h="1142">
                <a:moveTo>
                  <a:pt x="11361" y="14139"/>
                </a:moveTo>
                <a:cubicBezTo>
                  <a:pt x="11402" y="14139"/>
                  <a:pt x="11410" y="14139"/>
                  <a:pt x="11435" y="14139"/>
                </a:cubicBezTo>
                <a:cubicBezTo>
                  <a:pt x="11399" y="14174"/>
                  <a:pt x="11348" y="14211"/>
                  <a:pt x="11336" y="14263"/>
                </a:cubicBezTo>
                <a:cubicBezTo>
                  <a:pt x="11323" y="14318"/>
                  <a:pt x="11322" y="14409"/>
                  <a:pt x="11385" y="14436"/>
                </a:cubicBezTo>
                <a:cubicBezTo>
                  <a:pt x="11418" y="14436"/>
                  <a:pt x="11435" y="14436"/>
                  <a:pt x="11460" y="14436"/>
                </a:cubicBezTo>
              </a:path>
              <a:path w="1712" h="1142">
                <a:moveTo>
                  <a:pt x="11708" y="14263"/>
                </a:moveTo>
                <a:cubicBezTo>
                  <a:pt x="11700" y="14271"/>
                  <a:pt x="11691" y="14280"/>
                  <a:pt x="11683" y="14288"/>
                </a:cubicBezTo>
                <a:cubicBezTo>
                  <a:pt x="11741" y="14330"/>
                  <a:pt x="11727" y="14299"/>
                  <a:pt x="11782" y="14288"/>
                </a:cubicBezTo>
                <a:cubicBezTo>
                  <a:pt x="11844" y="14275"/>
                  <a:pt x="11837" y="14284"/>
                  <a:pt x="11881" y="14238"/>
                </a:cubicBezTo>
              </a:path>
              <a:path w="1712" h="1142">
                <a:moveTo>
                  <a:pt x="12055" y="14213"/>
                </a:moveTo>
                <a:cubicBezTo>
                  <a:pt x="12062" y="14187"/>
                  <a:pt x="12076" y="14129"/>
                  <a:pt x="12105" y="14114"/>
                </a:cubicBezTo>
                <a:cubicBezTo>
                  <a:pt x="12156" y="14088"/>
                  <a:pt x="12216" y="14144"/>
                  <a:pt x="12229" y="14188"/>
                </a:cubicBezTo>
                <a:cubicBezTo>
                  <a:pt x="12243" y="14237"/>
                  <a:pt x="12235" y="14302"/>
                  <a:pt x="12204" y="14337"/>
                </a:cubicBezTo>
                <a:cubicBezTo>
                  <a:pt x="12159" y="14388"/>
                  <a:pt x="12134" y="14351"/>
                  <a:pt x="12080" y="14337"/>
                </a:cubicBezTo>
                <a:cubicBezTo>
                  <a:pt x="12072" y="14337"/>
                  <a:pt x="12063" y="14337"/>
                  <a:pt x="12055" y="14337"/>
                </a:cubicBezTo>
              </a:path>
              <a:path w="1712" h="1142">
                <a:moveTo>
                  <a:pt x="12278" y="14139"/>
                </a:moveTo>
                <a:cubicBezTo>
                  <a:pt x="12295" y="14122"/>
                  <a:pt x="12311" y="14106"/>
                  <a:pt x="12328" y="14089"/>
                </a:cubicBezTo>
                <a:cubicBezTo>
                  <a:pt x="12274" y="14143"/>
                  <a:pt x="12258" y="14184"/>
                  <a:pt x="12254" y="14263"/>
                </a:cubicBezTo>
                <a:cubicBezTo>
                  <a:pt x="12252" y="14308"/>
                  <a:pt x="12274" y="14397"/>
                  <a:pt x="12328" y="14412"/>
                </a:cubicBezTo>
                <a:cubicBezTo>
                  <a:pt x="12369" y="14412"/>
                  <a:pt x="12377" y="14412"/>
                  <a:pt x="12402" y="14412"/>
                </a:cubicBezTo>
              </a:path>
              <a:path w="1712" h="1142">
                <a:moveTo>
                  <a:pt x="12551" y="14362"/>
                </a:moveTo>
                <a:cubicBezTo>
                  <a:pt x="12561" y="14320"/>
                  <a:pt x="12579" y="14293"/>
                  <a:pt x="12626" y="14288"/>
                </a:cubicBezTo>
                <a:cubicBezTo>
                  <a:pt x="12679" y="14282"/>
                  <a:pt x="12696" y="14345"/>
                  <a:pt x="12700" y="14387"/>
                </a:cubicBezTo>
                <a:cubicBezTo>
                  <a:pt x="12708" y="14463"/>
                  <a:pt x="12609" y="14445"/>
                  <a:pt x="12576" y="14436"/>
                </a:cubicBezTo>
              </a:path>
              <a:path w="1712" h="1142">
                <a:moveTo>
                  <a:pt x="12774" y="14560"/>
                </a:moveTo>
                <a:cubicBezTo>
                  <a:pt x="12743" y="14576"/>
                  <a:pt x="12744" y="14585"/>
                  <a:pt x="12675" y="14585"/>
                </a:cubicBezTo>
                <a:cubicBezTo>
                  <a:pt x="12570" y="14585"/>
                  <a:pt x="12479" y="14600"/>
                  <a:pt x="12378" y="14610"/>
                </a:cubicBezTo>
                <a:cubicBezTo>
                  <a:pt x="12308" y="14617"/>
                  <a:pt x="12247" y="14631"/>
                  <a:pt x="12179" y="14635"/>
                </a:cubicBezTo>
                <a:cubicBezTo>
                  <a:pt x="12081" y="14640"/>
                  <a:pt x="11999" y="14623"/>
                  <a:pt x="11906" y="14610"/>
                </a:cubicBezTo>
                <a:cubicBezTo>
                  <a:pt x="11832" y="14600"/>
                  <a:pt x="11752" y="14617"/>
                  <a:pt x="11683" y="14635"/>
                </a:cubicBezTo>
                <a:cubicBezTo>
                  <a:pt x="11609" y="14654"/>
                  <a:pt x="11560" y="14660"/>
                  <a:pt x="11485" y="14660"/>
                </a:cubicBezTo>
                <a:cubicBezTo>
                  <a:pt x="11418" y="14660"/>
                  <a:pt x="11347" y="14663"/>
                  <a:pt x="11286" y="14684"/>
                </a:cubicBezTo>
                <a:cubicBezTo>
                  <a:pt x="11242" y="14699"/>
                  <a:pt x="11215" y="14706"/>
                  <a:pt x="11162" y="14709"/>
                </a:cubicBezTo>
                <a:cubicBezTo>
                  <a:pt x="11137" y="14709"/>
                  <a:pt x="11129" y="14709"/>
                  <a:pt x="11112" y="14709"/>
                </a:cubicBezTo>
              </a:path>
              <a:path w="1712" h="1142">
                <a:moveTo>
                  <a:pt x="11708" y="15180"/>
                </a:moveTo>
                <a:cubicBezTo>
                  <a:pt x="11685" y="15203"/>
                  <a:pt x="11677" y="15207"/>
                  <a:pt x="11683" y="15230"/>
                </a:cubicBezTo>
                <a:cubicBezTo>
                  <a:pt x="11745" y="15215"/>
                  <a:pt x="11743" y="15178"/>
                  <a:pt x="11782" y="15131"/>
                </a:cubicBezTo>
                <a:cubicBezTo>
                  <a:pt x="11843" y="15057"/>
                  <a:pt x="11910" y="14981"/>
                  <a:pt x="11931" y="14883"/>
                </a:cubicBezTo>
                <a:cubicBezTo>
                  <a:pt x="11931" y="14841"/>
                  <a:pt x="11931" y="14833"/>
                  <a:pt x="11931" y="14808"/>
                </a:cubicBezTo>
                <a:cubicBezTo>
                  <a:pt x="11855" y="14827"/>
                  <a:pt x="11842" y="14862"/>
                  <a:pt x="11807" y="14932"/>
                </a:cubicBezTo>
                <a:cubicBezTo>
                  <a:pt x="11766" y="15013"/>
                  <a:pt x="11780" y="15082"/>
                  <a:pt x="11832" y="15156"/>
                </a:cubicBezTo>
                <a:cubicBezTo>
                  <a:pt x="11880" y="15224"/>
                  <a:pt x="11943" y="15207"/>
                  <a:pt x="12005" y="15180"/>
                </a:cubicBezTo>
                <a:cubicBezTo>
                  <a:pt x="12022" y="15172"/>
                  <a:pt x="12038" y="15164"/>
                  <a:pt x="12055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67200" y="5106960"/>
            <a:ext cx="839880" cy="393840"/>
          </a:xfrm>
          <a:custGeom>
            <a:avLst/>
            <a:gdLst/>
            <a:ahLst/>
            <a:rect l="l" t="t" r="r" b="b"/>
            <a:pathLst>
              <a:path w="2332" h="1093">
                <a:moveTo>
                  <a:pt x="13568" y="14610"/>
                </a:moveTo>
                <a:cubicBezTo>
                  <a:pt x="13601" y="14610"/>
                  <a:pt x="13634" y="14610"/>
                  <a:pt x="13667" y="14610"/>
                </a:cubicBezTo>
                <a:cubicBezTo>
                  <a:pt x="13617" y="14610"/>
                  <a:pt x="13609" y="14621"/>
                  <a:pt x="13568" y="14635"/>
                </a:cubicBezTo>
                <a:cubicBezTo>
                  <a:pt x="13543" y="14635"/>
                  <a:pt x="13535" y="14635"/>
                  <a:pt x="13519" y="14635"/>
                </a:cubicBezTo>
              </a:path>
              <a:path w="2332" h="1093">
                <a:moveTo>
                  <a:pt x="13568" y="14610"/>
                </a:moveTo>
                <a:cubicBezTo>
                  <a:pt x="13624" y="14665"/>
                  <a:pt x="13649" y="14663"/>
                  <a:pt x="13643" y="14709"/>
                </a:cubicBezTo>
                <a:cubicBezTo>
                  <a:pt x="13605" y="14737"/>
                  <a:pt x="13581" y="14731"/>
                  <a:pt x="13543" y="14759"/>
                </a:cubicBezTo>
              </a:path>
              <a:path w="2332" h="1093">
                <a:moveTo>
                  <a:pt x="14312" y="14288"/>
                </a:moveTo>
                <a:cubicBezTo>
                  <a:pt x="14312" y="14238"/>
                  <a:pt x="14312" y="14337"/>
                  <a:pt x="14312" y="14387"/>
                </a:cubicBezTo>
                <a:cubicBezTo>
                  <a:pt x="14312" y="14458"/>
                  <a:pt x="14343" y="14507"/>
                  <a:pt x="14387" y="14560"/>
                </a:cubicBezTo>
                <a:cubicBezTo>
                  <a:pt x="14451" y="14528"/>
                  <a:pt x="14440" y="14476"/>
                  <a:pt x="14461" y="14412"/>
                </a:cubicBezTo>
                <a:cubicBezTo>
                  <a:pt x="14469" y="14395"/>
                  <a:pt x="14478" y="14379"/>
                  <a:pt x="14486" y="14362"/>
                </a:cubicBezTo>
                <a:cubicBezTo>
                  <a:pt x="14553" y="14445"/>
                  <a:pt x="14542" y="14482"/>
                  <a:pt x="14560" y="14585"/>
                </a:cubicBezTo>
                <a:cubicBezTo>
                  <a:pt x="14573" y="14659"/>
                  <a:pt x="14603" y="14812"/>
                  <a:pt x="14511" y="14858"/>
                </a:cubicBezTo>
                <a:cubicBezTo>
                  <a:pt x="14463" y="14882"/>
                  <a:pt x="14324" y="14862"/>
                  <a:pt x="14288" y="14833"/>
                </a:cubicBezTo>
                <a:cubicBezTo>
                  <a:pt x="14266" y="14811"/>
                  <a:pt x="14257" y="14806"/>
                  <a:pt x="14263" y="14784"/>
                </a:cubicBezTo>
              </a:path>
              <a:path w="2332" h="1093">
                <a:moveTo>
                  <a:pt x="14808" y="14412"/>
                </a:moveTo>
                <a:cubicBezTo>
                  <a:pt x="14808" y="14404"/>
                  <a:pt x="14808" y="14395"/>
                  <a:pt x="14808" y="14387"/>
                </a:cubicBezTo>
                <a:cubicBezTo>
                  <a:pt x="14855" y="14387"/>
                  <a:pt x="14871" y="14370"/>
                  <a:pt x="14908" y="14362"/>
                </a:cubicBezTo>
                <a:cubicBezTo>
                  <a:pt x="14962" y="14350"/>
                  <a:pt x="15007" y="14350"/>
                  <a:pt x="15056" y="14337"/>
                </a:cubicBezTo>
              </a:path>
              <a:path w="2332" h="1093">
                <a:moveTo>
                  <a:pt x="15230" y="14188"/>
                </a:moveTo>
                <a:cubicBezTo>
                  <a:pt x="15230" y="14253"/>
                  <a:pt x="15253" y="14303"/>
                  <a:pt x="15280" y="14362"/>
                </a:cubicBezTo>
                <a:cubicBezTo>
                  <a:pt x="15313" y="14433"/>
                  <a:pt x="15325" y="14507"/>
                  <a:pt x="15379" y="14412"/>
                </a:cubicBezTo>
                <a:cubicBezTo>
                  <a:pt x="15399" y="14371"/>
                  <a:pt x="15408" y="14365"/>
                  <a:pt x="15404" y="14337"/>
                </a:cubicBezTo>
                <a:cubicBezTo>
                  <a:pt x="15412" y="14329"/>
                  <a:pt x="15421" y="14320"/>
                  <a:pt x="15429" y="14312"/>
                </a:cubicBezTo>
                <a:cubicBezTo>
                  <a:pt x="15459" y="14343"/>
                  <a:pt x="15495" y="14514"/>
                  <a:pt x="15503" y="14585"/>
                </a:cubicBezTo>
                <a:cubicBezTo>
                  <a:pt x="15513" y="14671"/>
                  <a:pt x="15537" y="14826"/>
                  <a:pt x="15429" y="14858"/>
                </a:cubicBezTo>
                <a:cubicBezTo>
                  <a:pt x="15353" y="14880"/>
                  <a:pt x="15276" y="14843"/>
                  <a:pt x="15230" y="14784"/>
                </a:cubicBezTo>
                <a:cubicBezTo>
                  <a:pt x="15202" y="14729"/>
                  <a:pt x="15194" y="14706"/>
                  <a:pt x="15205" y="14660"/>
                </a:cubicBezTo>
              </a:path>
              <a:path w="2332" h="1093">
                <a:moveTo>
                  <a:pt x="15677" y="14585"/>
                </a:moveTo>
                <a:cubicBezTo>
                  <a:pt x="15677" y="14540"/>
                  <a:pt x="15675" y="14517"/>
                  <a:pt x="15726" y="14511"/>
                </a:cubicBezTo>
                <a:cubicBezTo>
                  <a:pt x="15772" y="14506"/>
                  <a:pt x="15751" y="14575"/>
                  <a:pt x="15751" y="14610"/>
                </a:cubicBezTo>
                <a:cubicBezTo>
                  <a:pt x="15722" y="14603"/>
                  <a:pt x="15706" y="14593"/>
                  <a:pt x="15677" y="14585"/>
                </a:cubicBezTo>
              </a:path>
              <a:path w="2332" h="1093">
                <a:moveTo>
                  <a:pt x="15850" y="14883"/>
                </a:moveTo>
                <a:cubicBezTo>
                  <a:pt x="15818" y="14875"/>
                  <a:pt x="15783" y="14870"/>
                  <a:pt x="15751" y="14858"/>
                </a:cubicBezTo>
                <a:cubicBezTo>
                  <a:pt x="15670" y="14829"/>
                  <a:pt x="15587" y="14812"/>
                  <a:pt x="15503" y="14784"/>
                </a:cubicBezTo>
                <a:cubicBezTo>
                  <a:pt x="15402" y="14750"/>
                  <a:pt x="15287" y="14738"/>
                  <a:pt x="15180" y="14734"/>
                </a:cubicBezTo>
                <a:cubicBezTo>
                  <a:pt x="15058" y="14730"/>
                  <a:pt x="14950" y="14742"/>
                  <a:pt x="14833" y="14759"/>
                </a:cubicBezTo>
                <a:cubicBezTo>
                  <a:pt x="14698" y="14778"/>
                  <a:pt x="14549" y="14759"/>
                  <a:pt x="14412" y="14759"/>
                </a:cubicBezTo>
              </a:path>
              <a:path w="2332" h="1093">
                <a:moveTo>
                  <a:pt x="14858" y="15131"/>
                </a:moveTo>
                <a:cubicBezTo>
                  <a:pt x="14858" y="15176"/>
                  <a:pt x="14838" y="15189"/>
                  <a:pt x="14833" y="15230"/>
                </a:cubicBezTo>
                <a:cubicBezTo>
                  <a:pt x="14833" y="15255"/>
                  <a:pt x="14833" y="15263"/>
                  <a:pt x="14833" y="15280"/>
                </a:cubicBezTo>
                <a:cubicBezTo>
                  <a:pt x="14882" y="15268"/>
                  <a:pt x="14894" y="15233"/>
                  <a:pt x="14908" y="15180"/>
                </a:cubicBezTo>
                <a:cubicBezTo>
                  <a:pt x="14908" y="15152"/>
                  <a:pt x="14910" y="15142"/>
                  <a:pt x="14932" y="15131"/>
                </a:cubicBezTo>
                <a:cubicBezTo>
                  <a:pt x="14968" y="15143"/>
                  <a:pt x="14965" y="15166"/>
                  <a:pt x="14982" y="15205"/>
                </a:cubicBezTo>
                <a:cubicBezTo>
                  <a:pt x="14997" y="15241"/>
                  <a:pt x="15049" y="15295"/>
                  <a:pt x="15081" y="15230"/>
                </a:cubicBezTo>
                <a:cubicBezTo>
                  <a:pt x="15096" y="15200"/>
                  <a:pt x="15116" y="15149"/>
                  <a:pt x="15156" y="15131"/>
                </a:cubicBezTo>
                <a:cubicBezTo>
                  <a:pt x="15207" y="15108"/>
                  <a:pt x="15220" y="15165"/>
                  <a:pt x="15255" y="15180"/>
                </a:cubicBezTo>
                <a:cubicBezTo>
                  <a:pt x="15301" y="15200"/>
                  <a:pt x="15304" y="15200"/>
                  <a:pt x="15304" y="152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72120" y="5160960"/>
            <a:ext cx="795240" cy="357120"/>
          </a:xfrm>
          <a:custGeom>
            <a:avLst/>
            <a:gdLst/>
            <a:ahLst/>
            <a:rect l="l" t="t" r="r" b="b"/>
            <a:pathLst>
              <a:path w="2209" h="993">
                <a:moveTo>
                  <a:pt x="17016" y="14709"/>
                </a:moveTo>
                <a:cubicBezTo>
                  <a:pt x="17024" y="14709"/>
                  <a:pt x="17033" y="14709"/>
                  <a:pt x="17041" y="14709"/>
                </a:cubicBezTo>
                <a:cubicBezTo>
                  <a:pt x="16983" y="14709"/>
                  <a:pt x="16925" y="14709"/>
                  <a:pt x="16867" y="14709"/>
                </a:cubicBezTo>
              </a:path>
              <a:path w="2209" h="993">
                <a:moveTo>
                  <a:pt x="17016" y="14808"/>
                </a:moveTo>
                <a:cubicBezTo>
                  <a:pt x="17039" y="14831"/>
                  <a:pt x="17047" y="14835"/>
                  <a:pt x="17041" y="14858"/>
                </a:cubicBezTo>
                <a:cubicBezTo>
                  <a:pt x="17008" y="14858"/>
                  <a:pt x="16975" y="14858"/>
                  <a:pt x="16942" y="14858"/>
                </a:cubicBezTo>
              </a:path>
              <a:path w="2209" h="993">
                <a:moveTo>
                  <a:pt x="17661" y="14387"/>
                </a:moveTo>
                <a:cubicBezTo>
                  <a:pt x="17616" y="14398"/>
                  <a:pt x="17627" y="14419"/>
                  <a:pt x="17611" y="14387"/>
                </a:cubicBezTo>
                <a:cubicBezTo>
                  <a:pt x="17654" y="14387"/>
                  <a:pt x="17786" y="14365"/>
                  <a:pt x="17810" y="14412"/>
                </a:cubicBezTo>
                <a:cubicBezTo>
                  <a:pt x="17833" y="14457"/>
                  <a:pt x="17787" y="14527"/>
                  <a:pt x="17760" y="14560"/>
                </a:cubicBezTo>
                <a:cubicBezTo>
                  <a:pt x="17716" y="14614"/>
                  <a:pt x="17668" y="14635"/>
                  <a:pt x="17661" y="14709"/>
                </a:cubicBezTo>
                <a:cubicBezTo>
                  <a:pt x="17660" y="14717"/>
                  <a:pt x="17680" y="14732"/>
                  <a:pt x="17735" y="14709"/>
                </a:cubicBezTo>
                <a:cubicBezTo>
                  <a:pt x="17777" y="14691"/>
                  <a:pt x="17784" y="14684"/>
                  <a:pt x="17835" y="14684"/>
                </a:cubicBezTo>
                <a:cubicBezTo>
                  <a:pt x="17877" y="14684"/>
                  <a:pt x="17872" y="14674"/>
                  <a:pt x="17884" y="14709"/>
                </a:cubicBezTo>
              </a:path>
              <a:path w="2209" h="993">
                <a:moveTo>
                  <a:pt x="18033" y="14585"/>
                </a:moveTo>
                <a:cubicBezTo>
                  <a:pt x="18056" y="14608"/>
                  <a:pt x="18060" y="14616"/>
                  <a:pt x="18083" y="14610"/>
                </a:cubicBezTo>
                <a:cubicBezTo>
                  <a:pt x="18098" y="14587"/>
                  <a:pt x="18140" y="14565"/>
                  <a:pt x="18182" y="14560"/>
                </a:cubicBezTo>
                <a:cubicBezTo>
                  <a:pt x="18190" y="14560"/>
                  <a:pt x="18199" y="14560"/>
                  <a:pt x="18207" y="14560"/>
                </a:cubicBezTo>
              </a:path>
              <a:path w="2209" h="993">
                <a:moveTo>
                  <a:pt x="18430" y="14387"/>
                </a:moveTo>
                <a:cubicBezTo>
                  <a:pt x="18367" y="14387"/>
                  <a:pt x="18471" y="14375"/>
                  <a:pt x="18479" y="14362"/>
                </a:cubicBezTo>
                <a:cubicBezTo>
                  <a:pt x="18489" y="14346"/>
                  <a:pt x="18515" y="14315"/>
                  <a:pt x="18554" y="14337"/>
                </a:cubicBezTo>
                <a:cubicBezTo>
                  <a:pt x="18582" y="14352"/>
                  <a:pt x="18595" y="14435"/>
                  <a:pt x="18579" y="14461"/>
                </a:cubicBezTo>
                <a:cubicBezTo>
                  <a:pt x="18547" y="14515"/>
                  <a:pt x="18491" y="14582"/>
                  <a:pt x="18455" y="14635"/>
                </a:cubicBezTo>
                <a:cubicBezTo>
                  <a:pt x="18431" y="14671"/>
                  <a:pt x="18414" y="14690"/>
                  <a:pt x="18405" y="14734"/>
                </a:cubicBezTo>
                <a:cubicBezTo>
                  <a:pt x="18463" y="14734"/>
                  <a:pt x="18508" y="14718"/>
                  <a:pt x="18554" y="14709"/>
                </a:cubicBezTo>
                <a:cubicBezTo>
                  <a:pt x="18605" y="14699"/>
                  <a:pt x="18633" y="14695"/>
                  <a:pt x="18678" y="14684"/>
                </a:cubicBezTo>
              </a:path>
              <a:path w="2209" h="993">
                <a:moveTo>
                  <a:pt x="18802" y="14610"/>
                </a:moveTo>
                <a:cubicBezTo>
                  <a:pt x="18794" y="14610"/>
                  <a:pt x="18785" y="14610"/>
                  <a:pt x="18777" y="14610"/>
                </a:cubicBezTo>
                <a:cubicBezTo>
                  <a:pt x="18786" y="14572"/>
                  <a:pt x="18813" y="14549"/>
                  <a:pt x="18852" y="14536"/>
                </a:cubicBezTo>
                <a:cubicBezTo>
                  <a:pt x="18905" y="14519"/>
                  <a:pt x="18913" y="14605"/>
                  <a:pt x="18901" y="14635"/>
                </a:cubicBezTo>
                <a:cubicBezTo>
                  <a:pt x="18887" y="14667"/>
                  <a:pt x="18868" y="14698"/>
                  <a:pt x="18827" y="14684"/>
                </a:cubicBezTo>
                <a:cubicBezTo>
                  <a:pt x="18810" y="14676"/>
                  <a:pt x="18794" y="14668"/>
                  <a:pt x="18777" y="14660"/>
                </a:cubicBezTo>
              </a:path>
              <a:path w="2209" h="993">
                <a:moveTo>
                  <a:pt x="19075" y="14932"/>
                </a:moveTo>
                <a:cubicBezTo>
                  <a:pt x="19057" y="14880"/>
                  <a:pt x="19042" y="14932"/>
                  <a:pt x="19000" y="14908"/>
                </a:cubicBezTo>
                <a:cubicBezTo>
                  <a:pt x="18939" y="14873"/>
                  <a:pt x="18878" y="14883"/>
                  <a:pt x="18802" y="14883"/>
                </a:cubicBezTo>
                <a:cubicBezTo>
                  <a:pt x="18730" y="14883"/>
                  <a:pt x="18627" y="14872"/>
                  <a:pt x="18554" y="14858"/>
                </a:cubicBezTo>
                <a:cubicBezTo>
                  <a:pt x="18451" y="14839"/>
                  <a:pt x="18363" y="14833"/>
                  <a:pt x="18256" y="14833"/>
                </a:cubicBezTo>
                <a:cubicBezTo>
                  <a:pt x="18175" y="14833"/>
                  <a:pt x="17709" y="14788"/>
                  <a:pt x="17686" y="14858"/>
                </a:cubicBezTo>
              </a:path>
              <a:path w="2209" h="993">
                <a:moveTo>
                  <a:pt x="18132" y="15156"/>
                </a:moveTo>
                <a:cubicBezTo>
                  <a:pt x="18132" y="15084"/>
                  <a:pt x="18137" y="15241"/>
                  <a:pt x="18132" y="15255"/>
                </a:cubicBezTo>
                <a:cubicBezTo>
                  <a:pt x="18112" y="15295"/>
                  <a:pt x="18103" y="15301"/>
                  <a:pt x="18107" y="15329"/>
                </a:cubicBezTo>
                <a:cubicBezTo>
                  <a:pt x="18144" y="15317"/>
                  <a:pt x="18158" y="15252"/>
                  <a:pt x="18182" y="15205"/>
                </a:cubicBezTo>
                <a:cubicBezTo>
                  <a:pt x="18222" y="15127"/>
                  <a:pt x="18251" y="15072"/>
                  <a:pt x="18331" y="15106"/>
                </a:cubicBezTo>
                <a:cubicBezTo>
                  <a:pt x="18409" y="15139"/>
                  <a:pt x="18420" y="15229"/>
                  <a:pt x="18430" y="153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936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tesian coordinates from 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 = 4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70120" y="2428920"/>
            <a:ext cx="2205000" cy="1803240"/>
          </a:xfrm>
          <a:custGeom>
            <a:avLst/>
            <a:gdLst/>
            <a:ahLst/>
            <a:rect l="l" t="t" r="r" b="b"/>
            <a:pathLst>
              <a:path w="6127" h="5011">
                <a:moveTo>
                  <a:pt x="7417" y="9798"/>
                </a:moveTo>
                <a:cubicBezTo>
                  <a:pt x="7454" y="9855"/>
                  <a:pt x="7432" y="9847"/>
                  <a:pt x="7491" y="9847"/>
                </a:cubicBezTo>
                <a:cubicBezTo>
                  <a:pt x="7491" y="9767"/>
                  <a:pt x="7507" y="9701"/>
                  <a:pt x="7516" y="9624"/>
                </a:cubicBezTo>
                <a:cubicBezTo>
                  <a:pt x="7528" y="9519"/>
                  <a:pt x="7543" y="9405"/>
                  <a:pt x="7565" y="9302"/>
                </a:cubicBezTo>
                <a:cubicBezTo>
                  <a:pt x="7585" y="9241"/>
                  <a:pt x="7583" y="9226"/>
                  <a:pt x="7615" y="9203"/>
                </a:cubicBezTo>
                <a:cubicBezTo>
                  <a:pt x="7662" y="9249"/>
                  <a:pt x="7684" y="9292"/>
                  <a:pt x="7714" y="9351"/>
                </a:cubicBezTo>
                <a:cubicBezTo>
                  <a:pt x="7743" y="9410"/>
                  <a:pt x="7764" y="9420"/>
                  <a:pt x="7813" y="9376"/>
                </a:cubicBezTo>
                <a:cubicBezTo>
                  <a:pt x="7860" y="9334"/>
                  <a:pt x="7846" y="9302"/>
                  <a:pt x="7913" y="9302"/>
                </a:cubicBezTo>
                <a:cubicBezTo>
                  <a:pt x="7955" y="9302"/>
                  <a:pt x="7983" y="9347"/>
                  <a:pt x="8012" y="9376"/>
                </a:cubicBezTo>
              </a:path>
              <a:path w="6127" h="5011">
                <a:moveTo>
                  <a:pt x="8607" y="9103"/>
                </a:moveTo>
                <a:cubicBezTo>
                  <a:pt x="8549" y="9103"/>
                  <a:pt x="8492" y="9103"/>
                  <a:pt x="8434" y="9103"/>
                </a:cubicBezTo>
              </a:path>
              <a:path w="6127" h="5011">
                <a:moveTo>
                  <a:pt x="8607" y="9203"/>
                </a:moveTo>
                <a:cubicBezTo>
                  <a:pt x="8639" y="9203"/>
                  <a:pt x="8694" y="9220"/>
                  <a:pt x="8632" y="9227"/>
                </a:cubicBezTo>
                <a:cubicBezTo>
                  <a:pt x="8624" y="9227"/>
                  <a:pt x="8615" y="9227"/>
                  <a:pt x="8607" y="9227"/>
                </a:cubicBezTo>
              </a:path>
              <a:path w="6127" h="5011">
                <a:moveTo>
                  <a:pt x="9277" y="9004"/>
                </a:moveTo>
                <a:cubicBezTo>
                  <a:pt x="9277" y="8935"/>
                  <a:pt x="9274" y="9045"/>
                  <a:pt x="9277" y="9054"/>
                </a:cubicBezTo>
                <a:cubicBezTo>
                  <a:pt x="9299" y="9113"/>
                  <a:pt x="9332" y="9159"/>
                  <a:pt x="9376" y="9203"/>
                </a:cubicBezTo>
                <a:cubicBezTo>
                  <a:pt x="9463" y="9168"/>
                  <a:pt x="9449" y="9131"/>
                  <a:pt x="9475" y="9054"/>
                </a:cubicBezTo>
                <a:cubicBezTo>
                  <a:pt x="9483" y="9037"/>
                  <a:pt x="9492" y="9021"/>
                  <a:pt x="9500" y="9004"/>
                </a:cubicBezTo>
                <a:cubicBezTo>
                  <a:pt x="9583" y="9004"/>
                  <a:pt x="9567" y="9057"/>
                  <a:pt x="9599" y="9128"/>
                </a:cubicBezTo>
                <a:cubicBezTo>
                  <a:pt x="9647" y="9235"/>
                  <a:pt x="9705" y="9352"/>
                  <a:pt x="9674" y="9475"/>
                </a:cubicBezTo>
                <a:cubicBezTo>
                  <a:pt x="9650" y="9571"/>
                  <a:pt x="9550" y="9550"/>
                  <a:pt x="9475" y="9550"/>
                </a:cubicBezTo>
                <a:cubicBezTo>
                  <a:pt x="9400" y="9550"/>
                  <a:pt x="9283" y="9542"/>
                  <a:pt x="9227" y="9500"/>
                </a:cubicBezTo>
                <a:cubicBezTo>
                  <a:pt x="9205" y="9478"/>
                  <a:pt x="9197" y="9473"/>
                  <a:pt x="9203" y="9451"/>
                </a:cubicBezTo>
              </a:path>
              <a:path w="6127" h="5011">
                <a:moveTo>
                  <a:pt x="10021" y="9103"/>
                </a:moveTo>
                <a:cubicBezTo>
                  <a:pt x="10047" y="9084"/>
                  <a:pt x="10117" y="9079"/>
                  <a:pt x="10071" y="9079"/>
                </a:cubicBezTo>
                <a:cubicBezTo>
                  <a:pt x="9973" y="9079"/>
                  <a:pt x="9890" y="9082"/>
                  <a:pt x="9798" y="9103"/>
                </a:cubicBezTo>
                <a:cubicBezTo>
                  <a:pt x="9773" y="9103"/>
                  <a:pt x="9765" y="9103"/>
                  <a:pt x="9748" y="9103"/>
                </a:cubicBezTo>
              </a:path>
              <a:path w="6127" h="5011">
                <a:moveTo>
                  <a:pt x="9823" y="9004"/>
                </a:moveTo>
                <a:cubicBezTo>
                  <a:pt x="9871" y="8983"/>
                  <a:pt x="9917" y="8955"/>
                  <a:pt x="9922" y="9029"/>
                </a:cubicBezTo>
                <a:cubicBezTo>
                  <a:pt x="9927" y="9098"/>
                  <a:pt x="9929" y="9145"/>
                  <a:pt x="9947" y="9203"/>
                </a:cubicBezTo>
                <a:cubicBezTo>
                  <a:pt x="9947" y="9211"/>
                  <a:pt x="9947" y="9219"/>
                  <a:pt x="9947" y="9227"/>
                </a:cubicBezTo>
              </a:path>
              <a:path w="6127" h="5011">
                <a:moveTo>
                  <a:pt x="10269" y="8781"/>
                </a:moveTo>
                <a:cubicBezTo>
                  <a:pt x="10269" y="8764"/>
                  <a:pt x="10269" y="8748"/>
                  <a:pt x="10269" y="8731"/>
                </a:cubicBezTo>
                <a:cubicBezTo>
                  <a:pt x="10281" y="8780"/>
                  <a:pt x="10282" y="8826"/>
                  <a:pt x="10294" y="8880"/>
                </a:cubicBezTo>
                <a:cubicBezTo>
                  <a:pt x="10310" y="8954"/>
                  <a:pt x="10319" y="9003"/>
                  <a:pt x="10319" y="9079"/>
                </a:cubicBezTo>
              </a:path>
              <a:path w="6127" h="5011">
                <a:moveTo>
                  <a:pt x="10641" y="9302"/>
                </a:moveTo>
                <a:cubicBezTo>
                  <a:pt x="10596" y="9302"/>
                  <a:pt x="10582" y="9324"/>
                  <a:pt x="10542" y="9327"/>
                </a:cubicBezTo>
                <a:cubicBezTo>
                  <a:pt x="10234" y="9349"/>
                  <a:pt x="9867" y="9254"/>
                  <a:pt x="9575" y="9351"/>
                </a:cubicBezTo>
                <a:cubicBezTo>
                  <a:pt x="9521" y="9369"/>
                  <a:pt x="9476" y="9388"/>
                  <a:pt x="9426" y="9401"/>
                </a:cubicBezTo>
              </a:path>
              <a:path w="6127" h="5011">
                <a:moveTo>
                  <a:pt x="9897" y="9624"/>
                </a:moveTo>
                <a:cubicBezTo>
                  <a:pt x="9875" y="9617"/>
                  <a:pt x="9852" y="9586"/>
                  <a:pt x="9872" y="9550"/>
                </a:cubicBezTo>
                <a:cubicBezTo>
                  <a:pt x="9893" y="9513"/>
                  <a:pt x="9960" y="9503"/>
                  <a:pt x="9996" y="9500"/>
                </a:cubicBezTo>
                <a:cubicBezTo>
                  <a:pt x="10059" y="9495"/>
                  <a:pt x="10046" y="9556"/>
                  <a:pt x="10046" y="9599"/>
                </a:cubicBezTo>
                <a:cubicBezTo>
                  <a:pt x="10046" y="9683"/>
                  <a:pt x="9979" y="9725"/>
                  <a:pt x="9922" y="9773"/>
                </a:cubicBezTo>
                <a:cubicBezTo>
                  <a:pt x="9878" y="9810"/>
                  <a:pt x="9887" y="9857"/>
                  <a:pt x="9947" y="9872"/>
                </a:cubicBezTo>
                <a:cubicBezTo>
                  <a:pt x="9996" y="9884"/>
                  <a:pt x="10077" y="9861"/>
                  <a:pt x="10120" y="9847"/>
                </a:cubicBezTo>
                <a:cubicBezTo>
                  <a:pt x="10170" y="9831"/>
                  <a:pt x="10191" y="9823"/>
                  <a:pt x="10244" y="9823"/>
                </a:cubicBezTo>
              </a:path>
              <a:path w="6127" h="5011">
                <a:moveTo>
                  <a:pt x="10666" y="6796"/>
                </a:moveTo>
                <a:cubicBezTo>
                  <a:pt x="10708" y="6791"/>
                  <a:pt x="10727" y="6778"/>
                  <a:pt x="10765" y="6772"/>
                </a:cubicBezTo>
                <a:cubicBezTo>
                  <a:pt x="10817" y="6764"/>
                  <a:pt x="10861" y="6750"/>
                  <a:pt x="10914" y="6747"/>
                </a:cubicBezTo>
                <a:cubicBezTo>
                  <a:pt x="10974" y="6744"/>
                  <a:pt x="11015" y="6744"/>
                  <a:pt x="11063" y="6772"/>
                </a:cubicBezTo>
                <a:cubicBezTo>
                  <a:pt x="11103" y="6795"/>
                  <a:pt x="11122" y="6837"/>
                  <a:pt x="11137" y="6871"/>
                </a:cubicBezTo>
                <a:cubicBezTo>
                  <a:pt x="11161" y="6926"/>
                  <a:pt x="11162" y="6983"/>
                  <a:pt x="11162" y="7045"/>
                </a:cubicBezTo>
                <a:cubicBezTo>
                  <a:pt x="11162" y="7287"/>
                  <a:pt x="11163" y="7531"/>
                  <a:pt x="11187" y="7764"/>
                </a:cubicBezTo>
                <a:cubicBezTo>
                  <a:pt x="11197" y="7863"/>
                  <a:pt x="11202" y="7968"/>
                  <a:pt x="11212" y="8062"/>
                </a:cubicBezTo>
                <a:cubicBezTo>
                  <a:pt x="11219" y="8131"/>
                  <a:pt x="11233" y="8193"/>
                  <a:pt x="11237" y="8260"/>
                </a:cubicBezTo>
                <a:cubicBezTo>
                  <a:pt x="11244" y="8378"/>
                  <a:pt x="11247" y="8502"/>
                  <a:pt x="11261" y="8607"/>
                </a:cubicBezTo>
                <a:cubicBezTo>
                  <a:pt x="11274" y="8709"/>
                  <a:pt x="11232" y="8868"/>
                  <a:pt x="11286" y="8930"/>
                </a:cubicBezTo>
                <a:cubicBezTo>
                  <a:pt x="11303" y="8949"/>
                  <a:pt x="11337" y="8996"/>
                  <a:pt x="11385" y="9004"/>
                </a:cubicBezTo>
                <a:cubicBezTo>
                  <a:pt x="11432" y="9012"/>
                  <a:pt x="11468" y="9022"/>
                  <a:pt x="11509" y="9029"/>
                </a:cubicBezTo>
                <a:cubicBezTo>
                  <a:pt x="11553" y="9036"/>
                  <a:pt x="11574" y="9032"/>
                  <a:pt x="11509" y="9054"/>
                </a:cubicBezTo>
                <a:cubicBezTo>
                  <a:pt x="11471" y="9067"/>
                  <a:pt x="11423" y="9064"/>
                  <a:pt x="11385" y="9079"/>
                </a:cubicBezTo>
                <a:cubicBezTo>
                  <a:pt x="11350" y="9093"/>
                  <a:pt x="11327" y="9115"/>
                  <a:pt x="11311" y="9128"/>
                </a:cubicBezTo>
              </a:path>
              <a:path w="6127" h="5011">
                <a:moveTo>
                  <a:pt x="11361" y="9178"/>
                </a:moveTo>
                <a:cubicBezTo>
                  <a:pt x="11361" y="9402"/>
                  <a:pt x="11372" y="9632"/>
                  <a:pt x="11336" y="9847"/>
                </a:cubicBezTo>
                <a:cubicBezTo>
                  <a:pt x="11316" y="9968"/>
                  <a:pt x="11330" y="10101"/>
                  <a:pt x="11311" y="10220"/>
                </a:cubicBezTo>
                <a:cubicBezTo>
                  <a:pt x="11277" y="10430"/>
                  <a:pt x="11314" y="10694"/>
                  <a:pt x="11336" y="10889"/>
                </a:cubicBezTo>
                <a:cubicBezTo>
                  <a:pt x="11344" y="10961"/>
                  <a:pt x="11350" y="11021"/>
                  <a:pt x="11361" y="11088"/>
                </a:cubicBezTo>
                <a:cubicBezTo>
                  <a:pt x="11381" y="11206"/>
                  <a:pt x="11373" y="11376"/>
                  <a:pt x="11336" y="11485"/>
                </a:cubicBezTo>
                <a:cubicBezTo>
                  <a:pt x="11315" y="11546"/>
                  <a:pt x="11291" y="11591"/>
                  <a:pt x="11237" y="11633"/>
                </a:cubicBezTo>
                <a:cubicBezTo>
                  <a:pt x="11174" y="11682"/>
                  <a:pt x="11154" y="11704"/>
                  <a:pt x="11088" y="11733"/>
                </a:cubicBezTo>
                <a:cubicBezTo>
                  <a:pt x="11031" y="11758"/>
                  <a:pt x="11001" y="11757"/>
                  <a:pt x="10939" y="11757"/>
                </a:cubicBezTo>
              </a:path>
              <a:path w="6127" h="5011">
                <a:moveTo>
                  <a:pt x="12105" y="8731"/>
                </a:moveTo>
                <a:cubicBezTo>
                  <a:pt x="12085" y="8758"/>
                  <a:pt x="12080" y="8826"/>
                  <a:pt x="12080" y="8781"/>
                </a:cubicBezTo>
                <a:cubicBezTo>
                  <a:pt x="12080" y="8728"/>
                  <a:pt x="12091" y="8720"/>
                  <a:pt x="12129" y="8682"/>
                </a:cubicBezTo>
                <a:cubicBezTo>
                  <a:pt x="12175" y="8636"/>
                  <a:pt x="12228" y="8672"/>
                  <a:pt x="12278" y="8706"/>
                </a:cubicBezTo>
                <a:cubicBezTo>
                  <a:pt x="12329" y="8741"/>
                  <a:pt x="12344" y="8848"/>
                  <a:pt x="12328" y="8905"/>
                </a:cubicBezTo>
                <a:cubicBezTo>
                  <a:pt x="12309" y="8972"/>
                  <a:pt x="12265" y="9000"/>
                  <a:pt x="12204" y="9004"/>
                </a:cubicBezTo>
                <a:cubicBezTo>
                  <a:pt x="12151" y="9007"/>
                  <a:pt x="12147" y="8990"/>
                  <a:pt x="12105" y="8979"/>
                </a:cubicBezTo>
              </a:path>
              <a:path w="6127" h="5011">
                <a:moveTo>
                  <a:pt x="12477" y="8657"/>
                </a:moveTo>
                <a:cubicBezTo>
                  <a:pt x="12541" y="8593"/>
                  <a:pt x="12436" y="8716"/>
                  <a:pt x="12427" y="8731"/>
                </a:cubicBezTo>
                <a:cubicBezTo>
                  <a:pt x="12373" y="8816"/>
                  <a:pt x="12335" y="8877"/>
                  <a:pt x="12328" y="8979"/>
                </a:cubicBezTo>
                <a:cubicBezTo>
                  <a:pt x="12321" y="9070"/>
                  <a:pt x="12420" y="9010"/>
                  <a:pt x="12452" y="9004"/>
                </a:cubicBezTo>
                <a:cubicBezTo>
                  <a:pt x="12469" y="9004"/>
                  <a:pt x="12485" y="9004"/>
                  <a:pt x="12502" y="9004"/>
                </a:cubicBezTo>
              </a:path>
              <a:path w="6127" h="5011">
                <a:moveTo>
                  <a:pt x="12774" y="8855"/>
                </a:moveTo>
                <a:cubicBezTo>
                  <a:pt x="12710" y="8855"/>
                  <a:pt x="12813" y="8855"/>
                  <a:pt x="12824" y="8855"/>
                </a:cubicBezTo>
                <a:cubicBezTo>
                  <a:pt x="12898" y="8855"/>
                  <a:pt x="12973" y="8855"/>
                  <a:pt x="13047" y="8855"/>
                </a:cubicBezTo>
              </a:path>
              <a:path w="6127" h="5011">
                <a:moveTo>
                  <a:pt x="13246" y="8508"/>
                </a:moveTo>
                <a:cubicBezTo>
                  <a:pt x="13268" y="8486"/>
                  <a:pt x="13273" y="8477"/>
                  <a:pt x="13295" y="8483"/>
                </a:cubicBezTo>
                <a:cubicBezTo>
                  <a:pt x="13295" y="8603"/>
                  <a:pt x="13291" y="8714"/>
                  <a:pt x="13320" y="8830"/>
                </a:cubicBezTo>
              </a:path>
              <a:path w="6127" h="5011">
                <a:moveTo>
                  <a:pt x="13543" y="9252"/>
                </a:moveTo>
                <a:cubicBezTo>
                  <a:pt x="13479" y="9252"/>
                  <a:pt x="13428" y="9235"/>
                  <a:pt x="13370" y="9227"/>
                </a:cubicBezTo>
                <a:cubicBezTo>
                  <a:pt x="13272" y="9214"/>
                  <a:pt x="13169" y="9187"/>
                  <a:pt x="13072" y="9178"/>
                </a:cubicBezTo>
                <a:cubicBezTo>
                  <a:pt x="12815" y="9154"/>
                  <a:pt x="12413" y="9125"/>
                  <a:pt x="12179" y="9203"/>
                </a:cubicBezTo>
                <a:cubicBezTo>
                  <a:pt x="12136" y="9217"/>
                  <a:pt x="12144" y="9183"/>
                  <a:pt x="12129" y="9227"/>
                </a:cubicBezTo>
              </a:path>
              <a:path w="6127" h="5011">
                <a:moveTo>
                  <a:pt x="12774" y="9451"/>
                </a:moveTo>
                <a:cubicBezTo>
                  <a:pt x="12752" y="9428"/>
                  <a:pt x="12744" y="9423"/>
                  <a:pt x="12750" y="9401"/>
                </a:cubicBezTo>
                <a:cubicBezTo>
                  <a:pt x="12808" y="9401"/>
                  <a:pt x="12865" y="9401"/>
                  <a:pt x="12923" y="9401"/>
                </a:cubicBezTo>
                <a:cubicBezTo>
                  <a:pt x="12923" y="9440"/>
                  <a:pt x="12934" y="9475"/>
                  <a:pt x="12898" y="9500"/>
                </a:cubicBezTo>
                <a:cubicBezTo>
                  <a:pt x="12857" y="9529"/>
                  <a:pt x="12798" y="9522"/>
                  <a:pt x="12774" y="9575"/>
                </a:cubicBezTo>
                <a:cubicBezTo>
                  <a:pt x="12774" y="9583"/>
                  <a:pt x="12774" y="9591"/>
                  <a:pt x="12774" y="9599"/>
                </a:cubicBezTo>
                <a:cubicBezTo>
                  <a:pt x="12831" y="9645"/>
                  <a:pt x="12895" y="9671"/>
                  <a:pt x="12948" y="9723"/>
                </a:cubicBezTo>
                <a:cubicBezTo>
                  <a:pt x="12978" y="9753"/>
                  <a:pt x="12973" y="9758"/>
                  <a:pt x="12973" y="9798"/>
                </a:cubicBezTo>
                <a:cubicBezTo>
                  <a:pt x="12908" y="9798"/>
                  <a:pt x="12852" y="9784"/>
                  <a:pt x="12799" y="9773"/>
                </a:cubicBezTo>
                <a:cubicBezTo>
                  <a:pt x="12783" y="9773"/>
                  <a:pt x="12766" y="9773"/>
                  <a:pt x="12750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26040" y="33400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4362" y="9277"/>
                </a:moveTo>
                <a:cubicBezTo>
                  <a:pt x="14370" y="9277"/>
                  <a:pt x="14379" y="9277"/>
                  <a:pt x="14387" y="9277"/>
                </a:cubicBezTo>
                <a:cubicBezTo>
                  <a:pt x="14337" y="9277"/>
                  <a:pt x="14328" y="9288"/>
                  <a:pt x="14288" y="9302"/>
                </a:cubicBezTo>
                <a:cubicBezTo>
                  <a:pt x="14263" y="9302"/>
                  <a:pt x="14255" y="9302"/>
                  <a:pt x="14238" y="9302"/>
                </a:cubicBezTo>
              </a:path>
              <a:path w="150" h="150">
                <a:moveTo>
                  <a:pt x="14362" y="9376"/>
                </a:moveTo>
                <a:cubicBezTo>
                  <a:pt x="14352" y="9417"/>
                  <a:pt x="14353" y="9416"/>
                  <a:pt x="14312" y="94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38880" y="3098880"/>
            <a:ext cx="1347840" cy="46512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15131" y="8855"/>
                </a:moveTo>
                <a:cubicBezTo>
                  <a:pt x="15144" y="8817"/>
                  <a:pt x="15156" y="8835"/>
                  <a:pt x="15156" y="8781"/>
                </a:cubicBezTo>
                <a:cubicBezTo>
                  <a:pt x="15120" y="8793"/>
                  <a:pt x="15118" y="8857"/>
                  <a:pt x="15131" y="8905"/>
                </a:cubicBezTo>
                <a:cubicBezTo>
                  <a:pt x="15144" y="8952"/>
                  <a:pt x="15181" y="9085"/>
                  <a:pt x="15255" y="9079"/>
                </a:cubicBezTo>
                <a:cubicBezTo>
                  <a:pt x="15307" y="9075"/>
                  <a:pt x="15337" y="8988"/>
                  <a:pt x="15379" y="8979"/>
                </a:cubicBezTo>
                <a:cubicBezTo>
                  <a:pt x="15387" y="8979"/>
                  <a:pt x="15396" y="8979"/>
                  <a:pt x="15404" y="8979"/>
                </a:cubicBezTo>
                <a:cubicBezTo>
                  <a:pt x="15459" y="9062"/>
                  <a:pt x="15475" y="9151"/>
                  <a:pt x="15478" y="9252"/>
                </a:cubicBezTo>
                <a:cubicBezTo>
                  <a:pt x="15480" y="9326"/>
                  <a:pt x="15474" y="9454"/>
                  <a:pt x="15379" y="9475"/>
                </a:cubicBezTo>
                <a:cubicBezTo>
                  <a:pt x="15303" y="9492"/>
                  <a:pt x="15219" y="9470"/>
                  <a:pt x="15156" y="9426"/>
                </a:cubicBezTo>
                <a:cubicBezTo>
                  <a:pt x="15126" y="9396"/>
                  <a:pt x="15115" y="9382"/>
                  <a:pt x="15106" y="9351"/>
                </a:cubicBezTo>
              </a:path>
              <a:path w="3747" h="1291">
                <a:moveTo>
                  <a:pt x="15900" y="8979"/>
                </a:moveTo>
                <a:cubicBezTo>
                  <a:pt x="15908" y="8979"/>
                  <a:pt x="15917" y="8979"/>
                  <a:pt x="15925" y="8979"/>
                </a:cubicBezTo>
                <a:cubicBezTo>
                  <a:pt x="15846" y="8979"/>
                  <a:pt x="15738" y="9001"/>
                  <a:pt x="15677" y="8954"/>
                </a:cubicBezTo>
              </a:path>
              <a:path w="3747" h="1291">
                <a:moveTo>
                  <a:pt x="15751" y="8855"/>
                </a:moveTo>
                <a:cubicBezTo>
                  <a:pt x="15764" y="8908"/>
                  <a:pt x="15776" y="8940"/>
                  <a:pt x="15776" y="9004"/>
                </a:cubicBezTo>
                <a:cubicBezTo>
                  <a:pt x="15776" y="9046"/>
                  <a:pt x="15776" y="9054"/>
                  <a:pt x="15776" y="9079"/>
                </a:cubicBezTo>
              </a:path>
              <a:path w="3747" h="1291">
                <a:moveTo>
                  <a:pt x="16197" y="8607"/>
                </a:moveTo>
                <a:cubicBezTo>
                  <a:pt x="16241" y="8622"/>
                  <a:pt x="16222" y="8678"/>
                  <a:pt x="16222" y="8731"/>
                </a:cubicBezTo>
                <a:cubicBezTo>
                  <a:pt x="16222" y="8820"/>
                  <a:pt x="16202" y="8893"/>
                  <a:pt x="16197" y="8979"/>
                </a:cubicBezTo>
                <a:cubicBezTo>
                  <a:pt x="16197" y="8996"/>
                  <a:pt x="16197" y="9012"/>
                  <a:pt x="16197" y="9029"/>
                </a:cubicBezTo>
              </a:path>
              <a:path w="3747" h="1291">
                <a:moveTo>
                  <a:pt x="16321" y="9327"/>
                </a:moveTo>
                <a:cubicBezTo>
                  <a:pt x="16282" y="9337"/>
                  <a:pt x="16266" y="9351"/>
                  <a:pt x="16222" y="9351"/>
                </a:cubicBezTo>
                <a:cubicBezTo>
                  <a:pt x="16062" y="9351"/>
                  <a:pt x="15904" y="9346"/>
                  <a:pt x="15751" y="9327"/>
                </a:cubicBezTo>
                <a:cubicBezTo>
                  <a:pt x="15640" y="9313"/>
                  <a:pt x="15535" y="9336"/>
                  <a:pt x="15429" y="9351"/>
                </a:cubicBezTo>
                <a:cubicBezTo>
                  <a:pt x="15379" y="9358"/>
                  <a:pt x="15347" y="9371"/>
                  <a:pt x="15304" y="9376"/>
                </a:cubicBezTo>
                <a:cubicBezTo>
                  <a:pt x="15296" y="9376"/>
                  <a:pt x="15288" y="9376"/>
                  <a:pt x="15280" y="9376"/>
                </a:cubicBezTo>
              </a:path>
              <a:path w="3747" h="1291">
                <a:moveTo>
                  <a:pt x="15553" y="9599"/>
                </a:moveTo>
                <a:cubicBezTo>
                  <a:pt x="15528" y="9599"/>
                  <a:pt x="15520" y="9599"/>
                  <a:pt x="15528" y="9575"/>
                </a:cubicBezTo>
                <a:cubicBezTo>
                  <a:pt x="15533" y="9561"/>
                  <a:pt x="15574" y="9508"/>
                  <a:pt x="15602" y="9500"/>
                </a:cubicBezTo>
                <a:cubicBezTo>
                  <a:pt x="15651" y="9486"/>
                  <a:pt x="15691" y="9504"/>
                  <a:pt x="15701" y="9550"/>
                </a:cubicBezTo>
                <a:cubicBezTo>
                  <a:pt x="15710" y="9593"/>
                  <a:pt x="15677" y="9668"/>
                  <a:pt x="15652" y="9699"/>
                </a:cubicBezTo>
                <a:cubicBezTo>
                  <a:pt x="15615" y="9744"/>
                  <a:pt x="15620" y="9749"/>
                  <a:pt x="15652" y="9773"/>
                </a:cubicBezTo>
                <a:cubicBezTo>
                  <a:pt x="15691" y="9802"/>
                  <a:pt x="15748" y="9813"/>
                  <a:pt x="15801" y="9798"/>
                </a:cubicBezTo>
                <a:cubicBezTo>
                  <a:pt x="15842" y="9787"/>
                  <a:pt x="15869" y="9771"/>
                  <a:pt x="15900" y="9748"/>
                </a:cubicBezTo>
              </a:path>
              <a:path w="3747" h="1291">
                <a:moveTo>
                  <a:pt x="16917" y="9376"/>
                </a:moveTo>
                <a:cubicBezTo>
                  <a:pt x="16942" y="9376"/>
                  <a:pt x="16950" y="9376"/>
                  <a:pt x="16966" y="9376"/>
                </a:cubicBezTo>
                <a:cubicBezTo>
                  <a:pt x="16930" y="9376"/>
                  <a:pt x="16893" y="9383"/>
                  <a:pt x="16867" y="9401"/>
                </a:cubicBezTo>
                <a:cubicBezTo>
                  <a:pt x="16845" y="9423"/>
                  <a:pt x="16840" y="9432"/>
                  <a:pt x="16818" y="9426"/>
                </a:cubicBezTo>
              </a:path>
              <a:path w="3747" h="1291">
                <a:moveTo>
                  <a:pt x="16892" y="9475"/>
                </a:moveTo>
                <a:cubicBezTo>
                  <a:pt x="16949" y="9489"/>
                  <a:pt x="16951" y="9505"/>
                  <a:pt x="16917" y="9550"/>
                </a:cubicBezTo>
              </a:path>
              <a:path w="3747" h="1291">
                <a:moveTo>
                  <a:pt x="17587" y="8880"/>
                </a:moveTo>
                <a:cubicBezTo>
                  <a:pt x="17632" y="8868"/>
                  <a:pt x="17657" y="8855"/>
                  <a:pt x="17711" y="8855"/>
                </a:cubicBezTo>
                <a:cubicBezTo>
                  <a:pt x="17757" y="8855"/>
                  <a:pt x="17779" y="8854"/>
                  <a:pt x="17785" y="8905"/>
                </a:cubicBezTo>
                <a:cubicBezTo>
                  <a:pt x="17793" y="8978"/>
                  <a:pt x="17768" y="8977"/>
                  <a:pt x="17735" y="9029"/>
                </a:cubicBezTo>
                <a:cubicBezTo>
                  <a:pt x="17712" y="9066"/>
                  <a:pt x="17653" y="9115"/>
                  <a:pt x="17636" y="9153"/>
                </a:cubicBezTo>
                <a:cubicBezTo>
                  <a:pt x="17636" y="9161"/>
                  <a:pt x="17636" y="9170"/>
                  <a:pt x="17636" y="9178"/>
                </a:cubicBezTo>
                <a:cubicBezTo>
                  <a:pt x="17732" y="9178"/>
                  <a:pt x="17884" y="9147"/>
                  <a:pt x="17959" y="9203"/>
                </a:cubicBezTo>
              </a:path>
              <a:path w="3747" h="1291">
                <a:moveTo>
                  <a:pt x="18058" y="9054"/>
                </a:moveTo>
                <a:cubicBezTo>
                  <a:pt x="18050" y="9054"/>
                  <a:pt x="18041" y="9054"/>
                  <a:pt x="18033" y="9054"/>
                </a:cubicBezTo>
                <a:cubicBezTo>
                  <a:pt x="18102" y="9054"/>
                  <a:pt x="18142" y="9045"/>
                  <a:pt x="18207" y="9029"/>
                </a:cubicBezTo>
                <a:cubicBezTo>
                  <a:pt x="18215" y="9029"/>
                  <a:pt x="18223" y="9029"/>
                  <a:pt x="18231" y="9029"/>
                </a:cubicBezTo>
              </a:path>
              <a:path w="3747" h="1291">
                <a:moveTo>
                  <a:pt x="18504" y="8781"/>
                </a:moveTo>
                <a:cubicBezTo>
                  <a:pt x="18529" y="8756"/>
                  <a:pt x="18537" y="8748"/>
                  <a:pt x="18554" y="8731"/>
                </a:cubicBezTo>
                <a:cubicBezTo>
                  <a:pt x="18513" y="8812"/>
                  <a:pt x="18483" y="8863"/>
                  <a:pt x="18479" y="8954"/>
                </a:cubicBezTo>
                <a:cubicBezTo>
                  <a:pt x="18476" y="9010"/>
                  <a:pt x="18470" y="9060"/>
                  <a:pt x="18504" y="9103"/>
                </a:cubicBezTo>
                <a:cubicBezTo>
                  <a:pt x="18538" y="9145"/>
                  <a:pt x="18603" y="9128"/>
                  <a:pt x="18653" y="9128"/>
                </a:cubicBezTo>
                <a:cubicBezTo>
                  <a:pt x="18707" y="9128"/>
                  <a:pt x="18732" y="9108"/>
                  <a:pt x="18777" y="9103"/>
                </a:cubicBezTo>
                <a:cubicBezTo>
                  <a:pt x="18818" y="9098"/>
                  <a:pt x="18802" y="9064"/>
                  <a:pt x="18802" y="9128"/>
                </a:cubicBezTo>
              </a:path>
              <a:path w="3747" h="1291">
                <a:moveTo>
                  <a:pt x="18678" y="9029"/>
                </a:moveTo>
                <a:cubicBezTo>
                  <a:pt x="18670" y="9021"/>
                  <a:pt x="18661" y="9012"/>
                  <a:pt x="18653" y="9004"/>
                </a:cubicBezTo>
                <a:cubicBezTo>
                  <a:pt x="18653" y="9087"/>
                  <a:pt x="18653" y="9169"/>
                  <a:pt x="18653" y="9252"/>
                </a:cubicBezTo>
              </a:path>
              <a:path w="3747" h="1291">
                <a:moveTo>
                  <a:pt x="18852" y="9500"/>
                </a:moveTo>
                <a:cubicBezTo>
                  <a:pt x="18748" y="9500"/>
                  <a:pt x="18656" y="9498"/>
                  <a:pt x="18554" y="9475"/>
                </a:cubicBezTo>
                <a:cubicBezTo>
                  <a:pt x="18419" y="9445"/>
                  <a:pt x="18270" y="9418"/>
                  <a:pt x="18132" y="9401"/>
                </a:cubicBezTo>
                <a:cubicBezTo>
                  <a:pt x="18028" y="9388"/>
                  <a:pt x="17930" y="9404"/>
                  <a:pt x="17835" y="9426"/>
                </a:cubicBezTo>
                <a:cubicBezTo>
                  <a:pt x="17806" y="9433"/>
                  <a:pt x="17765" y="9426"/>
                  <a:pt x="17735" y="9426"/>
                </a:cubicBezTo>
              </a:path>
              <a:path w="3747" h="1291">
                <a:moveTo>
                  <a:pt x="18231" y="9649"/>
                </a:moveTo>
                <a:cubicBezTo>
                  <a:pt x="18231" y="9608"/>
                  <a:pt x="18231" y="9682"/>
                  <a:pt x="18231" y="9723"/>
                </a:cubicBezTo>
                <a:cubicBezTo>
                  <a:pt x="18231" y="9781"/>
                  <a:pt x="18231" y="9839"/>
                  <a:pt x="1823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70120" y="2473200"/>
            <a:ext cx="1089000" cy="54468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7417" y="8260"/>
                </a:moveTo>
                <a:cubicBezTo>
                  <a:pt x="7426" y="8309"/>
                  <a:pt x="7438" y="8346"/>
                  <a:pt x="7466" y="8384"/>
                </a:cubicBezTo>
                <a:cubicBezTo>
                  <a:pt x="7466" y="8312"/>
                  <a:pt x="7482" y="8252"/>
                  <a:pt x="7491" y="8186"/>
                </a:cubicBezTo>
                <a:cubicBezTo>
                  <a:pt x="7506" y="8075"/>
                  <a:pt x="7532" y="7972"/>
                  <a:pt x="7565" y="7863"/>
                </a:cubicBezTo>
                <a:cubicBezTo>
                  <a:pt x="7590" y="7781"/>
                  <a:pt x="7608" y="7664"/>
                  <a:pt x="7640" y="7590"/>
                </a:cubicBezTo>
                <a:cubicBezTo>
                  <a:pt x="7662" y="7568"/>
                  <a:pt x="7671" y="7563"/>
                  <a:pt x="7665" y="7541"/>
                </a:cubicBezTo>
                <a:cubicBezTo>
                  <a:pt x="7708" y="7555"/>
                  <a:pt x="7689" y="7613"/>
                  <a:pt x="7689" y="7665"/>
                </a:cubicBezTo>
                <a:cubicBezTo>
                  <a:pt x="7689" y="7768"/>
                  <a:pt x="7669" y="7891"/>
                  <a:pt x="7714" y="7987"/>
                </a:cubicBezTo>
                <a:cubicBezTo>
                  <a:pt x="7722" y="7995"/>
                  <a:pt x="7731" y="8004"/>
                  <a:pt x="7739" y="8012"/>
                </a:cubicBezTo>
                <a:cubicBezTo>
                  <a:pt x="7788" y="7951"/>
                  <a:pt x="7826" y="7868"/>
                  <a:pt x="7838" y="7789"/>
                </a:cubicBezTo>
                <a:cubicBezTo>
                  <a:pt x="7850" y="7710"/>
                  <a:pt x="7852" y="7687"/>
                  <a:pt x="7888" y="7615"/>
                </a:cubicBezTo>
                <a:cubicBezTo>
                  <a:pt x="7945" y="7629"/>
                  <a:pt x="7965" y="7682"/>
                  <a:pt x="7987" y="7739"/>
                </a:cubicBezTo>
                <a:cubicBezTo>
                  <a:pt x="8015" y="7811"/>
                  <a:pt x="8037" y="7862"/>
                  <a:pt x="8037" y="7938"/>
                </a:cubicBezTo>
              </a:path>
              <a:path w="3027" h="1514">
                <a:moveTo>
                  <a:pt x="8582" y="7466"/>
                </a:moveTo>
                <a:cubicBezTo>
                  <a:pt x="8605" y="7489"/>
                  <a:pt x="8609" y="7497"/>
                  <a:pt x="8632" y="7491"/>
                </a:cubicBezTo>
                <a:cubicBezTo>
                  <a:pt x="8558" y="7491"/>
                  <a:pt x="8496" y="7497"/>
                  <a:pt x="8434" y="7516"/>
                </a:cubicBezTo>
                <a:cubicBezTo>
                  <a:pt x="8426" y="7516"/>
                  <a:pt x="8417" y="7516"/>
                  <a:pt x="8409" y="7516"/>
                </a:cubicBezTo>
              </a:path>
              <a:path w="3027" h="1514">
                <a:moveTo>
                  <a:pt x="8607" y="7590"/>
                </a:moveTo>
                <a:cubicBezTo>
                  <a:pt x="8615" y="7590"/>
                  <a:pt x="8624" y="7590"/>
                  <a:pt x="8632" y="7590"/>
                </a:cubicBezTo>
                <a:cubicBezTo>
                  <a:pt x="8615" y="7658"/>
                  <a:pt x="8573" y="7640"/>
                  <a:pt x="8508" y="7640"/>
                </a:cubicBezTo>
              </a:path>
              <a:path w="3027" h="1514">
                <a:moveTo>
                  <a:pt x="9227" y="7218"/>
                </a:moveTo>
                <a:cubicBezTo>
                  <a:pt x="9191" y="7205"/>
                  <a:pt x="9203" y="7188"/>
                  <a:pt x="9203" y="7144"/>
                </a:cubicBezTo>
                <a:cubicBezTo>
                  <a:pt x="9203" y="7080"/>
                  <a:pt x="9209" y="7073"/>
                  <a:pt x="9277" y="7069"/>
                </a:cubicBezTo>
                <a:cubicBezTo>
                  <a:pt x="9348" y="7065"/>
                  <a:pt x="9392" y="7111"/>
                  <a:pt x="9426" y="7169"/>
                </a:cubicBezTo>
                <a:cubicBezTo>
                  <a:pt x="9469" y="7241"/>
                  <a:pt x="9447" y="7301"/>
                  <a:pt x="9401" y="7367"/>
                </a:cubicBezTo>
                <a:cubicBezTo>
                  <a:pt x="9364" y="7421"/>
                  <a:pt x="9309" y="7417"/>
                  <a:pt x="9252" y="7417"/>
                </a:cubicBezTo>
                <a:cubicBezTo>
                  <a:pt x="9236" y="7417"/>
                  <a:pt x="9219" y="7417"/>
                  <a:pt x="9203" y="7417"/>
                </a:cubicBezTo>
              </a:path>
              <a:path w="3027" h="1514">
                <a:moveTo>
                  <a:pt x="9525" y="7020"/>
                </a:moveTo>
                <a:cubicBezTo>
                  <a:pt x="9600" y="6988"/>
                  <a:pt x="9601" y="6973"/>
                  <a:pt x="9550" y="7020"/>
                </a:cubicBezTo>
                <a:cubicBezTo>
                  <a:pt x="9487" y="7078"/>
                  <a:pt x="9457" y="7135"/>
                  <a:pt x="9451" y="7218"/>
                </a:cubicBezTo>
                <a:cubicBezTo>
                  <a:pt x="9449" y="7246"/>
                  <a:pt x="9489" y="7309"/>
                  <a:pt x="9525" y="7293"/>
                </a:cubicBezTo>
                <a:cubicBezTo>
                  <a:pt x="9548" y="7270"/>
                  <a:pt x="9552" y="7262"/>
                  <a:pt x="9575" y="7268"/>
                </a:cubicBezTo>
              </a:path>
              <a:path w="3027" h="1514">
                <a:moveTo>
                  <a:pt x="9723" y="7144"/>
                </a:moveTo>
                <a:cubicBezTo>
                  <a:pt x="9731" y="7144"/>
                  <a:pt x="9740" y="7144"/>
                  <a:pt x="9748" y="7144"/>
                </a:cubicBezTo>
                <a:cubicBezTo>
                  <a:pt x="9757" y="7172"/>
                  <a:pt x="9804" y="7187"/>
                  <a:pt x="9847" y="7169"/>
                </a:cubicBezTo>
                <a:cubicBezTo>
                  <a:pt x="9887" y="7152"/>
                  <a:pt x="9927" y="7124"/>
                  <a:pt x="9971" y="7119"/>
                </a:cubicBezTo>
                <a:cubicBezTo>
                  <a:pt x="9979" y="7119"/>
                  <a:pt x="9988" y="7119"/>
                  <a:pt x="9996" y="7119"/>
                </a:cubicBezTo>
              </a:path>
              <a:path w="3027" h="1514">
                <a:moveTo>
                  <a:pt x="10145" y="6945"/>
                </a:moveTo>
                <a:cubicBezTo>
                  <a:pt x="10171" y="6886"/>
                  <a:pt x="10170" y="6848"/>
                  <a:pt x="10170" y="6921"/>
                </a:cubicBezTo>
                <a:cubicBezTo>
                  <a:pt x="10170" y="7010"/>
                  <a:pt x="10157" y="7083"/>
                  <a:pt x="10145" y="7169"/>
                </a:cubicBezTo>
                <a:cubicBezTo>
                  <a:pt x="10145" y="7185"/>
                  <a:pt x="10145" y="7202"/>
                  <a:pt x="10145" y="7218"/>
                </a:cubicBezTo>
              </a:path>
              <a:path w="3027" h="1514">
                <a:moveTo>
                  <a:pt x="10443" y="7441"/>
                </a:moveTo>
                <a:cubicBezTo>
                  <a:pt x="10427" y="7395"/>
                  <a:pt x="10390" y="7420"/>
                  <a:pt x="10344" y="7441"/>
                </a:cubicBezTo>
                <a:cubicBezTo>
                  <a:pt x="10248" y="7486"/>
                  <a:pt x="10075" y="7485"/>
                  <a:pt x="9971" y="7491"/>
                </a:cubicBezTo>
                <a:cubicBezTo>
                  <a:pt x="9762" y="7503"/>
                  <a:pt x="9558" y="7492"/>
                  <a:pt x="9351" y="7516"/>
                </a:cubicBezTo>
                <a:cubicBezTo>
                  <a:pt x="9331" y="7518"/>
                  <a:pt x="9214" y="7527"/>
                  <a:pt x="9203" y="7541"/>
                </a:cubicBezTo>
                <a:cubicBezTo>
                  <a:pt x="9203" y="7565"/>
                  <a:pt x="9203" y="7573"/>
                  <a:pt x="9178" y="7565"/>
                </a:cubicBezTo>
              </a:path>
              <a:path w="3027" h="1514">
                <a:moveTo>
                  <a:pt x="9773" y="7640"/>
                </a:moveTo>
                <a:cubicBezTo>
                  <a:pt x="9816" y="7607"/>
                  <a:pt x="9840" y="7595"/>
                  <a:pt x="9897" y="7590"/>
                </a:cubicBezTo>
                <a:cubicBezTo>
                  <a:pt x="9949" y="7586"/>
                  <a:pt x="9992" y="7580"/>
                  <a:pt x="9996" y="7640"/>
                </a:cubicBezTo>
                <a:cubicBezTo>
                  <a:pt x="10003" y="7731"/>
                  <a:pt x="9958" y="7744"/>
                  <a:pt x="9897" y="7789"/>
                </a:cubicBezTo>
                <a:cubicBezTo>
                  <a:pt x="9862" y="7815"/>
                  <a:pt x="9839" y="7831"/>
                  <a:pt x="9823" y="7863"/>
                </a:cubicBezTo>
                <a:cubicBezTo>
                  <a:pt x="9847" y="7912"/>
                  <a:pt x="9912" y="7924"/>
                  <a:pt x="9971" y="7938"/>
                </a:cubicBezTo>
                <a:cubicBezTo>
                  <a:pt x="10012" y="7948"/>
                  <a:pt x="10035" y="7955"/>
                  <a:pt x="10046" y="7987"/>
                </a:cubicBezTo>
                <a:cubicBezTo>
                  <a:pt x="10032" y="8029"/>
                  <a:pt x="9976" y="8034"/>
                  <a:pt x="9922" y="8037"/>
                </a:cubicBezTo>
                <a:cubicBezTo>
                  <a:pt x="9848" y="8041"/>
                  <a:pt x="9773" y="8037"/>
                  <a:pt x="9699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70120" y="3840120"/>
            <a:ext cx="1160640" cy="411120"/>
          </a:xfrm>
          <a:custGeom>
            <a:avLst/>
            <a:gdLst/>
            <a:ahLst/>
            <a:rect l="l" t="t" r="r" b="b"/>
            <a:pathLst>
              <a:path w="3225" h="1142">
                <a:moveTo>
                  <a:pt x="7417" y="11658"/>
                </a:moveTo>
                <a:cubicBezTo>
                  <a:pt x="7417" y="11691"/>
                  <a:pt x="7417" y="11724"/>
                  <a:pt x="7417" y="11757"/>
                </a:cubicBezTo>
                <a:cubicBezTo>
                  <a:pt x="7417" y="11654"/>
                  <a:pt x="7430" y="11560"/>
                  <a:pt x="7441" y="11460"/>
                </a:cubicBezTo>
                <a:cubicBezTo>
                  <a:pt x="7450" y="11372"/>
                  <a:pt x="7435" y="11269"/>
                  <a:pt x="7466" y="11187"/>
                </a:cubicBezTo>
                <a:cubicBezTo>
                  <a:pt x="7474" y="11167"/>
                  <a:pt x="7500" y="11073"/>
                  <a:pt x="7516" y="11063"/>
                </a:cubicBezTo>
                <a:cubicBezTo>
                  <a:pt x="7541" y="11063"/>
                  <a:pt x="7549" y="11063"/>
                  <a:pt x="7541" y="11038"/>
                </a:cubicBezTo>
                <a:cubicBezTo>
                  <a:pt x="7562" y="11074"/>
                  <a:pt x="7582" y="11142"/>
                  <a:pt x="7590" y="11187"/>
                </a:cubicBezTo>
                <a:cubicBezTo>
                  <a:pt x="7599" y="11240"/>
                  <a:pt x="7605" y="11309"/>
                  <a:pt x="7665" y="11336"/>
                </a:cubicBezTo>
                <a:cubicBezTo>
                  <a:pt x="7673" y="11336"/>
                  <a:pt x="7681" y="11336"/>
                  <a:pt x="7689" y="11336"/>
                </a:cubicBezTo>
                <a:cubicBezTo>
                  <a:pt x="7734" y="11280"/>
                  <a:pt x="7760" y="11234"/>
                  <a:pt x="7764" y="11162"/>
                </a:cubicBezTo>
                <a:cubicBezTo>
                  <a:pt x="7766" y="11129"/>
                  <a:pt x="7764" y="11096"/>
                  <a:pt x="7764" y="11063"/>
                </a:cubicBezTo>
                <a:cubicBezTo>
                  <a:pt x="7796" y="11106"/>
                  <a:pt x="7812" y="11160"/>
                  <a:pt x="7838" y="11212"/>
                </a:cubicBezTo>
                <a:cubicBezTo>
                  <a:pt x="7853" y="11242"/>
                  <a:pt x="7915" y="11357"/>
                  <a:pt x="7962" y="11336"/>
                </a:cubicBezTo>
                <a:cubicBezTo>
                  <a:pt x="7970" y="11328"/>
                  <a:pt x="7979" y="11319"/>
                  <a:pt x="7987" y="11311"/>
                </a:cubicBezTo>
              </a:path>
              <a:path w="3225" h="1142">
                <a:moveTo>
                  <a:pt x="8607" y="11038"/>
                </a:moveTo>
                <a:cubicBezTo>
                  <a:pt x="8615" y="11030"/>
                  <a:pt x="8624" y="11021"/>
                  <a:pt x="8632" y="11013"/>
                </a:cubicBezTo>
                <a:cubicBezTo>
                  <a:pt x="8619" y="11053"/>
                  <a:pt x="8584" y="11038"/>
                  <a:pt x="8533" y="11038"/>
                </a:cubicBezTo>
                <a:cubicBezTo>
                  <a:pt x="8485" y="11038"/>
                  <a:pt x="8483" y="11041"/>
                  <a:pt x="8434" y="11063"/>
                </a:cubicBezTo>
              </a:path>
              <a:path w="3225" h="1142">
                <a:moveTo>
                  <a:pt x="8607" y="11137"/>
                </a:moveTo>
                <a:cubicBezTo>
                  <a:pt x="8630" y="11160"/>
                  <a:pt x="8634" y="11168"/>
                  <a:pt x="8657" y="11162"/>
                </a:cubicBezTo>
                <a:cubicBezTo>
                  <a:pt x="8645" y="11197"/>
                  <a:pt x="8650" y="11187"/>
                  <a:pt x="8607" y="11187"/>
                </a:cubicBezTo>
              </a:path>
              <a:path w="3225" h="1142">
                <a:moveTo>
                  <a:pt x="9153" y="10988"/>
                </a:moveTo>
                <a:cubicBezTo>
                  <a:pt x="9128" y="10988"/>
                  <a:pt x="9120" y="10988"/>
                  <a:pt x="9128" y="11013"/>
                </a:cubicBezTo>
                <a:cubicBezTo>
                  <a:pt x="9163" y="11001"/>
                  <a:pt x="9161" y="10988"/>
                  <a:pt x="9203" y="10964"/>
                </a:cubicBezTo>
                <a:cubicBezTo>
                  <a:pt x="9253" y="10936"/>
                  <a:pt x="9322" y="10927"/>
                  <a:pt x="9376" y="10914"/>
                </a:cubicBezTo>
                <a:cubicBezTo>
                  <a:pt x="9404" y="10914"/>
                  <a:pt x="9415" y="10916"/>
                  <a:pt x="9426" y="10939"/>
                </a:cubicBezTo>
                <a:cubicBezTo>
                  <a:pt x="9415" y="10983"/>
                  <a:pt x="9384" y="11025"/>
                  <a:pt x="9351" y="11063"/>
                </a:cubicBezTo>
                <a:cubicBezTo>
                  <a:pt x="9324" y="11094"/>
                  <a:pt x="9268" y="11150"/>
                  <a:pt x="9252" y="11187"/>
                </a:cubicBezTo>
                <a:cubicBezTo>
                  <a:pt x="9252" y="11195"/>
                  <a:pt x="9252" y="11204"/>
                  <a:pt x="9252" y="11212"/>
                </a:cubicBezTo>
                <a:cubicBezTo>
                  <a:pt x="9296" y="11212"/>
                  <a:pt x="9337" y="11202"/>
                  <a:pt x="9376" y="11187"/>
                </a:cubicBezTo>
                <a:cubicBezTo>
                  <a:pt x="9435" y="11163"/>
                  <a:pt x="9461" y="11162"/>
                  <a:pt x="9525" y="11162"/>
                </a:cubicBezTo>
                <a:cubicBezTo>
                  <a:pt x="9550" y="11162"/>
                  <a:pt x="9558" y="11162"/>
                  <a:pt x="9575" y="11162"/>
                </a:cubicBezTo>
              </a:path>
              <a:path w="3225" h="1142">
                <a:moveTo>
                  <a:pt x="9773" y="11038"/>
                </a:moveTo>
                <a:cubicBezTo>
                  <a:pt x="9821" y="11038"/>
                  <a:pt x="9879" y="11028"/>
                  <a:pt x="9922" y="11013"/>
                </a:cubicBezTo>
                <a:cubicBezTo>
                  <a:pt x="9982" y="10993"/>
                  <a:pt x="10006" y="10988"/>
                  <a:pt x="10071" y="10988"/>
                </a:cubicBezTo>
              </a:path>
              <a:path w="3225" h="1142">
                <a:moveTo>
                  <a:pt x="10368" y="10691"/>
                </a:moveTo>
                <a:cubicBezTo>
                  <a:pt x="10368" y="10624"/>
                  <a:pt x="10349" y="10775"/>
                  <a:pt x="10344" y="10790"/>
                </a:cubicBezTo>
                <a:cubicBezTo>
                  <a:pt x="10329" y="10834"/>
                  <a:pt x="10297" y="10913"/>
                  <a:pt x="10319" y="10964"/>
                </a:cubicBezTo>
                <a:cubicBezTo>
                  <a:pt x="10331" y="10993"/>
                  <a:pt x="10392" y="10997"/>
                  <a:pt x="10418" y="10988"/>
                </a:cubicBezTo>
                <a:cubicBezTo>
                  <a:pt x="10448" y="10978"/>
                  <a:pt x="10517" y="10953"/>
                  <a:pt x="10542" y="10939"/>
                </a:cubicBezTo>
                <a:cubicBezTo>
                  <a:pt x="10583" y="10916"/>
                  <a:pt x="10590" y="10914"/>
                  <a:pt x="10641" y="10914"/>
                </a:cubicBezTo>
              </a:path>
              <a:path w="3225" h="1142">
                <a:moveTo>
                  <a:pt x="10517" y="10790"/>
                </a:moveTo>
                <a:cubicBezTo>
                  <a:pt x="10509" y="10790"/>
                  <a:pt x="10500" y="10790"/>
                  <a:pt x="10492" y="10790"/>
                </a:cubicBezTo>
                <a:cubicBezTo>
                  <a:pt x="10492" y="10889"/>
                  <a:pt x="10492" y="10989"/>
                  <a:pt x="10492" y="11088"/>
                </a:cubicBezTo>
              </a:path>
              <a:path w="3225" h="1142">
                <a:moveTo>
                  <a:pt x="10641" y="11261"/>
                </a:moveTo>
                <a:cubicBezTo>
                  <a:pt x="10473" y="11261"/>
                  <a:pt x="10306" y="11266"/>
                  <a:pt x="10145" y="11286"/>
                </a:cubicBezTo>
                <a:cubicBezTo>
                  <a:pt x="10055" y="11297"/>
                  <a:pt x="9961" y="11308"/>
                  <a:pt x="9872" y="11311"/>
                </a:cubicBezTo>
                <a:cubicBezTo>
                  <a:pt x="9764" y="11315"/>
                  <a:pt x="9675" y="11313"/>
                  <a:pt x="9575" y="11336"/>
                </a:cubicBezTo>
                <a:cubicBezTo>
                  <a:pt x="9476" y="11359"/>
                  <a:pt x="9369" y="11333"/>
                  <a:pt x="9277" y="11361"/>
                </a:cubicBezTo>
                <a:cubicBezTo>
                  <a:pt x="9239" y="11372"/>
                  <a:pt x="9255" y="11381"/>
                  <a:pt x="9203" y="11385"/>
                </a:cubicBezTo>
                <a:cubicBezTo>
                  <a:pt x="9178" y="11385"/>
                  <a:pt x="9170" y="11385"/>
                  <a:pt x="9178" y="11410"/>
                </a:cubicBezTo>
              </a:path>
              <a:path w="3225" h="1142">
                <a:moveTo>
                  <a:pt x="10046" y="11509"/>
                </a:moveTo>
                <a:cubicBezTo>
                  <a:pt x="10046" y="11565"/>
                  <a:pt x="10064" y="11607"/>
                  <a:pt x="10071" y="11658"/>
                </a:cubicBezTo>
                <a:cubicBezTo>
                  <a:pt x="10081" y="11731"/>
                  <a:pt x="10061" y="11750"/>
                  <a:pt x="1009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52880" y="4616280"/>
            <a:ext cx="696960" cy="223920"/>
          </a:xfrm>
          <a:custGeom>
            <a:avLst/>
            <a:gdLst/>
            <a:ahLst/>
            <a:rect l="l" t="t" r="r" b="b"/>
            <a:pathLst>
              <a:path w="1936" h="621">
                <a:moveTo>
                  <a:pt x="8905" y="12948"/>
                </a:moveTo>
                <a:cubicBezTo>
                  <a:pt x="8938" y="12923"/>
                  <a:pt x="8965" y="12915"/>
                  <a:pt x="8979" y="12874"/>
                </a:cubicBezTo>
                <a:cubicBezTo>
                  <a:pt x="8979" y="12846"/>
                  <a:pt x="8977" y="12835"/>
                  <a:pt x="8954" y="12824"/>
                </a:cubicBezTo>
                <a:cubicBezTo>
                  <a:pt x="8898" y="12847"/>
                  <a:pt x="8833" y="12888"/>
                  <a:pt x="8806" y="12948"/>
                </a:cubicBezTo>
                <a:cubicBezTo>
                  <a:pt x="8760" y="13049"/>
                  <a:pt x="8727" y="13190"/>
                  <a:pt x="8781" y="13295"/>
                </a:cubicBezTo>
                <a:cubicBezTo>
                  <a:pt x="8819" y="13334"/>
                  <a:pt x="8821" y="13351"/>
                  <a:pt x="8855" y="13345"/>
                </a:cubicBezTo>
                <a:cubicBezTo>
                  <a:pt x="8897" y="13324"/>
                  <a:pt x="8916" y="13268"/>
                  <a:pt x="8930" y="13221"/>
                </a:cubicBezTo>
                <a:cubicBezTo>
                  <a:pt x="8930" y="13196"/>
                  <a:pt x="8930" y="13188"/>
                  <a:pt x="8954" y="13196"/>
                </a:cubicBezTo>
                <a:cubicBezTo>
                  <a:pt x="8979" y="13221"/>
                  <a:pt x="9004" y="13246"/>
                  <a:pt x="9029" y="13271"/>
                </a:cubicBezTo>
              </a:path>
              <a:path w="1936" h="621">
                <a:moveTo>
                  <a:pt x="9079" y="13221"/>
                </a:moveTo>
                <a:cubicBezTo>
                  <a:pt x="9131" y="13266"/>
                  <a:pt x="9147" y="13296"/>
                  <a:pt x="9203" y="13246"/>
                </a:cubicBezTo>
                <a:cubicBezTo>
                  <a:pt x="9231" y="13221"/>
                  <a:pt x="9237" y="13181"/>
                  <a:pt x="9252" y="13146"/>
                </a:cubicBezTo>
                <a:cubicBezTo>
                  <a:pt x="9213" y="13137"/>
                  <a:pt x="9187" y="13098"/>
                  <a:pt x="9153" y="13146"/>
                </a:cubicBezTo>
                <a:cubicBezTo>
                  <a:pt x="9105" y="13214"/>
                  <a:pt x="9135" y="13282"/>
                  <a:pt x="9178" y="13345"/>
                </a:cubicBezTo>
                <a:cubicBezTo>
                  <a:pt x="9205" y="13383"/>
                  <a:pt x="9282" y="13418"/>
                  <a:pt x="9327" y="13395"/>
                </a:cubicBezTo>
                <a:cubicBezTo>
                  <a:pt x="9335" y="13387"/>
                  <a:pt x="9343" y="13378"/>
                  <a:pt x="9351" y="13370"/>
                </a:cubicBezTo>
              </a:path>
              <a:path w="1936" h="621">
                <a:moveTo>
                  <a:pt x="9401" y="13246"/>
                </a:moveTo>
                <a:cubicBezTo>
                  <a:pt x="9401" y="13276"/>
                  <a:pt x="9401" y="13442"/>
                  <a:pt x="9401" y="13395"/>
                </a:cubicBezTo>
                <a:cubicBezTo>
                  <a:pt x="9401" y="13327"/>
                  <a:pt x="9430" y="13272"/>
                  <a:pt x="9475" y="13221"/>
                </a:cubicBezTo>
                <a:cubicBezTo>
                  <a:pt x="9520" y="13170"/>
                  <a:pt x="9569" y="13220"/>
                  <a:pt x="9599" y="13271"/>
                </a:cubicBezTo>
                <a:cubicBezTo>
                  <a:pt x="9613" y="13295"/>
                  <a:pt x="9618" y="13341"/>
                  <a:pt x="9624" y="13370"/>
                </a:cubicBezTo>
              </a:path>
              <a:path w="1936" h="621">
                <a:moveTo>
                  <a:pt x="9575" y="13320"/>
                </a:moveTo>
                <a:cubicBezTo>
                  <a:pt x="9614" y="13320"/>
                  <a:pt x="9730" y="13341"/>
                  <a:pt x="9748" y="13295"/>
                </a:cubicBezTo>
                <a:cubicBezTo>
                  <a:pt x="9748" y="13246"/>
                  <a:pt x="9748" y="13229"/>
                  <a:pt x="9748" y="13196"/>
                </a:cubicBezTo>
                <a:cubicBezTo>
                  <a:pt x="9696" y="13196"/>
                  <a:pt x="9666" y="13179"/>
                  <a:pt x="9649" y="13246"/>
                </a:cubicBezTo>
                <a:cubicBezTo>
                  <a:pt x="9634" y="13304"/>
                  <a:pt x="9648" y="13383"/>
                  <a:pt x="9699" y="13419"/>
                </a:cubicBezTo>
                <a:cubicBezTo>
                  <a:pt x="9756" y="13460"/>
                  <a:pt x="9795" y="13446"/>
                  <a:pt x="9847" y="13419"/>
                </a:cubicBezTo>
                <a:cubicBezTo>
                  <a:pt x="9864" y="13411"/>
                  <a:pt x="9880" y="13403"/>
                  <a:pt x="9897" y="13395"/>
                </a:cubicBezTo>
              </a:path>
              <a:path w="1936" h="621">
                <a:moveTo>
                  <a:pt x="9971" y="13370"/>
                </a:moveTo>
                <a:cubicBezTo>
                  <a:pt x="9971" y="13378"/>
                  <a:pt x="9971" y="13387"/>
                  <a:pt x="9971" y="13395"/>
                </a:cubicBezTo>
                <a:cubicBezTo>
                  <a:pt x="9971" y="13328"/>
                  <a:pt x="9951" y="13246"/>
                  <a:pt x="9996" y="13196"/>
                </a:cubicBezTo>
                <a:cubicBezTo>
                  <a:pt x="10037" y="13150"/>
                  <a:pt x="10050" y="13185"/>
                  <a:pt x="10096" y="13196"/>
                </a:cubicBezTo>
              </a:path>
              <a:path w="1936" h="621">
                <a:moveTo>
                  <a:pt x="10195" y="13246"/>
                </a:moveTo>
                <a:cubicBezTo>
                  <a:pt x="10179" y="13180"/>
                  <a:pt x="10166" y="13198"/>
                  <a:pt x="10145" y="13246"/>
                </a:cubicBezTo>
                <a:cubicBezTo>
                  <a:pt x="10117" y="13310"/>
                  <a:pt x="10111" y="13314"/>
                  <a:pt x="10145" y="13370"/>
                </a:cubicBezTo>
                <a:cubicBezTo>
                  <a:pt x="10202" y="13370"/>
                  <a:pt x="10216" y="13357"/>
                  <a:pt x="10220" y="13295"/>
                </a:cubicBezTo>
                <a:cubicBezTo>
                  <a:pt x="10220" y="13251"/>
                  <a:pt x="10217" y="13238"/>
                  <a:pt x="10244" y="13221"/>
                </a:cubicBezTo>
                <a:cubicBezTo>
                  <a:pt x="10262" y="13252"/>
                  <a:pt x="10305" y="13354"/>
                  <a:pt x="10344" y="13345"/>
                </a:cubicBezTo>
                <a:cubicBezTo>
                  <a:pt x="10450" y="13322"/>
                  <a:pt x="10466" y="13238"/>
                  <a:pt x="10492" y="13146"/>
                </a:cubicBezTo>
                <a:cubicBezTo>
                  <a:pt x="10520" y="13046"/>
                  <a:pt x="10531" y="12943"/>
                  <a:pt x="10567" y="12849"/>
                </a:cubicBezTo>
                <a:cubicBezTo>
                  <a:pt x="10579" y="12957"/>
                  <a:pt x="10614" y="13064"/>
                  <a:pt x="10641" y="13171"/>
                </a:cubicBezTo>
                <a:cubicBezTo>
                  <a:pt x="10662" y="13255"/>
                  <a:pt x="10663" y="13275"/>
                  <a:pt x="10691" y="133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00680" y="4572000"/>
            <a:ext cx="420480" cy="23184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11286" y="12898"/>
                </a:moveTo>
                <a:cubicBezTo>
                  <a:pt x="11322" y="12872"/>
                  <a:pt x="11355" y="12874"/>
                  <a:pt x="11361" y="12824"/>
                </a:cubicBezTo>
                <a:cubicBezTo>
                  <a:pt x="11366" y="12783"/>
                  <a:pt x="11363" y="12715"/>
                  <a:pt x="11311" y="12700"/>
                </a:cubicBezTo>
                <a:cubicBezTo>
                  <a:pt x="11227" y="12676"/>
                  <a:pt x="11218" y="12738"/>
                  <a:pt x="11187" y="12799"/>
                </a:cubicBezTo>
                <a:cubicBezTo>
                  <a:pt x="11142" y="12888"/>
                  <a:pt x="11162" y="12998"/>
                  <a:pt x="11162" y="13097"/>
                </a:cubicBezTo>
                <a:cubicBezTo>
                  <a:pt x="11162" y="13168"/>
                  <a:pt x="11187" y="13225"/>
                  <a:pt x="11187" y="13295"/>
                </a:cubicBezTo>
              </a:path>
              <a:path w="1167" h="646">
                <a:moveTo>
                  <a:pt x="11286" y="13097"/>
                </a:moveTo>
                <a:cubicBezTo>
                  <a:pt x="11286" y="13080"/>
                  <a:pt x="11286" y="13064"/>
                  <a:pt x="11286" y="13047"/>
                </a:cubicBezTo>
                <a:cubicBezTo>
                  <a:pt x="11230" y="13047"/>
                  <a:pt x="11206" y="13085"/>
                  <a:pt x="11162" y="13097"/>
                </a:cubicBezTo>
                <a:cubicBezTo>
                  <a:pt x="11145" y="13097"/>
                  <a:pt x="11129" y="13097"/>
                  <a:pt x="11112" y="13097"/>
                </a:cubicBezTo>
              </a:path>
              <a:path w="1167" h="646">
                <a:moveTo>
                  <a:pt x="11336" y="13097"/>
                </a:moveTo>
                <a:cubicBezTo>
                  <a:pt x="11380" y="13097"/>
                  <a:pt x="11375" y="13099"/>
                  <a:pt x="11410" y="13072"/>
                </a:cubicBezTo>
                <a:cubicBezTo>
                  <a:pt x="11454" y="13105"/>
                  <a:pt x="11488" y="13106"/>
                  <a:pt x="11509" y="13171"/>
                </a:cubicBezTo>
                <a:cubicBezTo>
                  <a:pt x="11526" y="13222"/>
                  <a:pt x="11512" y="13265"/>
                  <a:pt x="11460" y="13271"/>
                </a:cubicBezTo>
                <a:cubicBezTo>
                  <a:pt x="11434" y="13274"/>
                  <a:pt x="11371" y="13262"/>
                  <a:pt x="11361" y="13246"/>
                </a:cubicBezTo>
                <a:cubicBezTo>
                  <a:pt x="11361" y="13221"/>
                  <a:pt x="11361" y="13213"/>
                  <a:pt x="11361" y="13196"/>
                </a:cubicBezTo>
              </a:path>
              <a:path w="1167" h="646">
                <a:moveTo>
                  <a:pt x="11559" y="13196"/>
                </a:moveTo>
                <a:cubicBezTo>
                  <a:pt x="11579" y="13257"/>
                  <a:pt x="11577" y="13272"/>
                  <a:pt x="11609" y="13295"/>
                </a:cubicBezTo>
                <a:cubicBezTo>
                  <a:pt x="11609" y="13244"/>
                  <a:pt x="11593" y="13162"/>
                  <a:pt x="11633" y="13122"/>
                </a:cubicBezTo>
                <a:cubicBezTo>
                  <a:pt x="11643" y="13112"/>
                  <a:pt x="11691" y="13101"/>
                  <a:pt x="11708" y="13097"/>
                </a:cubicBezTo>
              </a:path>
              <a:path w="1167" h="646">
                <a:moveTo>
                  <a:pt x="11832" y="13146"/>
                </a:moveTo>
                <a:cubicBezTo>
                  <a:pt x="11832" y="13212"/>
                  <a:pt x="11832" y="13279"/>
                  <a:pt x="11832" y="13345"/>
                </a:cubicBezTo>
                <a:cubicBezTo>
                  <a:pt x="11867" y="13299"/>
                  <a:pt x="11874" y="13256"/>
                  <a:pt x="11881" y="13196"/>
                </a:cubicBezTo>
                <a:cubicBezTo>
                  <a:pt x="11953" y="13196"/>
                  <a:pt x="11935" y="13189"/>
                  <a:pt x="11981" y="13246"/>
                </a:cubicBezTo>
                <a:cubicBezTo>
                  <a:pt x="11989" y="13254"/>
                  <a:pt x="11997" y="13263"/>
                  <a:pt x="12005" y="13271"/>
                </a:cubicBezTo>
                <a:cubicBezTo>
                  <a:pt x="12052" y="13259"/>
                  <a:pt x="12105" y="13191"/>
                  <a:pt x="12129" y="13146"/>
                </a:cubicBezTo>
                <a:cubicBezTo>
                  <a:pt x="12148" y="13111"/>
                  <a:pt x="12159" y="13106"/>
                  <a:pt x="12204" y="13097"/>
                </a:cubicBezTo>
                <a:cubicBezTo>
                  <a:pt x="12239" y="13159"/>
                  <a:pt x="12264" y="13205"/>
                  <a:pt x="12278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83040" y="5072040"/>
            <a:ext cx="615960" cy="411120"/>
          </a:xfrm>
          <a:custGeom>
            <a:avLst/>
            <a:gdLst/>
            <a:ahLst/>
            <a:rect l="l" t="t" r="r" b="b"/>
            <a:pathLst>
              <a:path w="1712" h="1142">
                <a:moveTo>
                  <a:pt x="11112" y="14163"/>
                </a:moveTo>
                <a:cubicBezTo>
                  <a:pt x="11104" y="14171"/>
                  <a:pt x="11096" y="14180"/>
                  <a:pt x="11088" y="14188"/>
                </a:cubicBezTo>
                <a:cubicBezTo>
                  <a:pt x="11088" y="14153"/>
                  <a:pt x="11093" y="14102"/>
                  <a:pt x="11137" y="14089"/>
                </a:cubicBezTo>
                <a:cubicBezTo>
                  <a:pt x="11218" y="14066"/>
                  <a:pt x="11293" y="14173"/>
                  <a:pt x="11311" y="14238"/>
                </a:cubicBezTo>
                <a:cubicBezTo>
                  <a:pt x="11324" y="14286"/>
                  <a:pt x="11314" y="14431"/>
                  <a:pt x="11261" y="14461"/>
                </a:cubicBezTo>
                <a:cubicBezTo>
                  <a:pt x="11203" y="14494"/>
                  <a:pt x="11111" y="14436"/>
                  <a:pt x="11063" y="14412"/>
                </a:cubicBezTo>
              </a:path>
              <a:path w="1712" h="1142">
                <a:moveTo>
                  <a:pt x="11361" y="14139"/>
                </a:moveTo>
                <a:cubicBezTo>
                  <a:pt x="11402" y="14139"/>
                  <a:pt x="11410" y="14139"/>
                  <a:pt x="11435" y="14139"/>
                </a:cubicBezTo>
                <a:cubicBezTo>
                  <a:pt x="11399" y="14174"/>
                  <a:pt x="11348" y="14211"/>
                  <a:pt x="11336" y="14263"/>
                </a:cubicBezTo>
                <a:cubicBezTo>
                  <a:pt x="11323" y="14318"/>
                  <a:pt x="11322" y="14409"/>
                  <a:pt x="11385" y="14436"/>
                </a:cubicBezTo>
                <a:cubicBezTo>
                  <a:pt x="11418" y="14436"/>
                  <a:pt x="11435" y="14436"/>
                  <a:pt x="11460" y="14436"/>
                </a:cubicBezTo>
              </a:path>
              <a:path w="1712" h="1142">
                <a:moveTo>
                  <a:pt x="11708" y="14263"/>
                </a:moveTo>
                <a:cubicBezTo>
                  <a:pt x="11700" y="14271"/>
                  <a:pt x="11691" y="14280"/>
                  <a:pt x="11683" y="14288"/>
                </a:cubicBezTo>
                <a:cubicBezTo>
                  <a:pt x="11741" y="14330"/>
                  <a:pt x="11727" y="14299"/>
                  <a:pt x="11782" y="14288"/>
                </a:cubicBezTo>
                <a:cubicBezTo>
                  <a:pt x="11844" y="14275"/>
                  <a:pt x="11837" y="14284"/>
                  <a:pt x="11881" y="14238"/>
                </a:cubicBezTo>
              </a:path>
              <a:path w="1712" h="1142">
                <a:moveTo>
                  <a:pt x="12055" y="14213"/>
                </a:moveTo>
                <a:cubicBezTo>
                  <a:pt x="12062" y="14187"/>
                  <a:pt x="12076" y="14129"/>
                  <a:pt x="12105" y="14114"/>
                </a:cubicBezTo>
                <a:cubicBezTo>
                  <a:pt x="12156" y="14088"/>
                  <a:pt x="12216" y="14144"/>
                  <a:pt x="12229" y="14188"/>
                </a:cubicBezTo>
                <a:cubicBezTo>
                  <a:pt x="12243" y="14237"/>
                  <a:pt x="12235" y="14302"/>
                  <a:pt x="12204" y="14337"/>
                </a:cubicBezTo>
                <a:cubicBezTo>
                  <a:pt x="12159" y="14388"/>
                  <a:pt x="12134" y="14351"/>
                  <a:pt x="12080" y="14337"/>
                </a:cubicBezTo>
                <a:cubicBezTo>
                  <a:pt x="12072" y="14337"/>
                  <a:pt x="12063" y="14337"/>
                  <a:pt x="12055" y="14337"/>
                </a:cubicBezTo>
              </a:path>
              <a:path w="1712" h="1142">
                <a:moveTo>
                  <a:pt x="12278" y="14139"/>
                </a:moveTo>
                <a:cubicBezTo>
                  <a:pt x="12295" y="14122"/>
                  <a:pt x="12311" y="14106"/>
                  <a:pt x="12328" y="14089"/>
                </a:cubicBezTo>
                <a:cubicBezTo>
                  <a:pt x="12274" y="14143"/>
                  <a:pt x="12258" y="14184"/>
                  <a:pt x="12254" y="14263"/>
                </a:cubicBezTo>
                <a:cubicBezTo>
                  <a:pt x="12252" y="14308"/>
                  <a:pt x="12274" y="14397"/>
                  <a:pt x="12328" y="14412"/>
                </a:cubicBezTo>
                <a:cubicBezTo>
                  <a:pt x="12369" y="14412"/>
                  <a:pt x="12377" y="14412"/>
                  <a:pt x="12402" y="14412"/>
                </a:cubicBezTo>
              </a:path>
              <a:path w="1712" h="1142">
                <a:moveTo>
                  <a:pt x="12551" y="14362"/>
                </a:moveTo>
                <a:cubicBezTo>
                  <a:pt x="12561" y="14320"/>
                  <a:pt x="12579" y="14293"/>
                  <a:pt x="12626" y="14288"/>
                </a:cubicBezTo>
                <a:cubicBezTo>
                  <a:pt x="12679" y="14282"/>
                  <a:pt x="12696" y="14345"/>
                  <a:pt x="12700" y="14387"/>
                </a:cubicBezTo>
                <a:cubicBezTo>
                  <a:pt x="12708" y="14463"/>
                  <a:pt x="12609" y="14445"/>
                  <a:pt x="12576" y="14436"/>
                </a:cubicBezTo>
              </a:path>
              <a:path w="1712" h="1142">
                <a:moveTo>
                  <a:pt x="12774" y="14560"/>
                </a:moveTo>
                <a:cubicBezTo>
                  <a:pt x="12743" y="14576"/>
                  <a:pt x="12744" y="14585"/>
                  <a:pt x="12675" y="14585"/>
                </a:cubicBezTo>
                <a:cubicBezTo>
                  <a:pt x="12570" y="14585"/>
                  <a:pt x="12479" y="14600"/>
                  <a:pt x="12378" y="14610"/>
                </a:cubicBezTo>
                <a:cubicBezTo>
                  <a:pt x="12308" y="14617"/>
                  <a:pt x="12247" y="14631"/>
                  <a:pt x="12179" y="14635"/>
                </a:cubicBezTo>
                <a:cubicBezTo>
                  <a:pt x="12081" y="14640"/>
                  <a:pt x="11999" y="14623"/>
                  <a:pt x="11906" y="14610"/>
                </a:cubicBezTo>
                <a:cubicBezTo>
                  <a:pt x="11832" y="14600"/>
                  <a:pt x="11752" y="14617"/>
                  <a:pt x="11683" y="14635"/>
                </a:cubicBezTo>
                <a:cubicBezTo>
                  <a:pt x="11609" y="14654"/>
                  <a:pt x="11560" y="14660"/>
                  <a:pt x="11485" y="14660"/>
                </a:cubicBezTo>
                <a:cubicBezTo>
                  <a:pt x="11418" y="14660"/>
                  <a:pt x="11347" y="14663"/>
                  <a:pt x="11286" y="14684"/>
                </a:cubicBezTo>
                <a:cubicBezTo>
                  <a:pt x="11242" y="14699"/>
                  <a:pt x="11215" y="14706"/>
                  <a:pt x="11162" y="14709"/>
                </a:cubicBezTo>
                <a:cubicBezTo>
                  <a:pt x="11137" y="14709"/>
                  <a:pt x="11129" y="14709"/>
                  <a:pt x="11112" y="14709"/>
                </a:cubicBezTo>
              </a:path>
              <a:path w="1712" h="1142">
                <a:moveTo>
                  <a:pt x="11708" y="15180"/>
                </a:moveTo>
                <a:cubicBezTo>
                  <a:pt x="11685" y="15203"/>
                  <a:pt x="11677" y="15207"/>
                  <a:pt x="11683" y="15230"/>
                </a:cubicBezTo>
                <a:cubicBezTo>
                  <a:pt x="11745" y="15215"/>
                  <a:pt x="11743" y="15178"/>
                  <a:pt x="11782" y="15131"/>
                </a:cubicBezTo>
                <a:cubicBezTo>
                  <a:pt x="11843" y="15057"/>
                  <a:pt x="11910" y="14981"/>
                  <a:pt x="11931" y="14883"/>
                </a:cubicBezTo>
                <a:cubicBezTo>
                  <a:pt x="11931" y="14841"/>
                  <a:pt x="11931" y="14833"/>
                  <a:pt x="11931" y="14808"/>
                </a:cubicBezTo>
                <a:cubicBezTo>
                  <a:pt x="11855" y="14827"/>
                  <a:pt x="11842" y="14862"/>
                  <a:pt x="11807" y="14932"/>
                </a:cubicBezTo>
                <a:cubicBezTo>
                  <a:pt x="11766" y="15013"/>
                  <a:pt x="11780" y="15082"/>
                  <a:pt x="11832" y="15156"/>
                </a:cubicBezTo>
                <a:cubicBezTo>
                  <a:pt x="11880" y="15224"/>
                  <a:pt x="11943" y="15207"/>
                  <a:pt x="12005" y="15180"/>
                </a:cubicBezTo>
                <a:cubicBezTo>
                  <a:pt x="12022" y="15172"/>
                  <a:pt x="12038" y="15164"/>
                  <a:pt x="12055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67200" y="5106960"/>
            <a:ext cx="839880" cy="393840"/>
          </a:xfrm>
          <a:custGeom>
            <a:avLst/>
            <a:gdLst/>
            <a:ahLst/>
            <a:rect l="l" t="t" r="r" b="b"/>
            <a:pathLst>
              <a:path w="2332" h="1093">
                <a:moveTo>
                  <a:pt x="13568" y="14610"/>
                </a:moveTo>
                <a:cubicBezTo>
                  <a:pt x="13601" y="14610"/>
                  <a:pt x="13634" y="14610"/>
                  <a:pt x="13667" y="14610"/>
                </a:cubicBezTo>
                <a:cubicBezTo>
                  <a:pt x="13617" y="14610"/>
                  <a:pt x="13609" y="14621"/>
                  <a:pt x="13568" y="14635"/>
                </a:cubicBezTo>
                <a:cubicBezTo>
                  <a:pt x="13543" y="14635"/>
                  <a:pt x="13535" y="14635"/>
                  <a:pt x="13519" y="14635"/>
                </a:cubicBezTo>
              </a:path>
              <a:path w="2332" h="1093">
                <a:moveTo>
                  <a:pt x="13568" y="14610"/>
                </a:moveTo>
                <a:cubicBezTo>
                  <a:pt x="13624" y="14665"/>
                  <a:pt x="13649" y="14663"/>
                  <a:pt x="13643" y="14709"/>
                </a:cubicBezTo>
                <a:cubicBezTo>
                  <a:pt x="13605" y="14737"/>
                  <a:pt x="13581" y="14731"/>
                  <a:pt x="13543" y="14759"/>
                </a:cubicBezTo>
              </a:path>
              <a:path w="2332" h="1093">
                <a:moveTo>
                  <a:pt x="14312" y="14288"/>
                </a:moveTo>
                <a:cubicBezTo>
                  <a:pt x="14312" y="14238"/>
                  <a:pt x="14312" y="14337"/>
                  <a:pt x="14312" y="14387"/>
                </a:cubicBezTo>
                <a:cubicBezTo>
                  <a:pt x="14312" y="14458"/>
                  <a:pt x="14343" y="14507"/>
                  <a:pt x="14387" y="14560"/>
                </a:cubicBezTo>
                <a:cubicBezTo>
                  <a:pt x="14451" y="14528"/>
                  <a:pt x="14440" y="14476"/>
                  <a:pt x="14461" y="14412"/>
                </a:cubicBezTo>
                <a:cubicBezTo>
                  <a:pt x="14469" y="14395"/>
                  <a:pt x="14478" y="14379"/>
                  <a:pt x="14486" y="14362"/>
                </a:cubicBezTo>
                <a:cubicBezTo>
                  <a:pt x="14553" y="14445"/>
                  <a:pt x="14542" y="14482"/>
                  <a:pt x="14560" y="14585"/>
                </a:cubicBezTo>
                <a:cubicBezTo>
                  <a:pt x="14573" y="14659"/>
                  <a:pt x="14603" y="14812"/>
                  <a:pt x="14511" y="14858"/>
                </a:cubicBezTo>
                <a:cubicBezTo>
                  <a:pt x="14463" y="14882"/>
                  <a:pt x="14324" y="14862"/>
                  <a:pt x="14288" y="14833"/>
                </a:cubicBezTo>
                <a:cubicBezTo>
                  <a:pt x="14266" y="14811"/>
                  <a:pt x="14257" y="14806"/>
                  <a:pt x="14263" y="14784"/>
                </a:cubicBezTo>
              </a:path>
              <a:path w="2332" h="1093">
                <a:moveTo>
                  <a:pt x="14808" y="14412"/>
                </a:moveTo>
                <a:cubicBezTo>
                  <a:pt x="14808" y="14404"/>
                  <a:pt x="14808" y="14395"/>
                  <a:pt x="14808" y="14387"/>
                </a:cubicBezTo>
                <a:cubicBezTo>
                  <a:pt x="14855" y="14387"/>
                  <a:pt x="14871" y="14370"/>
                  <a:pt x="14908" y="14362"/>
                </a:cubicBezTo>
                <a:cubicBezTo>
                  <a:pt x="14962" y="14350"/>
                  <a:pt x="15007" y="14350"/>
                  <a:pt x="15056" y="14337"/>
                </a:cubicBezTo>
              </a:path>
              <a:path w="2332" h="1093">
                <a:moveTo>
                  <a:pt x="15230" y="14188"/>
                </a:moveTo>
                <a:cubicBezTo>
                  <a:pt x="15230" y="14253"/>
                  <a:pt x="15253" y="14303"/>
                  <a:pt x="15280" y="14362"/>
                </a:cubicBezTo>
                <a:cubicBezTo>
                  <a:pt x="15313" y="14433"/>
                  <a:pt x="15325" y="14507"/>
                  <a:pt x="15379" y="14412"/>
                </a:cubicBezTo>
                <a:cubicBezTo>
                  <a:pt x="15399" y="14371"/>
                  <a:pt x="15408" y="14365"/>
                  <a:pt x="15404" y="14337"/>
                </a:cubicBezTo>
                <a:cubicBezTo>
                  <a:pt x="15412" y="14329"/>
                  <a:pt x="15421" y="14320"/>
                  <a:pt x="15429" y="14312"/>
                </a:cubicBezTo>
                <a:cubicBezTo>
                  <a:pt x="15459" y="14343"/>
                  <a:pt x="15495" y="14514"/>
                  <a:pt x="15503" y="14585"/>
                </a:cubicBezTo>
                <a:cubicBezTo>
                  <a:pt x="15513" y="14671"/>
                  <a:pt x="15537" y="14826"/>
                  <a:pt x="15429" y="14858"/>
                </a:cubicBezTo>
                <a:cubicBezTo>
                  <a:pt x="15353" y="14880"/>
                  <a:pt x="15276" y="14843"/>
                  <a:pt x="15230" y="14784"/>
                </a:cubicBezTo>
                <a:cubicBezTo>
                  <a:pt x="15202" y="14729"/>
                  <a:pt x="15194" y="14706"/>
                  <a:pt x="15205" y="14660"/>
                </a:cubicBezTo>
              </a:path>
              <a:path w="2332" h="1093">
                <a:moveTo>
                  <a:pt x="15677" y="14585"/>
                </a:moveTo>
                <a:cubicBezTo>
                  <a:pt x="15677" y="14540"/>
                  <a:pt x="15675" y="14517"/>
                  <a:pt x="15726" y="14511"/>
                </a:cubicBezTo>
                <a:cubicBezTo>
                  <a:pt x="15772" y="14506"/>
                  <a:pt x="15751" y="14575"/>
                  <a:pt x="15751" y="14610"/>
                </a:cubicBezTo>
                <a:cubicBezTo>
                  <a:pt x="15722" y="14603"/>
                  <a:pt x="15706" y="14593"/>
                  <a:pt x="15677" y="14585"/>
                </a:cubicBezTo>
              </a:path>
              <a:path w="2332" h="1093">
                <a:moveTo>
                  <a:pt x="15850" y="14883"/>
                </a:moveTo>
                <a:cubicBezTo>
                  <a:pt x="15818" y="14875"/>
                  <a:pt x="15783" y="14870"/>
                  <a:pt x="15751" y="14858"/>
                </a:cubicBezTo>
                <a:cubicBezTo>
                  <a:pt x="15670" y="14829"/>
                  <a:pt x="15587" y="14812"/>
                  <a:pt x="15503" y="14784"/>
                </a:cubicBezTo>
                <a:cubicBezTo>
                  <a:pt x="15402" y="14750"/>
                  <a:pt x="15287" y="14738"/>
                  <a:pt x="15180" y="14734"/>
                </a:cubicBezTo>
                <a:cubicBezTo>
                  <a:pt x="15058" y="14730"/>
                  <a:pt x="14950" y="14742"/>
                  <a:pt x="14833" y="14759"/>
                </a:cubicBezTo>
                <a:cubicBezTo>
                  <a:pt x="14698" y="14778"/>
                  <a:pt x="14549" y="14759"/>
                  <a:pt x="14412" y="14759"/>
                </a:cubicBezTo>
              </a:path>
              <a:path w="2332" h="1093">
                <a:moveTo>
                  <a:pt x="14858" y="15131"/>
                </a:moveTo>
                <a:cubicBezTo>
                  <a:pt x="14858" y="15176"/>
                  <a:pt x="14838" y="15189"/>
                  <a:pt x="14833" y="15230"/>
                </a:cubicBezTo>
                <a:cubicBezTo>
                  <a:pt x="14833" y="15255"/>
                  <a:pt x="14833" y="15263"/>
                  <a:pt x="14833" y="15280"/>
                </a:cubicBezTo>
                <a:cubicBezTo>
                  <a:pt x="14882" y="15268"/>
                  <a:pt x="14894" y="15233"/>
                  <a:pt x="14908" y="15180"/>
                </a:cubicBezTo>
                <a:cubicBezTo>
                  <a:pt x="14908" y="15152"/>
                  <a:pt x="14910" y="15142"/>
                  <a:pt x="14932" y="15131"/>
                </a:cubicBezTo>
                <a:cubicBezTo>
                  <a:pt x="14968" y="15143"/>
                  <a:pt x="14965" y="15166"/>
                  <a:pt x="14982" y="15205"/>
                </a:cubicBezTo>
                <a:cubicBezTo>
                  <a:pt x="14997" y="15241"/>
                  <a:pt x="15049" y="15295"/>
                  <a:pt x="15081" y="15230"/>
                </a:cubicBezTo>
                <a:cubicBezTo>
                  <a:pt x="15096" y="15200"/>
                  <a:pt x="15116" y="15149"/>
                  <a:pt x="15156" y="15131"/>
                </a:cubicBezTo>
                <a:cubicBezTo>
                  <a:pt x="15207" y="15108"/>
                  <a:pt x="15220" y="15165"/>
                  <a:pt x="15255" y="15180"/>
                </a:cubicBezTo>
                <a:cubicBezTo>
                  <a:pt x="15301" y="15200"/>
                  <a:pt x="15304" y="15200"/>
                  <a:pt x="15304" y="152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72120" y="5160960"/>
            <a:ext cx="795240" cy="357120"/>
          </a:xfrm>
          <a:custGeom>
            <a:avLst/>
            <a:gdLst/>
            <a:ahLst/>
            <a:rect l="l" t="t" r="r" b="b"/>
            <a:pathLst>
              <a:path w="2209" h="993">
                <a:moveTo>
                  <a:pt x="17016" y="14709"/>
                </a:moveTo>
                <a:cubicBezTo>
                  <a:pt x="17024" y="14709"/>
                  <a:pt x="17033" y="14709"/>
                  <a:pt x="17041" y="14709"/>
                </a:cubicBezTo>
                <a:cubicBezTo>
                  <a:pt x="16983" y="14709"/>
                  <a:pt x="16925" y="14709"/>
                  <a:pt x="16867" y="14709"/>
                </a:cubicBezTo>
              </a:path>
              <a:path w="2209" h="993">
                <a:moveTo>
                  <a:pt x="17016" y="14808"/>
                </a:moveTo>
                <a:cubicBezTo>
                  <a:pt x="17039" y="14831"/>
                  <a:pt x="17047" y="14835"/>
                  <a:pt x="17041" y="14858"/>
                </a:cubicBezTo>
                <a:cubicBezTo>
                  <a:pt x="17008" y="14858"/>
                  <a:pt x="16975" y="14858"/>
                  <a:pt x="16942" y="14858"/>
                </a:cubicBezTo>
              </a:path>
              <a:path w="2209" h="993">
                <a:moveTo>
                  <a:pt x="17661" y="14387"/>
                </a:moveTo>
                <a:cubicBezTo>
                  <a:pt x="17616" y="14398"/>
                  <a:pt x="17627" y="14419"/>
                  <a:pt x="17611" y="14387"/>
                </a:cubicBezTo>
                <a:cubicBezTo>
                  <a:pt x="17654" y="14387"/>
                  <a:pt x="17786" y="14365"/>
                  <a:pt x="17810" y="14412"/>
                </a:cubicBezTo>
                <a:cubicBezTo>
                  <a:pt x="17833" y="14457"/>
                  <a:pt x="17787" y="14527"/>
                  <a:pt x="17760" y="14560"/>
                </a:cubicBezTo>
                <a:cubicBezTo>
                  <a:pt x="17716" y="14614"/>
                  <a:pt x="17668" y="14635"/>
                  <a:pt x="17661" y="14709"/>
                </a:cubicBezTo>
                <a:cubicBezTo>
                  <a:pt x="17660" y="14717"/>
                  <a:pt x="17680" y="14732"/>
                  <a:pt x="17735" y="14709"/>
                </a:cubicBezTo>
                <a:cubicBezTo>
                  <a:pt x="17777" y="14691"/>
                  <a:pt x="17784" y="14684"/>
                  <a:pt x="17835" y="14684"/>
                </a:cubicBezTo>
                <a:cubicBezTo>
                  <a:pt x="17877" y="14684"/>
                  <a:pt x="17872" y="14674"/>
                  <a:pt x="17884" y="14709"/>
                </a:cubicBezTo>
              </a:path>
              <a:path w="2209" h="993">
                <a:moveTo>
                  <a:pt x="18033" y="14585"/>
                </a:moveTo>
                <a:cubicBezTo>
                  <a:pt x="18056" y="14608"/>
                  <a:pt x="18060" y="14616"/>
                  <a:pt x="18083" y="14610"/>
                </a:cubicBezTo>
                <a:cubicBezTo>
                  <a:pt x="18098" y="14587"/>
                  <a:pt x="18140" y="14565"/>
                  <a:pt x="18182" y="14560"/>
                </a:cubicBezTo>
                <a:cubicBezTo>
                  <a:pt x="18190" y="14560"/>
                  <a:pt x="18199" y="14560"/>
                  <a:pt x="18207" y="14560"/>
                </a:cubicBezTo>
              </a:path>
              <a:path w="2209" h="993">
                <a:moveTo>
                  <a:pt x="18430" y="14387"/>
                </a:moveTo>
                <a:cubicBezTo>
                  <a:pt x="18367" y="14387"/>
                  <a:pt x="18471" y="14375"/>
                  <a:pt x="18479" y="14362"/>
                </a:cubicBezTo>
                <a:cubicBezTo>
                  <a:pt x="18489" y="14346"/>
                  <a:pt x="18515" y="14315"/>
                  <a:pt x="18554" y="14337"/>
                </a:cubicBezTo>
                <a:cubicBezTo>
                  <a:pt x="18582" y="14352"/>
                  <a:pt x="18595" y="14435"/>
                  <a:pt x="18579" y="14461"/>
                </a:cubicBezTo>
                <a:cubicBezTo>
                  <a:pt x="18547" y="14515"/>
                  <a:pt x="18491" y="14582"/>
                  <a:pt x="18455" y="14635"/>
                </a:cubicBezTo>
                <a:cubicBezTo>
                  <a:pt x="18431" y="14671"/>
                  <a:pt x="18414" y="14690"/>
                  <a:pt x="18405" y="14734"/>
                </a:cubicBezTo>
                <a:cubicBezTo>
                  <a:pt x="18463" y="14734"/>
                  <a:pt x="18508" y="14718"/>
                  <a:pt x="18554" y="14709"/>
                </a:cubicBezTo>
                <a:cubicBezTo>
                  <a:pt x="18605" y="14699"/>
                  <a:pt x="18633" y="14695"/>
                  <a:pt x="18678" y="14684"/>
                </a:cubicBezTo>
              </a:path>
              <a:path w="2209" h="993">
                <a:moveTo>
                  <a:pt x="18802" y="14610"/>
                </a:moveTo>
                <a:cubicBezTo>
                  <a:pt x="18794" y="14610"/>
                  <a:pt x="18785" y="14610"/>
                  <a:pt x="18777" y="14610"/>
                </a:cubicBezTo>
                <a:cubicBezTo>
                  <a:pt x="18786" y="14572"/>
                  <a:pt x="18813" y="14549"/>
                  <a:pt x="18852" y="14536"/>
                </a:cubicBezTo>
                <a:cubicBezTo>
                  <a:pt x="18905" y="14519"/>
                  <a:pt x="18913" y="14605"/>
                  <a:pt x="18901" y="14635"/>
                </a:cubicBezTo>
                <a:cubicBezTo>
                  <a:pt x="18887" y="14667"/>
                  <a:pt x="18868" y="14698"/>
                  <a:pt x="18827" y="14684"/>
                </a:cubicBezTo>
                <a:cubicBezTo>
                  <a:pt x="18810" y="14676"/>
                  <a:pt x="18794" y="14668"/>
                  <a:pt x="18777" y="14660"/>
                </a:cubicBezTo>
              </a:path>
              <a:path w="2209" h="993">
                <a:moveTo>
                  <a:pt x="19075" y="14932"/>
                </a:moveTo>
                <a:cubicBezTo>
                  <a:pt x="19057" y="14880"/>
                  <a:pt x="19042" y="14932"/>
                  <a:pt x="19000" y="14908"/>
                </a:cubicBezTo>
                <a:cubicBezTo>
                  <a:pt x="18939" y="14873"/>
                  <a:pt x="18878" y="14883"/>
                  <a:pt x="18802" y="14883"/>
                </a:cubicBezTo>
                <a:cubicBezTo>
                  <a:pt x="18730" y="14883"/>
                  <a:pt x="18627" y="14872"/>
                  <a:pt x="18554" y="14858"/>
                </a:cubicBezTo>
                <a:cubicBezTo>
                  <a:pt x="18451" y="14839"/>
                  <a:pt x="18363" y="14833"/>
                  <a:pt x="18256" y="14833"/>
                </a:cubicBezTo>
                <a:cubicBezTo>
                  <a:pt x="18175" y="14833"/>
                  <a:pt x="17709" y="14788"/>
                  <a:pt x="17686" y="14858"/>
                </a:cubicBezTo>
              </a:path>
              <a:path w="2209" h="993">
                <a:moveTo>
                  <a:pt x="18132" y="15156"/>
                </a:moveTo>
                <a:cubicBezTo>
                  <a:pt x="18132" y="15084"/>
                  <a:pt x="18137" y="15241"/>
                  <a:pt x="18132" y="15255"/>
                </a:cubicBezTo>
                <a:cubicBezTo>
                  <a:pt x="18112" y="15295"/>
                  <a:pt x="18103" y="15301"/>
                  <a:pt x="18107" y="15329"/>
                </a:cubicBezTo>
                <a:cubicBezTo>
                  <a:pt x="18144" y="15317"/>
                  <a:pt x="18158" y="15252"/>
                  <a:pt x="18182" y="15205"/>
                </a:cubicBezTo>
                <a:cubicBezTo>
                  <a:pt x="18222" y="15127"/>
                  <a:pt x="18251" y="15072"/>
                  <a:pt x="18331" y="15106"/>
                </a:cubicBezTo>
                <a:cubicBezTo>
                  <a:pt x="18409" y="15139"/>
                  <a:pt x="18420" y="15229"/>
                  <a:pt x="18430" y="153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52840" y="5715000"/>
            <a:ext cx="1098360" cy="330120"/>
          </a:xfrm>
          <a:custGeom>
            <a:avLst/>
            <a:gdLst/>
            <a:ahLst/>
            <a:rect l="l" t="t" r="r" b="b"/>
            <a:pathLst>
              <a:path w="3052" h="919">
                <a:moveTo>
                  <a:pt x="7689" y="16247"/>
                </a:moveTo>
                <a:cubicBezTo>
                  <a:pt x="7654" y="16274"/>
                  <a:pt x="7659" y="16272"/>
                  <a:pt x="7615" y="16272"/>
                </a:cubicBezTo>
                <a:cubicBezTo>
                  <a:pt x="7615" y="16226"/>
                  <a:pt x="7609" y="16208"/>
                  <a:pt x="7640" y="16173"/>
                </a:cubicBezTo>
                <a:cubicBezTo>
                  <a:pt x="7706" y="16100"/>
                  <a:pt x="7748" y="16116"/>
                  <a:pt x="7813" y="16173"/>
                </a:cubicBezTo>
                <a:cubicBezTo>
                  <a:pt x="7878" y="16231"/>
                  <a:pt x="7907" y="16312"/>
                  <a:pt x="7913" y="16396"/>
                </a:cubicBezTo>
                <a:cubicBezTo>
                  <a:pt x="7917" y="16449"/>
                  <a:pt x="7829" y="16458"/>
                  <a:pt x="7789" y="16446"/>
                </a:cubicBezTo>
                <a:cubicBezTo>
                  <a:pt x="7742" y="16432"/>
                  <a:pt x="7701" y="16401"/>
                  <a:pt x="7665" y="16371"/>
                </a:cubicBezTo>
              </a:path>
              <a:path w="3052" h="919">
                <a:moveTo>
                  <a:pt x="7938" y="16173"/>
                </a:moveTo>
                <a:cubicBezTo>
                  <a:pt x="7976" y="16134"/>
                  <a:pt x="8008" y="16117"/>
                  <a:pt x="7962" y="16123"/>
                </a:cubicBezTo>
                <a:cubicBezTo>
                  <a:pt x="7935" y="16171"/>
                  <a:pt x="7891" y="16215"/>
                  <a:pt x="7888" y="16272"/>
                </a:cubicBezTo>
                <a:cubicBezTo>
                  <a:pt x="7884" y="16354"/>
                  <a:pt x="7874" y="16411"/>
                  <a:pt x="7962" y="16421"/>
                </a:cubicBezTo>
                <a:cubicBezTo>
                  <a:pt x="8004" y="16421"/>
                  <a:pt x="8012" y="16421"/>
                  <a:pt x="8037" y="16421"/>
                </a:cubicBezTo>
              </a:path>
              <a:path w="3052" h="919">
                <a:moveTo>
                  <a:pt x="8210" y="16371"/>
                </a:moveTo>
                <a:cubicBezTo>
                  <a:pt x="8223" y="16318"/>
                  <a:pt x="8241" y="16307"/>
                  <a:pt x="8285" y="16346"/>
                </a:cubicBezTo>
                <a:cubicBezTo>
                  <a:pt x="8329" y="16385"/>
                  <a:pt x="8321" y="16442"/>
                  <a:pt x="8260" y="16446"/>
                </a:cubicBezTo>
                <a:cubicBezTo>
                  <a:pt x="8220" y="16449"/>
                  <a:pt x="8176" y="16446"/>
                  <a:pt x="8136" y="16446"/>
                </a:cubicBezTo>
              </a:path>
              <a:path w="3052" h="919">
                <a:moveTo>
                  <a:pt x="8458" y="16421"/>
                </a:moveTo>
                <a:cubicBezTo>
                  <a:pt x="8499" y="16468"/>
                  <a:pt x="8536" y="16521"/>
                  <a:pt x="8508" y="16594"/>
                </a:cubicBezTo>
                <a:cubicBezTo>
                  <a:pt x="8495" y="16628"/>
                  <a:pt x="8458" y="16656"/>
                  <a:pt x="8434" y="16669"/>
                </a:cubicBezTo>
              </a:path>
              <a:path w="3052" h="919">
                <a:moveTo>
                  <a:pt x="8731" y="16222"/>
                </a:moveTo>
                <a:cubicBezTo>
                  <a:pt x="8731" y="16214"/>
                  <a:pt x="8731" y="16205"/>
                  <a:pt x="8731" y="16197"/>
                </a:cubicBezTo>
                <a:cubicBezTo>
                  <a:pt x="8693" y="16210"/>
                  <a:pt x="8695" y="16272"/>
                  <a:pt x="8706" y="16321"/>
                </a:cubicBezTo>
                <a:cubicBezTo>
                  <a:pt x="8718" y="16375"/>
                  <a:pt x="8743" y="16433"/>
                  <a:pt x="8781" y="16446"/>
                </a:cubicBezTo>
                <a:cubicBezTo>
                  <a:pt x="8809" y="16389"/>
                  <a:pt x="8839" y="16325"/>
                  <a:pt x="8855" y="16272"/>
                </a:cubicBezTo>
                <a:cubicBezTo>
                  <a:pt x="8855" y="16264"/>
                  <a:pt x="8855" y="16255"/>
                  <a:pt x="8855" y="16247"/>
                </a:cubicBezTo>
                <a:cubicBezTo>
                  <a:pt x="8931" y="16291"/>
                  <a:pt x="8972" y="16361"/>
                  <a:pt x="9004" y="16446"/>
                </a:cubicBezTo>
                <a:cubicBezTo>
                  <a:pt x="9029" y="16513"/>
                  <a:pt x="9066" y="16681"/>
                  <a:pt x="9004" y="16743"/>
                </a:cubicBezTo>
                <a:cubicBezTo>
                  <a:pt x="8947" y="16800"/>
                  <a:pt x="8898" y="16799"/>
                  <a:pt x="8830" y="16768"/>
                </a:cubicBezTo>
                <a:cubicBezTo>
                  <a:pt x="8781" y="16743"/>
                  <a:pt x="8765" y="16735"/>
                  <a:pt x="8756" y="16694"/>
                </a:cubicBezTo>
              </a:path>
              <a:path w="3052" h="919">
                <a:moveTo>
                  <a:pt x="9128" y="16495"/>
                </a:moveTo>
                <a:cubicBezTo>
                  <a:pt x="9112" y="16463"/>
                  <a:pt x="9107" y="16427"/>
                  <a:pt x="9153" y="16421"/>
                </a:cubicBezTo>
                <a:cubicBezTo>
                  <a:pt x="9178" y="16421"/>
                  <a:pt x="9186" y="16421"/>
                  <a:pt x="9203" y="16421"/>
                </a:cubicBezTo>
                <a:cubicBezTo>
                  <a:pt x="9203" y="16494"/>
                  <a:pt x="9232" y="16566"/>
                  <a:pt x="9153" y="16594"/>
                </a:cubicBezTo>
                <a:cubicBezTo>
                  <a:pt x="9128" y="16594"/>
                  <a:pt x="9120" y="16594"/>
                  <a:pt x="9103" y="16594"/>
                </a:cubicBezTo>
              </a:path>
              <a:path w="3052" h="919">
                <a:moveTo>
                  <a:pt x="9302" y="16421"/>
                </a:moveTo>
                <a:cubicBezTo>
                  <a:pt x="9352" y="16435"/>
                  <a:pt x="9419" y="16470"/>
                  <a:pt x="9401" y="16545"/>
                </a:cubicBezTo>
                <a:cubicBezTo>
                  <a:pt x="9376" y="16594"/>
                  <a:pt x="9367" y="16611"/>
                  <a:pt x="9351" y="16644"/>
                </a:cubicBezTo>
              </a:path>
              <a:path w="3052" h="919">
                <a:moveTo>
                  <a:pt x="9525" y="16272"/>
                </a:moveTo>
                <a:cubicBezTo>
                  <a:pt x="9496" y="16234"/>
                  <a:pt x="9492" y="16198"/>
                  <a:pt x="9550" y="16173"/>
                </a:cubicBezTo>
                <a:cubicBezTo>
                  <a:pt x="9588" y="16157"/>
                  <a:pt x="9631" y="16148"/>
                  <a:pt x="9674" y="16148"/>
                </a:cubicBezTo>
                <a:cubicBezTo>
                  <a:pt x="9723" y="16148"/>
                  <a:pt x="9744" y="16168"/>
                  <a:pt x="9748" y="16222"/>
                </a:cubicBezTo>
                <a:cubicBezTo>
                  <a:pt x="9751" y="16263"/>
                  <a:pt x="9716" y="16359"/>
                  <a:pt x="9699" y="16396"/>
                </a:cubicBezTo>
                <a:cubicBezTo>
                  <a:pt x="9681" y="16434"/>
                  <a:pt x="9674" y="16447"/>
                  <a:pt x="9674" y="16495"/>
                </a:cubicBezTo>
                <a:cubicBezTo>
                  <a:pt x="9717" y="16495"/>
                  <a:pt x="9759" y="16483"/>
                  <a:pt x="9798" y="16470"/>
                </a:cubicBezTo>
                <a:cubicBezTo>
                  <a:pt x="9847" y="16446"/>
                  <a:pt x="9864" y="16438"/>
                  <a:pt x="9897" y="16421"/>
                </a:cubicBezTo>
              </a:path>
              <a:path w="3052" h="919">
                <a:moveTo>
                  <a:pt x="9996" y="16371"/>
                </a:moveTo>
                <a:cubicBezTo>
                  <a:pt x="9996" y="16363"/>
                  <a:pt x="9996" y="16354"/>
                  <a:pt x="9996" y="16346"/>
                </a:cubicBezTo>
                <a:cubicBezTo>
                  <a:pt x="10047" y="16346"/>
                  <a:pt x="10082" y="16337"/>
                  <a:pt x="10120" y="16371"/>
                </a:cubicBezTo>
                <a:cubicBezTo>
                  <a:pt x="10158" y="16405"/>
                  <a:pt x="10145" y="16448"/>
                  <a:pt x="10096" y="16470"/>
                </a:cubicBezTo>
                <a:cubicBezTo>
                  <a:pt x="10088" y="16470"/>
                  <a:pt x="10079" y="16470"/>
                  <a:pt x="10071" y="16470"/>
                </a:cubicBezTo>
              </a:path>
              <a:path w="3052" h="919">
                <a:moveTo>
                  <a:pt x="10269" y="16049"/>
                </a:moveTo>
                <a:cubicBezTo>
                  <a:pt x="10269" y="16021"/>
                  <a:pt x="10271" y="16010"/>
                  <a:pt x="10294" y="15999"/>
                </a:cubicBezTo>
                <a:cubicBezTo>
                  <a:pt x="10360" y="16015"/>
                  <a:pt x="10406" y="16076"/>
                  <a:pt x="10418" y="16148"/>
                </a:cubicBezTo>
                <a:cubicBezTo>
                  <a:pt x="10438" y="16269"/>
                  <a:pt x="10423" y="16398"/>
                  <a:pt x="10344" y="16495"/>
                </a:cubicBezTo>
                <a:cubicBezTo>
                  <a:pt x="10319" y="16520"/>
                  <a:pt x="10294" y="16545"/>
                  <a:pt x="10269" y="16570"/>
                </a:cubicBezTo>
              </a:path>
              <a:path w="3052" h="919">
                <a:moveTo>
                  <a:pt x="7417" y="15999"/>
                </a:moveTo>
                <a:cubicBezTo>
                  <a:pt x="7435" y="15936"/>
                  <a:pt x="7433" y="15919"/>
                  <a:pt x="7466" y="15875"/>
                </a:cubicBezTo>
                <a:cubicBezTo>
                  <a:pt x="7407" y="15948"/>
                  <a:pt x="7376" y="16054"/>
                  <a:pt x="7367" y="16148"/>
                </a:cubicBezTo>
                <a:cubicBezTo>
                  <a:pt x="7352" y="16297"/>
                  <a:pt x="7401" y="16451"/>
                  <a:pt x="7491" y="16570"/>
                </a:cubicBezTo>
                <a:cubicBezTo>
                  <a:pt x="7508" y="16586"/>
                  <a:pt x="7524" y="16603"/>
                  <a:pt x="7541" y="166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90960" y="5786280"/>
            <a:ext cx="152280" cy="18756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1088" y="16396"/>
                </a:moveTo>
                <a:cubicBezTo>
                  <a:pt x="11096" y="16379"/>
                  <a:pt x="11104" y="16363"/>
                  <a:pt x="11112" y="16346"/>
                </a:cubicBezTo>
                <a:cubicBezTo>
                  <a:pt x="11123" y="16391"/>
                  <a:pt x="11137" y="16416"/>
                  <a:pt x="11137" y="16470"/>
                </a:cubicBezTo>
                <a:cubicBezTo>
                  <a:pt x="11137" y="16478"/>
                  <a:pt x="11137" y="16487"/>
                  <a:pt x="11137" y="16495"/>
                </a:cubicBezTo>
              </a:path>
              <a:path w="422" h="522">
                <a:moveTo>
                  <a:pt x="11088" y="16197"/>
                </a:moveTo>
                <a:cubicBezTo>
                  <a:pt x="11088" y="16120"/>
                  <a:pt x="11065" y="16089"/>
                  <a:pt x="11112" y="16073"/>
                </a:cubicBezTo>
              </a:path>
              <a:path w="422" h="522">
                <a:moveTo>
                  <a:pt x="11460" y="16321"/>
                </a:moveTo>
                <a:cubicBezTo>
                  <a:pt x="11501" y="16321"/>
                  <a:pt x="11440" y="16358"/>
                  <a:pt x="11410" y="16371"/>
                </a:cubicBezTo>
                <a:cubicBezTo>
                  <a:pt x="11385" y="16371"/>
                  <a:pt x="11377" y="16371"/>
                  <a:pt x="11385" y="16396"/>
                </a:cubicBezTo>
                <a:cubicBezTo>
                  <a:pt x="11400" y="16441"/>
                  <a:pt x="11450" y="16425"/>
                  <a:pt x="11485" y="16470"/>
                </a:cubicBezTo>
                <a:cubicBezTo>
                  <a:pt x="11511" y="16503"/>
                  <a:pt x="11515" y="16537"/>
                  <a:pt x="11485" y="16570"/>
                </a:cubicBezTo>
                <a:cubicBezTo>
                  <a:pt x="11458" y="16600"/>
                  <a:pt x="11447" y="16594"/>
                  <a:pt x="11410" y="165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30800" y="5884920"/>
            <a:ext cx="81000" cy="88920"/>
          </a:xfrm>
          <a:custGeom>
            <a:avLst/>
            <a:gdLst/>
            <a:ahLst/>
            <a:rect l="l" t="t" r="r" b="b"/>
            <a:pathLst>
              <a:path w="225" h="249">
                <a:moveTo>
                  <a:pt x="12105" y="16396"/>
                </a:moveTo>
                <a:cubicBezTo>
                  <a:pt x="12127" y="16373"/>
                  <a:pt x="12135" y="16368"/>
                  <a:pt x="12129" y="16346"/>
                </a:cubicBezTo>
                <a:cubicBezTo>
                  <a:pt x="12081" y="16358"/>
                  <a:pt x="12048" y="16394"/>
                  <a:pt x="12030" y="16446"/>
                </a:cubicBezTo>
                <a:cubicBezTo>
                  <a:pt x="12015" y="16490"/>
                  <a:pt x="12032" y="16505"/>
                  <a:pt x="12055" y="16520"/>
                </a:cubicBezTo>
                <a:cubicBezTo>
                  <a:pt x="12081" y="16487"/>
                  <a:pt x="12103" y="16454"/>
                  <a:pt x="12129" y="16421"/>
                </a:cubicBezTo>
                <a:cubicBezTo>
                  <a:pt x="12186" y="16449"/>
                  <a:pt x="12167" y="16490"/>
                  <a:pt x="12204" y="16545"/>
                </a:cubicBezTo>
                <a:cubicBezTo>
                  <a:pt x="12229" y="16570"/>
                  <a:pt x="12237" y="16578"/>
                  <a:pt x="12254" y="165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99000" y="5830920"/>
            <a:ext cx="419040" cy="206280"/>
          </a:xfrm>
          <a:custGeom>
            <a:avLst/>
            <a:gdLst/>
            <a:ahLst/>
            <a:rect l="l" t="t" r="r" b="b"/>
            <a:pathLst>
              <a:path w="1167" h="572">
                <a:moveTo>
                  <a:pt x="12824" y="16346"/>
                </a:moveTo>
                <a:cubicBezTo>
                  <a:pt x="12824" y="16277"/>
                  <a:pt x="12824" y="16485"/>
                  <a:pt x="12824" y="16495"/>
                </a:cubicBezTo>
                <a:cubicBezTo>
                  <a:pt x="12824" y="16592"/>
                  <a:pt x="12839" y="16675"/>
                  <a:pt x="12849" y="16768"/>
                </a:cubicBezTo>
              </a:path>
              <a:path w="1167" h="572">
                <a:moveTo>
                  <a:pt x="12774" y="16421"/>
                </a:moveTo>
                <a:cubicBezTo>
                  <a:pt x="12774" y="16364"/>
                  <a:pt x="12768" y="16340"/>
                  <a:pt x="12824" y="16321"/>
                </a:cubicBezTo>
                <a:cubicBezTo>
                  <a:pt x="12848" y="16313"/>
                  <a:pt x="12893" y="16281"/>
                  <a:pt x="12923" y="16297"/>
                </a:cubicBezTo>
                <a:cubicBezTo>
                  <a:pt x="12964" y="16319"/>
                  <a:pt x="12992" y="16402"/>
                  <a:pt x="12973" y="16446"/>
                </a:cubicBezTo>
                <a:cubicBezTo>
                  <a:pt x="12956" y="16486"/>
                  <a:pt x="12880" y="16470"/>
                  <a:pt x="12849" y="16470"/>
                </a:cubicBezTo>
                <a:cubicBezTo>
                  <a:pt x="12841" y="16470"/>
                  <a:pt x="12832" y="16470"/>
                  <a:pt x="12824" y="16470"/>
                </a:cubicBezTo>
              </a:path>
              <a:path w="1167" h="572">
                <a:moveTo>
                  <a:pt x="13072" y="16446"/>
                </a:moveTo>
                <a:cubicBezTo>
                  <a:pt x="13072" y="16394"/>
                  <a:pt x="13067" y="16393"/>
                  <a:pt x="13097" y="16371"/>
                </a:cubicBezTo>
                <a:cubicBezTo>
                  <a:pt x="13156" y="16327"/>
                  <a:pt x="13191" y="16342"/>
                  <a:pt x="13196" y="16421"/>
                </a:cubicBezTo>
                <a:cubicBezTo>
                  <a:pt x="13199" y="16473"/>
                  <a:pt x="13176" y="16516"/>
                  <a:pt x="13122" y="16520"/>
                </a:cubicBezTo>
                <a:cubicBezTo>
                  <a:pt x="13063" y="16524"/>
                  <a:pt x="13060" y="16508"/>
                  <a:pt x="13022" y="16470"/>
                </a:cubicBezTo>
              </a:path>
              <a:path w="1167" h="572">
                <a:moveTo>
                  <a:pt x="13246" y="16371"/>
                </a:moveTo>
                <a:cubicBezTo>
                  <a:pt x="13278" y="16428"/>
                  <a:pt x="13287" y="16434"/>
                  <a:pt x="13295" y="16495"/>
                </a:cubicBezTo>
              </a:path>
              <a:path w="1167" h="572">
                <a:moveTo>
                  <a:pt x="13246" y="16222"/>
                </a:moveTo>
                <a:cubicBezTo>
                  <a:pt x="13254" y="16214"/>
                  <a:pt x="13263" y="16205"/>
                  <a:pt x="13271" y="16197"/>
                </a:cubicBezTo>
              </a:path>
              <a:path w="1167" h="572">
                <a:moveTo>
                  <a:pt x="13345" y="16371"/>
                </a:moveTo>
                <a:cubicBezTo>
                  <a:pt x="13352" y="16436"/>
                  <a:pt x="13370" y="16461"/>
                  <a:pt x="13370" y="16520"/>
                </a:cubicBezTo>
                <a:cubicBezTo>
                  <a:pt x="13377" y="16484"/>
                  <a:pt x="13381" y="16405"/>
                  <a:pt x="13395" y="16371"/>
                </a:cubicBezTo>
                <a:cubicBezTo>
                  <a:pt x="13417" y="16316"/>
                  <a:pt x="13458" y="16314"/>
                  <a:pt x="13494" y="16346"/>
                </a:cubicBezTo>
                <a:cubicBezTo>
                  <a:pt x="13529" y="16378"/>
                  <a:pt x="13557" y="16429"/>
                  <a:pt x="13568" y="16470"/>
                </a:cubicBezTo>
              </a:path>
              <a:path w="1167" h="572">
                <a:moveTo>
                  <a:pt x="13692" y="16272"/>
                </a:moveTo>
                <a:cubicBezTo>
                  <a:pt x="13692" y="16230"/>
                  <a:pt x="13692" y="16222"/>
                  <a:pt x="13692" y="16197"/>
                </a:cubicBezTo>
                <a:cubicBezTo>
                  <a:pt x="13731" y="16249"/>
                  <a:pt x="13700" y="16284"/>
                  <a:pt x="13717" y="16346"/>
                </a:cubicBezTo>
                <a:cubicBezTo>
                  <a:pt x="13732" y="16398"/>
                  <a:pt x="13762" y="16451"/>
                  <a:pt x="13791" y="16495"/>
                </a:cubicBezTo>
              </a:path>
              <a:path w="1167" h="572">
                <a:moveTo>
                  <a:pt x="13940" y="16396"/>
                </a:moveTo>
                <a:cubicBezTo>
                  <a:pt x="13849" y="16321"/>
                  <a:pt x="13887" y="16321"/>
                  <a:pt x="13791" y="163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97320" y="5857920"/>
            <a:ext cx="177840" cy="81000"/>
          </a:xfrm>
          <a:custGeom>
            <a:avLst/>
            <a:gdLst/>
            <a:ahLst/>
            <a:rect l="l" t="t" r="r" b="b"/>
            <a:pathLst>
              <a:path w="497" h="224">
                <a:moveTo>
                  <a:pt x="14436" y="16297"/>
                </a:moveTo>
                <a:cubicBezTo>
                  <a:pt x="14436" y="16309"/>
                  <a:pt x="14436" y="16413"/>
                  <a:pt x="14436" y="16346"/>
                </a:cubicBezTo>
                <a:cubicBezTo>
                  <a:pt x="14436" y="16315"/>
                  <a:pt x="14477" y="16301"/>
                  <a:pt x="14511" y="16297"/>
                </a:cubicBezTo>
                <a:cubicBezTo>
                  <a:pt x="14557" y="16292"/>
                  <a:pt x="14557" y="16383"/>
                  <a:pt x="14560" y="16421"/>
                </a:cubicBezTo>
                <a:cubicBezTo>
                  <a:pt x="14563" y="16464"/>
                  <a:pt x="14523" y="16491"/>
                  <a:pt x="14486" y="16495"/>
                </a:cubicBezTo>
                <a:cubicBezTo>
                  <a:pt x="14444" y="16500"/>
                  <a:pt x="14444" y="16477"/>
                  <a:pt x="14436" y="16446"/>
                </a:cubicBezTo>
              </a:path>
              <a:path w="497" h="224">
                <a:moveTo>
                  <a:pt x="14585" y="16321"/>
                </a:moveTo>
                <a:cubicBezTo>
                  <a:pt x="14608" y="16344"/>
                  <a:pt x="14661" y="16423"/>
                  <a:pt x="14709" y="16396"/>
                </a:cubicBezTo>
                <a:cubicBezTo>
                  <a:pt x="14753" y="16371"/>
                  <a:pt x="14733" y="16301"/>
                  <a:pt x="14784" y="16272"/>
                </a:cubicBezTo>
                <a:cubicBezTo>
                  <a:pt x="14842" y="16239"/>
                  <a:pt x="14883" y="16316"/>
                  <a:pt x="14908" y="16346"/>
                </a:cubicBezTo>
                <a:cubicBezTo>
                  <a:pt x="14916" y="16354"/>
                  <a:pt x="14924" y="16363"/>
                  <a:pt x="14932" y="163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10160" y="5705640"/>
            <a:ext cx="249120" cy="196560"/>
          </a:xfrm>
          <a:custGeom>
            <a:avLst/>
            <a:gdLst/>
            <a:ahLst/>
            <a:rect l="l" t="t" r="r" b="b"/>
            <a:pathLst>
              <a:path w="696" h="547">
                <a:moveTo>
                  <a:pt x="15304" y="16049"/>
                </a:moveTo>
                <a:cubicBezTo>
                  <a:pt x="15304" y="15989"/>
                  <a:pt x="15328" y="16149"/>
                  <a:pt x="15329" y="16173"/>
                </a:cubicBezTo>
                <a:cubicBezTo>
                  <a:pt x="15334" y="16280"/>
                  <a:pt x="15315" y="16308"/>
                  <a:pt x="15404" y="16371"/>
                </a:cubicBezTo>
              </a:path>
              <a:path w="696" h="547">
                <a:moveTo>
                  <a:pt x="15553" y="16247"/>
                </a:moveTo>
                <a:cubicBezTo>
                  <a:pt x="15474" y="16221"/>
                  <a:pt x="15412" y="16197"/>
                  <a:pt x="15329" y="16197"/>
                </a:cubicBezTo>
                <a:cubicBezTo>
                  <a:pt x="15321" y="16197"/>
                  <a:pt x="15312" y="16197"/>
                  <a:pt x="15304" y="16197"/>
                </a:cubicBezTo>
              </a:path>
              <a:path w="696" h="547">
                <a:moveTo>
                  <a:pt x="15503" y="15850"/>
                </a:moveTo>
                <a:cubicBezTo>
                  <a:pt x="15544" y="15850"/>
                  <a:pt x="15552" y="15850"/>
                  <a:pt x="15577" y="15850"/>
                </a:cubicBezTo>
                <a:cubicBezTo>
                  <a:pt x="15577" y="15912"/>
                  <a:pt x="15560" y="15967"/>
                  <a:pt x="15553" y="16024"/>
                </a:cubicBezTo>
                <a:cubicBezTo>
                  <a:pt x="15542" y="16118"/>
                  <a:pt x="15531" y="16268"/>
                  <a:pt x="15577" y="16346"/>
                </a:cubicBezTo>
                <a:cubicBezTo>
                  <a:pt x="15577" y="16291"/>
                  <a:pt x="15589" y="16275"/>
                  <a:pt x="15602" y="16222"/>
                </a:cubicBezTo>
                <a:cubicBezTo>
                  <a:pt x="15602" y="16214"/>
                  <a:pt x="15602" y="16205"/>
                  <a:pt x="15602" y="16197"/>
                </a:cubicBezTo>
                <a:cubicBezTo>
                  <a:pt x="15650" y="16209"/>
                  <a:pt x="15659" y="16245"/>
                  <a:pt x="15701" y="16272"/>
                </a:cubicBezTo>
                <a:cubicBezTo>
                  <a:pt x="15710" y="16278"/>
                  <a:pt x="15807" y="16320"/>
                  <a:pt x="15825" y="16297"/>
                </a:cubicBezTo>
                <a:cubicBezTo>
                  <a:pt x="15825" y="16272"/>
                  <a:pt x="15825" y="16264"/>
                  <a:pt x="15825" y="16247"/>
                </a:cubicBezTo>
                <a:cubicBezTo>
                  <a:pt x="15757" y="16271"/>
                  <a:pt x="15828" y="16293"/>
                  <a:pt x="15850" y="16321"/>
                </a:cubicBezTo>
                <a:cubicBezTo>
                  <a:pt x="15903" y="16389"/>
                  <a:pt x="15912" y="16396"/>
                  <a:pt x="15999" y="163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29200" y="5749920"/>
            <a:ext cx="401760" cy="162000"/>
          </a:xfrm>
          <a:custGeom>
            <a:avLst/>
            <a:gdLst/>
            <a:ahLst/>
            <a:rect l="l" t="t" r="r" b="b"/>
            <a:pathLst>
              <a:path w="1118" h="448">
                <a:moveTo>
                  <a:pt x="16495" y="16024"/>
                </a:moveTo>
                <a:cubicBezTo>
                  <a:pt x="16461" y="15978"/>
                  <a:pt x="16470" y="15962"/>
                  <a:pt x="16470" y="16024"/>
                </a:cubicBezTo>
                <a:cubicBezTo>
                  <a:pt x="16470" y="16107"/>
                  <a:pt x="16480" y="16224"/>
                  <a:pt x="16520" y="16297"/>
                </a:cubicBezTo>
                <a:cubicBezTo>
                  <a:pt x="16567" y="16382"/>
                  <a:pt x="16626" y="16414"/>
                  <a:pt x="16718" y="16421"/>
                </a:cubicBezTo>
                <a:cubicBezTo>
                  <a:pt x="16753" y="16421"/>
                  <a:pt x="16771" y="16416"/>
                  <a:pt x="16793" y="16396"/>
                </a:cubicBezTo>
              </a:path>
              <a:path w="1118" h="448">
                <a:moveTo>
                  <a:pt x="16793" y="16346"/>
                </a:moveTo>
                <a:cubicBezTo>
                  <a:pt x="16793" y="16231"/>
                  <a:pt x="16793" y="16348"/>
                  <a:pt x="16793" y="16371"/>
                </a:cubicBezTo>
              </a:path>
              <a:path w="1118" h="448">
                <a:moveTo>
                  <a:pt x="16768" y="16222"/>
                </a:moveTo>
                <a:cubicBezTo>
                  <a:pt x="16749" y="16165"/>
                  <a:pt x="16723" y="16140"/>
                  <a:pt x="16768" y="16148"/>
                </a:cubicBezTo>
              </a:path>
              <a:path w="1118" h="448">
                <a:moveTo>
                  <a:pt x="16842" y="16222"/>
                </a:moveTo>
                <a:cubicBezTo>
                  <a:pt x="16869" y="16289"/>
                  <a:pt x="16917" y="16314"/>
                  <a:pt x="16942" y="16371"/>
                </a:cubicBezTo>
                <a:cubicBezTo>
                  <a:pt x="16956" y="16402"/>
                  <a:pt x="16956" y="16319"/>
                  <a:pt x="16966" y="16272"/>
                </a:cubicBezTo>
                <a:cubicBezTo>
                  <a:pt x="16977" y="16221"/>
                  <a:pt x="16984" y="16179"/>
                  <a:pt x="17041" y="16173"/>
                </a:cubicBezTo>
                <a:cubicBezTo>
                  <a:pt x="17101" y="16167"/>
                  <a:pt x="17095" y="16264"/>
                  <a:pt x="17115" y="16297"/>
                </a:cubicBezTo>
                <a:cubicBezTo>
                  <a:pt x="17146" y="16347"/>
                  <a:pt x="17174" y="16356"/>
                  <a:pt x="17214" y="16321"/>
                </a:cubicBezTo>
                <a:cubicBezTo>
                  <a:pt x="17264" y="16277"/>
                  <a:pt x="17264" y="16235"/>
                  <a:pt x="17264" y="16173"/>
                </a:cubicBezTo>
                <a:cubicBezTo>
                  <a:pt x="17264" y="16078"/>
                  <a:pt x="17285" y="16110"/>
                  <a:pt x="17264" y="16148"/>
                </a:cubicBezTo>
                <a:cubicBezTo>
                  <a:pt x="17238" y="16194"/>
                  <a:pt x="17213" y="16271"/>
                  <a:pt x="17264" y="16321"/>
                </a:cubicBezTo>
                <a:cubicBezTo>
                  <a:pt x="17319" y="16376"/>
                  <a:pt x="17430" y="16352"/>
                  <a:pt x="17487" y="16346"/>
                </a:cubicBezTo>
                <a:cubicBezTo>
                  <a:pt x="17548" y="16340"/>
                  <a:pt x="17544" y="16339"/>
                  <a:pt x="17587" y="162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43120" y="6242040"/>
            <a:ext cx="411120" cy="428760"/>
          </a:xfrm>
          <a:custGeom>
            <a:avLst/>
            <a:gdLst/>
            <a:ahLst/>
            <a:rect l="l" t="t" r="r" b="b"/>
            <a:pathLst>
              <a:path w="1142" h="1192">
                <a:moveTo>
                  <a:pt x="7665" y="17686"/>
                </a:moveTo>
                <a:cubicBezTo>
                  <a:pt x="7687" y="17709"/>
                  <a:pt x="7692" y="17717"/>
                  <a:pt x="7714" y="17711"/>
                </a:cubicBezTo>
                <a:cubicBezTo>
                  <a:pt x="7751" y="17662"/>
                  <a:pt x="7779" y="17576"/>
                  <a:pt x="7789" y="17512"/>
                </a:cubicBezTo>
                <a:cubicBezTo>
                  <a:pt x="7799" y="17446"/>
                  <a:pt x="7790" y="17391"/>
                  <a:pt x="7764" y="17338"/>
                </a:cubicBezTo>
                <a:cubicBezTo>
                  <a:pt x="7720" y="17412"/>
                  <a:pt x="7739" y="17521"/>
                  <a:pt x="7739" y="17611"/>
                </a:cubicBezTo>
                <a:cubicBezTo>
                  <a:pt x="7739" y="17710"/>
                  <a:pt x="7757" y="17837"/>
                  <a:pt x="7863" y="17884"/>
                </a:cubicBezTo>
                <a:cubicBezTo>
                  <a:pt x="7912" y="17906"/>
                  <a:pt x="7954" y="17861"/>
                  <a:pt x="7987" y="17835"/>
                </a:cubicBezTo>
              </a:path>
              <a:path w="1142" h="1192">
                <a:moveTo>
                  <a:pt x="7764" y="17959"/>
                </a:moveTo>
                <a:cubicBezTo>
                  <a:pt x="7764" y="18004"/>
                  <a:pt x="7785" y="18018"/>
                  <a:pt x="7789" y="18058"/>
                </a:cubicBezTo>
                <a:cubicBezTo>
                  <a:pt x="7795" y="18110"/>
                  <a:pt x="7789" y="18113"/>
                  <a:pt x="7789" y="18058"/>
                </a:cubicBezTo>
                <a:cubicBezTo>
                  <a:pt x="7789" y="18033"/>
                  <a:pt x="7789" y="18025"/>
                  <a:pt x="7789" y="18008"/>
                </a:cubicBezTo>
                <a:cubicBezTo>
                  <a:pt x="7834" y="18008"/>
                  <a:pt x="7848" y="18029"/>
                  <a:pt x="7888" y="18033"/>
                </a:cubicBezTo>
                <a:cubicBezTo>
                  <a:pt x="7947" y="18040"/>
                  <a:pt x="7938" y="17971"/>
                  <a:pt x="7962" y="17934"/>
                </a:cubicBezTo>
                <a:cubicBezTo>
                  <a:pt x="7985" y="17911"/>
                  <a:pt x="7993" y="17907"/>
                  <a:pt x="7987" y="17884"/>
                </a:cubicBezTo>
                <a:cubicBezTo>
                  <a:pt x="8051" y="17935"/>
                  <a:pt x="8065" y="17966"/>
                  <a:pt x="8111" y="18033"/>
                </a:cubicBezTo>
                <a:cubicBezTo>
                  <a:pt x="8119" y="18041"/>
                  <a:pt x="8128" y="18050"/>
                  <a:pt x="8136" y="18058"/>
                </a:cubicBezTo>
              </a:path>
              <a:path w="1142" h="1192">
                <a:moveTo>
                  <a:pt x="7764" y="18306"/>
                </a:moveTo>
                <a:cubicBezTo>
                  <a:pt x="7764" y="18351"/>
                  <a:pt x="7757" y="18462"/>
                  <a:pt x="7789" y="18430"/>
                </a:cubicBezTo>
                <a:cubicBezTo>
                  <a:pt x="7807" y="18412"/>
                  <a:pt x="7809" y="18339"/>
                  <a:pt x="7838" y="18306"/>
                </a:cubicBezTo>
                <a:cubicBezTo>
                  <a:pt x="7873" y="18267"/>
                  <a:pt x="7947" y="18266"/>
                  <a:pt x="7987" y="18306"/>
                </a:cubicBezTo>
                <a:cubicBezTo>
                  <a:pt x="8011" y="18354"/>
                  <a:pt x="8018" y="18370"/>
                  <a:pt x="8062" y="18355"/>
                </a:cubicBezTo>
              </a:path>
              <a:path w="1142" h="1192">
                <a:moveTo>
                  <a:pt x="8086" y="17413"/>
                </a:moveTo>
                <a:cubicBezTo>
                  <a:pt x="8161" y="17381"/>
                  <a:pt x="8199" y="17367"/>
                  <a:pt x="8260" y="17438"/>
                </a:cubicBezTo>
                <a:cubicBezTo>
                  <a:pt x="8367" y="17562"/>
                  <a:pt x="8422" y="17755"/>
                  <a:pt x="8458" y="17909"/>
                </a:cubicBezTo>
                <a:cubicBezTo>
                  <a:pt x="8497" y="18076"/>
                  <a:pt x="8512" y="18260"/>
                  <a:pt x="8409" y="18405"/>
                </a:cubicBezTo>
                <a:cubicBezTo>
                  <a:pt x="8353" y="18485"/>
                  <a:pt x="8320" y="18489"/>
                  <a:pt x="8235" y="18504"/>
                </a:cubicBezTo>
              </a:path>
              <a:path w="1142" h="1192">
                <a:moveTo>
                  <a:pt x="7367" y="17462"/>
                </a:moveTo>
                <a:cubicBezTo>
                  <a:pt x="7367" y="17446"/>
                  <a:pt x="7367" y="17429"/>
                  <a:pt x="7367" y="17413"/>
                </a:cubicBezTo>
                <a:cubicBezTo>
                  <a:pt x="7348" y="17523"/>
                  <a:pt x="7342" y="17620"/>
                  <a:pt x="7342" y="17735"/>
                </a:cubicBezTo>
                <a:cubicBezTo>
                  <a:pt x="7342" y="17946"/>
                  <a:pt x="7386" y="18135"/>
                  <a:pt x="7466" y="18331"/>
                </a:cubicBezTo>
                <a:cubicBezTo>
                  <a:pt x="7497" y="18406"/>
                  <a:pt x="7528" y="18451"/>
                  <a:pt x="7541" y="185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7160" y="6323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8954" y="17909"/>
                </a:moveTo>
                <a:cubicBezTo>
                  <a:pt x="8954" y="17901"/>
                  <a:pt x="8954" y="17892"/>
                  <a:pt x="8954" y="17884"/>
                </a:cubicBezTo>
                <a:cubicBezTo>
                  <a:pt x="8954" y="17930"/>
                  <a:pt x="8974" y="17943"/>
                  <a:pt x="8979" y="17983"/>
                </a:cubicBezTo>
                <a:cubicBezTo>
                  <a:pt x="8979" y="18008"/>
                  <a:pt x="8979" y="18016"/>
                  <a:pt x="8979" y="18033"/>
                </a:cubicBezTo>
              </a:path>
              <a:path w="299" h="472">
                <a:moveTo>
                  <a:pt x="8880" y="17587"/>
                </a:moveTo>
                <a:cubicBezTo>
                  <a:pt x="8880" y="17552"/>
                  <a:pt x="8885" y="17553"/>
                  <a:pt x="8905" y="17611"/>
                </a:cubicBezTo>
              </a:path>
              <a:path w="299" h="472">
                <a:moveTo>
                  <a:pt x="9128" y="17785"/>
                </a:moveTo>
                <a:cubicBezTo>
                  <a:pt x="9115" y="17838"/>
                  <a:pt x="9091" y="17834"/>
                  <a:pt x="9054" y="17859"/>
                </a:cubicBezTo>
                <a:cubicBezTo>
                  <a:pt x="9046" y="17867"/>
                  <a:pt x="9037" y="17876"/>
                  <a:pt x="9029" y="17884"/>
                </a:cubicBezTo>
                <a:cubicBezTo>
                  <a:pt x="9039" y="17913"/>
                  <a:pt x="9071" y="17927"/>
                  <a:pt x="9103" y="17959"/>
                </a:cubicBezTo>
                <a:cubicBezTo>
                  <a:pt x="9140" y="17996"/>
                  <a:pt x="9164" y="17977"/>
                  <a:pt x="9178" y="18033"/>
                </a:cubicBezTo>
                <a:cubicBezTo>
                  <a:pt x="9145" y="18033"/>
                  <a:pt x="9112" y="18033"/>
                  <a:pt x="9079" y="180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56000" y="6286680"/>
            <a:ext cx="250920" cy="187200"/>
          </a:xfrm>
          <a:custGeom>
            <a:avLst/>
            <a:gdLst/>
            <a:ahLst/>
            <a:rect l="l" t="t" r="r" b="b"/>
            <a:pathLst>
              <a:path w="696" h="522">
                <a:moveTo>
                  <a:pt x="9649" y="17661"/>
                </a:moveTo>
                <a:cubicBezTo>
                  <a:pt x="9657" y="17644"/>
                  <a:pt x="9666" y="17628"/>
                  <a:pt x="9674" y="17611"/>
                </a:cubicBezTo>
                <a:cubicBezTo>
                  <a:pt x="9625" y="17660"/>
                  <a:pt x="9608" y="17712"/>
                  <a:pt x="9599" y="17785"/>
                </a:cubicBezTo>
                <a:cubicBezTo>
                  <a:pt x="9586" y="17894"/>
                  <a:pt x="9624" y="17925"/>
                  <a:pt x="9699" y="17983"/>
                </a:cubicBezTo>
              </a:path>
              <a:path w="696" h="522">
                <a:moveTo>
                  <a:pt x="9847" y="17884"/>
                </a:moveTo>
                <a:cubicBezTo>
                  <a:pt x="9794" y="17838"/>
                  <a:pt x="9760" y="17781"/>
                  <a:pt x="9699" y="17835"/>
                </a:cubicBezTo>
                <a:cubicBezTo>
                  <a:pt x="9676" y="17857"/>
                  <a:pt x="9671" y="17865"/>
                  <a:pt x="9649" y="17859"/>
                </a:cubicBezTo>
              </a:path>
              <a:path w="696" h="522">
                <a:moveTo>
                  <a:pt x="9847" y="17537"/>
                </a:moveTo>
                <a:cubicBezTo>
                  <a:pt x="9869" y="17493"/>
                  <a:pt x="9872" y="17481"/>
                  <a:pt x="9897" y="17462"/>
                </a:cubicBezTo>
                <a:cubicBezTo>
                  <a:pt x="9854" y="17548"/>
                  <a:pt x="9847" y="17590"/>
                  <a:pt x="9847" y="17686"/>
                </a:cubicBezTo>
                <a:cubicBezTo>
                  <a:pt x="9847" y="17763"/>
                  <a:pt x="9837" y="17813"/>
                  <a:pt x="9823" y="17884"/>
                </a:cubicBezTo>
                <a:cubicBezTo>
                  <a:pt x="9863" y="17874"/>
                  <a:pt x="9879" y="17840"/>
                  <a:pt x="9922" y="17835"/>
                </a:cubicBezTo>
                <a:cubicBezTo>
                  <a:pt x="9967" y="17830"/>
                  <a:pt x="9991" y="17837"/>
                  <a:pt x="9996" y="17884"/>
                </a:cubicBezTo>
                <a:cubicBezTo>
                  <a:pt x="9996" y="17909"/>
                  <a:pt x="9996" y="17917"/>
                  <a:pt x="9996" y="17934"/>
                </a:cubicBezTo>
              </a:path>
              <a:path w="696" h="522">
                <a:moveTo>
                  <a:pt x="9996" y="17859"/>
                </a:moveTo>
                <a:cubicBezTo>
                  <a:pt x="10049" y="17837"/>
                  <a:pt x="10104" y="17843"/>
                  <a:pt x="10145" y="17810"/>
                </a:cubicBezTo>
                <a:cubicBezTo>
                  <a:pt x="10177" y="17784"/>
                  <a:pt x="10170" y="17772"/>
                  <a:pt x="10170" y="17735"/>
                </a:cubicBezTo>
                <a:cubicBezTo>
                  <a:pt x="10118" y="17735"/>
                  <a:pt x="10120" y="17733"/>
                  <a:pt x="10120" y="17785"/>
                </a:cubicBezTo>
                <a:cubicBezTo>
                  <a:pt x="10120" y="17847"/>
                  <a:pt x="10123" y="17926"/>
                  <a:pt x="10195" y="17934"/>
                </a:cubicBezTo>
                <a:cubicBezTo>
                  <a:pt x="10246" y="17940"/>
                  <a:pt x="10259" y="17919"/>
                  <a:pt x="10294" y="178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6303960"/>
            <a:ext cx="777960" cy="189000"/>
          </a:xfrm>
          <a:custGeom>
            <a:avLst/>
            <a:gdLst/>
            <a:ahLst/>
            <a:rect l="l" t="t" r="r" b="b"/>
            <a:pathLst>
              <a:path w="2159" h="522">
                <a:moveTo>
                  <a:pt x="10840" y="17760"/>
                </a:moveTo>
                <a:cubicBezTo>
                  <a:pt x="10820" y="17701"/>
                  <a:pt x="10776" y="17766"/>
                  <a:pt x="10765" y="17810"/>
                </a:cubicBezTo>
                <a:cubicBezTo>
                  <a:pt x="10751" y="17869"/>
                  <a:pt x="10770" y="17931"/>
                  <a:pt x="10790" y="17983"/>
                </a:cubicBezTo>
                <a:cubicBezTo>
                  <a:pt x="10836" y="17960"/>
                  <a:pt x="10902" y="17842"/>
                  <a:pt x="10914" y="17785"/>
                </a:cubicBezTo>
                <a:cubicBezTo>
                  <a:pt x="10929" y="17713"/>
                  <a:pt x="10914" y="17612"/>
                  <a:pt x="10914" y="17537"/>
                </a:cubicBezTo>
                <a:cubicBezTo>
                  <a:pt x="10914" y="17490"/>
                  <a:pt x="10930" y="17675"/>
                  <a:pt x="10939" y="17711"/>
                </a:cubicBezTo>
                <a:cubicBezTo>
                  <a:pt x="10963" y="17806"/>
                  <a:pt x="10983" y="17924"/>
                  <a:pt x="11038" y="18008"/>
                </a:cubicBezTo>
                <a:cubicBezTo>
                  <a:pt x="11061" y="18031"/>
                  <a:pt x="11065" y="18039"/>
                  <a:pt x="11088" y="18033"/>
                </a:cubicBezTo>
              </a:path>
              <a:path w="2159" h="522">
                <a:moveTo>
                  <a:pt x="11137" y="17835"/>
                </a:moveTo>
                <a:cubicBezTo>
                  <a:pt x="11137" y="17879"/>
                  <a:pt x="11152" y="17895"/>
                  <a:pt x="11162" y="17934"/>
                </a:cubicBezTo>
              </a:path>
              <a:path w="2159" h="522">
                <a:moveTo>
                  <a:pt x="11112" y="17760"/>
                </a:moveTo>
                <a:lnTo>
                  <a:pt x="11112" y="17760"/>
                </a:lnTo>
                <a:lnTo>
                  <a:pt x="11112" y="17760"/>
                </a:lnTo>
              </a:path>
              <a:path w="2159" h="522">
                <a:moveTo>
                  <a:pt x="11361" y="17884"/>
                </a:moveTo>
                <a:cubicBezTo>
                  <a:pt x="11383" y="17907"/>
                  <a:pt x="11391" y="17912"/>
                  <a:pt x="11385" y="17934"/>
                </a:cubicBezTo>
                <a:cubicBezTo>
                  <a:pt x="11358" y="17896"/>
                  <a:pt x="11361" y="17882"/>
                  <a:pt x="11361" y="17835"/>
                </a:cubicBezTo>
                <a:cubicBezTo>
                  <a:pt x="11361" y="17827"/>
                  <a:pt x="11361" y="17818"/>
                  <a:pt x="11361" y="17810"/>
                </a:cubicBezTo>
                <a:cubicBezTo>
                  <a:pt x="11406" y="17810"/>
                  <a:pt x="11420" y="17831"/>
                  <a:pt x="11460" y="17835"/>
                </a:cubicBezTo>
                <a:cubicBezTo>
                  <a:pt x="11485" y="17835"/>
                  <a:pt x="11493" y="17835"/>
                  <a:pt x="11509" y="17835"/>
                </a:cubicBezTo>
              </a:path>
              <a:path w="2159" h="522">
                <a:moveTo>
                  <a:pt x="11559" y="17835"/>
                </a:moveTo>
                <a:cubicBezTo>
                  <a:pt x="11563" y="17851"/>
                  <a:pt x="11603" y="17922"/>
                  <a:pt x="11633" y="17884"/>
                </a:cubicBezTo>
                <a:cubicBezTo>
                  <a:pt x="11662" y="17847"/>
                  <a:pt x="11661" y="17822"/>
                  <a:pt x="11633" y="17785"/>
                </a:cubicBezTo>
                <a:cubicBezTo>
                  <a:pt x="11573" y="17800"/>
                  <a:pt x="11584" y="17824"/>
                  <a:pt x="11584" y="17884"/>
                </a:cubicBezTo>
                <a:cubicBezTo>
                  <a:pt x="11584" y="17937"/>
                  <a:pt x="11571" y="17976"/>
                  <a:pt x="11633" y="17983"/>
                </a:cubicBezTo>
                <a:cubicBezTo>
                  <a:pt x="11658" y="17983"/>
                  <a:pt x="11666" y="17983"/>
                  <a:pt x="11683" y="17983"/>
                </a:cubicBezTo>
              </a:path>
              <a:path w="2159" h="522">
                <a:moveTo>
                  <a:pt x="11857" y="17810"/>
                </a:moveTo>
                <a:cubicBezTo>
                  <a:pt x="11857" y="17802"/>
                  <a:pt x="11857" y="17793"/>
                  <a:pt x="11857" y="17785"/>
                </a:cubicBezTo>
                <a:cubicBezTo>
                  <a:pt x="11817" y="17798"/>
                  <a:pt x="11832" y="17833"/>
                  <a:pt x="11832" y="17884"/>
                </a:cubicBezTo>
                <a:cubicBezTo>
                  <a:pt x="11832" y="17922"/>
                  <a:pt x="11855" y="17987"/>
                  <a:pt x="11906" y="17959"/>
                </a:cubicBezTo>
                <a:cubicBezTo>
                  <a:pt x="12001" y="17906"/>
                  <a:pt x="11979" y="17878"/>
                  <a:pt x="12005" y="17785"/>
                </a:cubicBezTo>
                <a:cubicBezTo>
                  <a:pt x="12022" y="17724"/>
                  <a:pt x="12019" y="17659"/>
                  <a:pt x="12055" y="17611"/>
                </a:cubicBezTo>
                <a:cubicBezTo>
                  <a:pt x="12055" y="17570"/>
                  <a:pt x="12055" y="17645"/>
                  <a:pt x="12055" y="17686"/>
                </a:cubicBezTo>
                <a:cubicBezTo>
                  <a:pt x="12055" y="17779"/>
                  <a:pt x="12004" y="17845"/>
                  <a:pt x="12055" y="17934"/>
                </a:cubicBezTo>
                <a:cubicBezTo>
                  <a:pt x="12080" y="17959"/>
                  <a:pt x="12088" y="17967"/>
                  <a:pt x="12105" y="17983"/>
                </a:cubicBezTo>
              </a:path>
              <a:path w="2159" h="522">
                <a:moveTo>
                  <a:pt x="12204" y="17884"/>
                </a:moveTo>
                <a:cubicBezTo>
                  <a:pt x="12196" y="17854"/>
                  <a:pt x="12173" y="17811"/>
                  <a:pt x="12129" y="17835"/>
                </a:cubicBezTo>
                <a:cubicBezTo>
                  <a:pt x="12095" y="17854"/>
                  <a:pt x="12061" y="17884"/>
                  <a:pt x="12030" y="17909"/>
                </a:cubicBezTo>
              </a:path>
              <a:path w="2159" h="522">
                <a:moveTo>
                  <a:pt x="12129" y="17884"/>
                </a:moveTo>
                <a:cubicBezTo>
                  <a:pt x="12184" y="17884"/>
                  <a:pt x="12250" y="17870"/>
                  <a:pt x="12278" y="17934"/>
                </a:cubicBezTo>
                <a:cubicBezTo>
                  <a:pt x="12278" y="17942"/>
                  <a:pt x="12278" y="17951"/>
                  <a:pt x="12278" y="17959"/>
                </a:cubicBezTo>
              </a:path>
              <a:path w="2159" h="522">
                <a:moveTo>
                  <a:pt x="12254" y="17735"/>
                </a:moveTo>
                <a:cubicBezTo>
                  <a:pt x="12254" y="17606"/>
                  <a:pt x="12229" y="17611"/>
                  <a:pt x="12303" y="17636"/>
                </a:cubicBezTo>
                <a:cubicBezTo>
                  <a:pt x="12311" y="17636"/>
                  <a:pt x="12320" y="17636"/>
                  <a:pt x="12328" y="17636"/>
                </a:cubicBezTo>
              </a:path>
              <a:path w="2159" h="522">
                <a:moveTo>
                  <a:pt x="12378" y="17835"/>
                </a:moveTo>
                <a:cubicBezTo>
                  <a:pt x="12430" y="17857"/>
                  <a:pt x="12448" y="17859"/>
                  <a:pt x="12502" y="17859"/>
                </a:cubicBezTo>
                <a:cubicBezTo>
                  <a:pt x="12510" y="17859"/>
                  <a:pt x="12518" y="17859"/>
                  <a:pt x="12526" y="17859"/>
                </a:cubicBezTo>
                <a:cubicBezTo>
                  <a:pt x="12526" y="17902"/>
                  <a:pt x="12549" y="18009"/>
                  <a:pt x="12502" y="18033"/>
                </a:cubicBezTo>
                <a:cubicBezTo>
                  <a:pt x="12476" y="18046"/>
                  <a:pt x="12415" y="18034"/>
                  <a:pt x="12402" y="18008"/>
                </a:cubicBezTo>
                <a:cubicBezTo>
                  <a:pt x="12382" y="17968"/>
                  <a:pt x="12401" y="17888"/>
                  <a:pt x="12427" y="17859"/>
                </a:cubicBezTo>
                <a:cubicBezTo>
                  <a:pt x="12476" y="17805"/>
                  <a:pt x="12483" y="17857"/>
                  <a:pt x="12526" y="17884"/>
                </a:cubicBezTo>
                <a:cubicBezTo>
                  <a:pt x="12576" y="17916"/>
                  <a:pt x="12609" y="17921"/>
                  <a:pt x="12650" y="17884"/>
                </a:cubicBezTo>
                <a:cubicBezTo>
                  <a:pt x="12681" y="17856"/>
                  <a:pt x="12747" y="17775"/>
                  <a:pt x="12799" y="17810"/>
                </a:cubicBezTo>
                <a:cubicBezTo>
                  <a:pt x="12835" y="17834"/>
                  <a:pt x="12886" y="17897"/>
                  <a:pt x="12923" y="179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30840" y="6348240"/>
            <a:ext cx="669960" cy="152640"/>
          </a:xfrm>
          <a:custGeom>
            <a:avLst/>
            <a:gdLst/>
            <a:ahLst/>
            <a:rect l="l" t="t" r="r" b="b"/>
            <a:pathLst>
              <a:path w="1862" h="423">
                <a:moveTo>
                  <a:pt x="13419" y="17835"/>
                </a:moveTo>
                <a:cubicBezTo>
                  <a:pt x="13419" y="17783"/>
                  <a:pt x="13461" y="17884"/>
                  <a:pt x="13469" y="17909"/>
                </a:cubicBezTo>
                <a:cubicBezTo>
                  <a:pt x="13477" y="17934"/>
                  <a:pt x="13491" y="18031"/>
                  <a:pt x="13543" y="18008"/>
                </a:cubicBezTo>
                <a:cubicBezTo>
                  <a:pt x="13587" y="17988"/>
                  <a:pt x="13633" y="17902"/>
                  <a:pt x="13643" y="17859"/>
                </a:cubicBezTo>
                <a:cubicBezTo>
                  <a:pt x="13643" y="17818"/>
                  <a:pt x="13643" y="17810"/>
                  <a:pt x="13643" y="17785"/>
                </a:cubicBezTo>
              </a:path>
              <a:path w="1862" h="423">
                <a:moveTo>
                  <a:pt x="13717" y="17859"/>
                </a:moveTo>
                <a:cubicBezTo>
                  <a:pt x="13784" y="17893"/>
                  <a:pt x="13821" y="17931"/>
                  <a:pt x="13891" y="17884"/>
                </a:cubicBezTo>
                <a:cubicBezTo>
                  <a:pt x="13936" y="17854"/>
                  <a:pt x="13911" y="17775"/>
                  <a:pt x="13866" y="17785"/>
                </a:cubicBezTo>
                <a:cubicBezTo>
                  <a:pt x="13819" y="17795"/>
                  <a:pt x="13805" y="17872"/>
                  <a:pt x="13816" y="17909"/>
                </a:cubicBezTo>
                <a:cubicBezTo>
                  <a:pt x="13829" y="17954"/>
                  <a:pt x="13884" y="18023"/>
                  <a:pt x="13940" y="18008"/>
                </a:cubicBezTo>
                <a:cubicBezTo>
                  <a:pt x="13990" y="17983"/>
                  <a:pt x="14006" y="17975"/>
                  <a:pt x="14039" y="17959"/>
                </a:cubicBezTo>
              </a:path>
              <a:path w="1862" h="423">
                <a:moveTo>
                  <a:pt x="14213" y="17810"/>
                </a:moveTo>
                <a:cubicBezTo>
                  <a:pt x="14203" y="17841"/>
                  <a:pt x="14165" y="17875"/>
                  <a:pt x="14188" y="17934"/>
                </a:cubicBezTo>
                <a:cubicBezTo>
                  <a:pt x="14214" y="18002"/>
                  <a:pt x="14247" y="18008"/>
                  <a:pt x="14312" y="18008"/>
                </a:cubicBezTo>
                <a:cubicBezTo>
                  <a:pt x="14409" y="18008"/>
                  <a:pt x="14449" y="17933"/>
                  <a:pt x="14486" y="17859"/>
                </a:cubicBezTo>
                <a:cubicBezTo>
                  <a:pt x="14517" y="17797"/>
                  <a:pt x="14518" y="17720"/>
                  <a:pt x="14536" y="17661"/>
                </a:cubicBezTo>
                <a:cubicBezTo>
                  <a:pt x="14536" y="17636"/>
                  <a:pt x="14536" y="17628"/>
                  <a:pt x="14511" y="17636"/>
                </a:cubicBezTo>
                <a:cubicBezTo>
                  <a:pt x="14511" y="17744"/>
                  <a:pt x="14493" y="17861"/>
                  <a:pt x="14536" y="17959"/>
                </a:cubicBezTo>
                <a:cubicBezTo>
                  <a:pt x="14562" y="18013"/>
                  <a:pt x="14574" y="18033"/>
                  <a:pt x="14610" y="18058"/>
                </a:cubicBezTo>
              </a:path>
              <a:path w="1862" h="423">
                <a:moveTo>
                  <a:pt x="14734" y="17934"/>
                </a:moveTo>
                <a:cubicBezTo>
                  <a:pt x="14706" y="17910"/>
                  <a:pt x="14634" y="17840"/>
                  <a:pt x="14585" y="17859"/>
                </a:cubicBezTo>
                <a:cubicBezTo>
                  <a:pt x="14548" y="17874"/>
                  <a:pt x="14534" y="17884"/>
                  <a:pt x="14486" y="17884"/>
                </a:cubicBezTo>
                <a:cubicBezTo>
                  <a:pt x="14486" y="17909"/>
                  <a:pt x="14486" y="17917"/>
                  <a:pt x="14461" y="17909"/>
                </a:cubicBezTo>
              </a:path>
              <a:path w="1862" h="423">
                <a:moveTo>
                  <a:pt x="14684" y="17884"/>
                </a:moveTo>
                <a:cubicBezTo>
                  <a:pt x="14743" y="17884"/>
                  <a:pt x="14782" y="17875"/>
                  <a:pt x="14808" y="17909"/>
                </a:cubicBezTo>
                <a:cubicBezTo>
                  <a:pt x="14836" y="17947"/>
                  <a:pt x="14833" y="17960"/>
                  <a:pt x="14833" y="18008"/>
                </a:cubicBezTo>
                <a:cubicBezTo>
                  <a:pt x="14788" y="18008"/>
                  <a:pt x="14775" y="18028"/>
                  <a:pt x="14734" y="18033"/>
                </a:cubicBezTo>
                <a:cubicBezTo>
                  <a:pt x="14692" y="18038"/>
                  <a:pt x="14664" y="17995"/>
                  <a:pt x="14660" y="17959"/>
                </a:cubicBezTo>
                <a:cubicBezTo>
                  <a:pt x="14660" y="17951"/>
                  <a:pt x="14660" y="17942"/>
                  <a:pt x="14660" y="17934"/>
                </a:cubicBezTo>
              </a:path>
              <a:path w="1862" h="423">
                <a:moveTo>
                  <a:pt x="14684" y="17884"/>
                </a:moveTo>
                <a:cubicBezTo>
                  <a:pt x="14704" y="17892"/>
                  <a:pt x="14864" y="17978"/>
                  <a:pt x="14908" y="17983"/>
                </a:cubicBezTo>
                <a:cubicBezTo>
                  <a:pt x="14948" y="17987"/>
                  <a:pt x="14938" y="17933"/>
                  <a:pt x="14957" y="17909"/>
                </a:cubicBezTo>
                <a:cubicBezTo>
                  <a:pt x="15015" y="17835"/>
                  <a:pt x="15099" y="17820"/>
                  <a:pt x="15180" y="17785"/>
                </a:cubicBezTo>
                <a:cubicBezTo>
                  <a:pt x="15230" y="17760"/>
                  <a:pt x="15247" y="17752"/>
                  <a:pt x="15280" y="177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line is parallel to the vector 2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passes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2, -3, 5). Fi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vector equat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arametric equation  the Cartesia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22560" y="2867040"/>
            <a:ext cx="0" cy="368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75520" y="2865600"/>
            <a:ext cx="0" cy="368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se lines parallel? Consider the direction ve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28480" y="3152880"/>
                <a:ext cx="4472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229360" y="2036880"/>
                <a:ext cx="83808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165640" y="3878280"/>
                <a:ext cx="97812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 flipV="1">
            <a:off x="3875040" y="2771640"/>
            <a:ext cx="127800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64040" y="4106880"/>
            <a:ext cx="21744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348240" y="3963960"/>
                <a:ext cx="148284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5240160" y="5979960"/>
            <a:ext cx="33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97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these lines parall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not parall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parametric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= 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= 1 +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= 1 -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= 5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115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they inters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 =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 =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1 +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1 -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2 = 1 +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1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 – 6 = 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quation systems work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tersect,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= 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-2     (2, -2, 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= 1 - 3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895320" y="2058840"/>
                <a:ext cx="262116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61880" y="3073320"/>
                <a:ext cx="14446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 flipH="1">
            <a:off x="6211800" y="2973240"/>
            <a:ext cx="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65560" y="346860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065560" y="307656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76640" y="300348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78440" y="4137120"/>
            <a:ext cx="177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91320" y="306216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57240" y="1785960"/>
            <a:ext cx="3063960" cy="1523880"/>
          </a:xfrm>
          <a:prstGeom prst="wedgeRectCallout">
            <a:avLst>
              <a:gd name="adj1" fmla="val 44402"/>
              <a:gd name="adj2" fmla="val 72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the simultaneous equation set. If you can find values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t work, then they inters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3759120"/>
            <a:ext cx="3076560" cy="1538280"/>
          </a:xfrm>
          <a:prstGeom prst="wedgeRectCallout">
            <a:avLst>
              <a:gd name="adj1" fmla="val 86995"/>
              <a:gd name="adj2" fmla="val -2337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, for example, this line was 1 – 6 = 10, the equation set is inconsistent and cannot be solved, so the lines do not intersect. (are sk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41320" y="5616720"/>
            <a:ext cx="3121200" cy="885600"/>
          </a:xfrm>
          <a:prstGeom prst="wedgeRectCallout">
            <a:avLst>
              <a:gd name="adj1" fmla="val 65106"/>
              <a:gd name="adj2" fmla="val -43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either value in the respective equation to find the point of inter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258920" y="206028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437000"/>
            <a:ext cx="51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155736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867280" y="1413000"/>
                <a:ext cx="16970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 flipV="1">
            <a:off x="6156360" y="213372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596360" y="1699920"/>
            <a:ext cx="3664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2421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51640" y="1989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ion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11280" y="5013360"/>
            <a:ext cx="144720" cy="144360"/>
            <a:chOff x="2411280" y="5013360"/>
            <a:chExt cx="144720" cy="144360"/>
          </a:xfrm>
        </p:grpSpPr>
        <p:sp>
          <p:nvSpPr>
            <p:cNvPr id="123" name=""/>
            <p:cNvSpPr/>
            <p:nvPr/>
          </p:nvSpPr>
          <p:spPr>
            <a:xfrm flipH="1">
              <a:off x="2411280" y="5013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11280" y="5013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556000" y="472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,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4579920"/>
            <a:ext cx="1225440" cy="504720"/>
          </a:xfrm>
          <a:prstGeom prst="line">
            <a:avLst/>
          </a:prstGeom>
          <a:ln w="936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80000" y="5445000"/>
                <a:ext cx="527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8" name=""/>
          <p:cNvGraphicFramePr/>
          <p:nvPr/>
        </p:nvGraphicFramePr>
        <p:xfrm>
          <a:off x="3419640" y="4869000"/>
          <a:ext cx="5545080" cy="1526760"/>
        </p:xfrm>
        <a:graphic>
          <a:graphicData uri="http://schemas.openxmlformats.org/drawingml/2006/table">
            <a:tbl>
              <a:tblPr/>
              <a:tblGrid>
                <a:gridCol w="2143080"/>
                <a:gridCol w="519120"/>
                <a:gridCol w="515880"/>
                <a:gridCol w="519120"/>
                <a:gridCol w="515880"/>
                <a:gridCol w="480960"/>
                <a:gridCol w="423720"/>
                <a:gridCol w="427320"/>
              </a:tblGrid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 v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072120" y="5445000"/>
                <a:ext cx="552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588000" y="5445000"/>
                <a:ext cx="505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085160" y="5445000"/>
                <a:ext cx="5205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2" name=""/>
          <p:cNvGrpSpPr/>
          <p:nvPr/>
        </p:nvGrpSpPr>
        <p:grpSpPr>
          <a:xfrm>
            <a:off x="2874600" y="3976560"/>
            <a:ext cx="144720" cy="144360"/>
            <a:chOff x="2874600" y="3976560"/>
            <a:chExt cx="144720" cy="144360"/>
          </a:xfrm>
        </p:grpSpPr>
        <p:sp>
          <p:nvSpPr>
            <p:cNvPr id="133" name=""/>
            <p:cNvSpPr/>
            <p:nvPr/>
          </p:nvSpPr>
          <p:spPr>
            <a:xfrm flipH="1">
              <a:off x="2874600" y="39765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74960" y="39765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04800" y="3040200"/>
            <a:ext cx="144720" cy="144360"/>
            <a:chOff x="3304800" y="3040200"/>
            <a:chExt cx="144720" cy="144360"/>
          </a:xfrm>
        </p:grpSpPr>
        <p:sp>
          <p:nvSpPr>
            <p:cNvPr id="136" name=""/>
            <p:cNvSpPr/>
            <p:nvPr/>
          </p:nvSpPr>
          <p:spPr>
            <a:xfrm flipH="1">
              <a:off x="3304800" y="30402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05160" y="304020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1836720" y="2490840"/>
            <a:ext cx="1871640" cy="38894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528640" y="4710240"/>
            <a:ext cx="144720" cy="144360"/>
            <a:chOff x="2528640" y="4710240"/>
            <a:chExt cx="144720" cy="144360"/>
          </a:xfrm>
        </p:grpSpPr>
        <p:sp>
          <p:nvSpPr>
            <p:cNvPr id="140" name=""/>
            <p:cNvSpPr/>
            <p:nvPr/>
          </p:nvSpPr>
          <p:spPr>
            <a:xfrm flipH="1">
              <a:off x="2528640" y="47102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29000" y="47102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88920" y="5999040"/>
            <a:ext cx="144720" cy="144360"/>
            <a:chOff x="1888920" y="5999040"/>
            <a:chExt cx="144720" cy="144360"/>
          </a:xfrm>
        </p:grpSpPr>
        <p:sp>
          <p:nvSpPr>
            <p:cNvPr id="143" name=""/>
            <p:cNvSpPr/>
            <p:nvPr/>
          </p:nvSpPr>
          <p:spPr>
            <a:xfrm flipH="1">
              <a:off x="1888920" y="59990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89280" y="59990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203880" y="2843280"/>
            <a:ext cx="26589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’ can be any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90840" y="4022640"/>
            <a:ext cx="465120" cy="105408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94800" y="3070080"/>
            <a:ext cx="887400" cy="201168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94800" y="4773600"/>
            <a:ext cx="127080" cy="30816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947960" y="5081760"/>
            <a:ext cx="504720" cy="985680"/>
          </a:xfrm>
          <a:prstGeom prst="rtTriangle">
            <a:avLst/>
          </a:prstGeom>
          <a:noFill/>
          <a:ln w="936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9800" y="1741320"/>
            <a:ext cx="750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the vector equation of the line through A and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55560" y="2379600"/>
                <a:ext cx="8794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60560" y="2363760"/>
                <a:ext cx="8794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 flipV="1">
            <a:off x="2119320" y="3411360"/>
            <a:ext cx="0" cy="262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6640" y="4716360"/>
            <a:ext cx="322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624040" y="5433840"/>
            <a:ext cx="144720" cy="144360"/>
            <a:chOff x="2624040" y="5433840"/>
            <a:chExt cx="144720" cy="144360"/>
          </a:xfrm>
        </p:grpSpPr>
        <p:sp>
          <p:nvSpPr>
            <p:cNvPr id="157" name=""/>
            <p:cNvSpPr/>
            <p:nvPr/>
          </p:nvSpPr>
          <p:spPr>
            <a:xfrm flipH="1">
              <a:off x="2624040" y="543384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24040" y="543384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68120" y="3546360"/>
            <a:ext cx="144720" cy="144360"/>
            <a:chOff x="1068120" y="3546360"/>
            <a:chExt cx="144720" cy="144360"/>
          </a:xfrm>
        </p:grpSpPr>
        <p:sp>
          <p:nvSpPr>
            <p:cNvPr id="160" name=""/>
            <p:cNvSpPr/>
            <p:nvPr/>
          </p:nvSpPr>
          <p:spPr>
            <a:xfrm flipH="1">
              <a:off x="1068120" y="35463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68480" y="354636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830680" y="54435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(2,-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0040" y="3235320"/>
            <a:ext cx="11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 (-3,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8480" y="3208320"/>
            <a:ext cx="2511360" cy="303228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25760" y="240984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ion vector =        (or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54760" y="2359080"/>
                <a:ext cx="603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866000" y="2355840"/>
                <a:ext cx="5731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736800" y="3027240"/>
                <a:ext cx="5031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483080" y="4206960"/>
            <a:ext cx="447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 point = A (or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127480" y="5116680"/>
                <a:ext cx="2305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find the vector equation of the line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  A (5, -3) and B (-4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22560" y="2959200"/>
                <a:ext cx="901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09600" y="2970360"/>
                <a:ext cx="66528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066680" y="4923000"/>
                <a:ext cx="689040" cy="13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73320" y="4935600"/>
                <a:ext cx="8557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786120" y="2224080"/>
            <a:ext cx="849240" cy="222120"/>
          </a:xfrm>
          <a:custGeom>
            <a:avLst/>
            <a:gdLst/>
            <a:ahLst/>
            <a:rect l="l" t="t" r="r" b="b"/>
            <a:pathLst>
              <a:path w="2358" h="621">
                <a:moveTo>
                  <a:pt x="10616" y="6226"/>
                </a:moveTo>
                <a:cubicBezTo>
                  <a:pt x="10640" y="6218"/>
                  <a:pt x="10657" y="6162"/>
                  <a:pt x="10641" y="6201"/>
                </a:cubicBezTo>
                <a:cubicBezTo>
                  <a:pt x="10603" y="6293"/>
                  <a:pt x="10577" y="6372"/>
                  <a:pt x="10567" y="6474"/>
                </a:cubicBezTo>
                <a:cubicBezTo>
                  <a:pt x="10567" y="6540"/>
                  <a:pt x="10567" y="6557"/>
                  <a:pt x="10567" y="6598"/>
                </a:cubicBezTo>
              </a:path>
              <a:path w="2358" h="621">
                <a:moveTo>
                  <a:pt x="10517" y="6226"/>
                </a:moveTo>
                <a:cubicBezTo>
                  <a:pt x="10565" y="6169"/>
                  <a:pt x="10567" y="6176"/>
                  <a:pt x="10641" y="6176"/>
                </a:cubicBezTo>
                <a:cubicBezTo>
                  <a:pt x="10723" y="6176"/>
                  <a:pt x="10753" y="6245"/>
                  <a:pt x="10765" y="6325"/>
                </a:cubicBezTo>
                <a:cubicBezTo>
                  <a:pt x="10777" y="6405"/>
                  <a:pt x="10780" y="6527"/>
                  <a:pt x="10740" y="6598"/>
                </a:cubicBezTo>
                <a:cubicBezTo>
                  <a:pt x="10714" y="6645"/>
                  <a:pt x="10662" y="6648"/>
                  <a:pt x="10616" y="6648"/>
                </a:cubicBezTo>
                <a:cubicBezTo>
                  <a:pt x="10600" y="6648"/>
                  <a:pt x="10583" y="6648"/>
                  <a:pt x="10567" y="6648"/>
                </a:cubicBezTo>
              </a:path>
              <a:path w="2358" h="621">
                <a:moveTo>
                  <a:pt x="10939" y="6499"/>
                </a:moveTo>
                <a:cubicBezTo>
                  <a:pt x="10972" y="6542"/>
                  <a:pt x="10983" y="6566"/>
                  <a:pt x="10988" y="6623"/>
                </a:cubicBezTo>
                <a:cubicBezTo>
                  <a:pt x="10988" y="6631"/>
                  <a:pt x="10988" y="6640"/>
                  <a:pt x="10988" y="6648"/>
                </a:cubicBezTo>
              </a:path>
              <a:path w="2358" h="621">
                <a:moveTo>
                  <a:pt x="10964" y="6424"/>
                </a:moveTo>
                <a:cubicBezTo>
                  <a:pt x="10964" y="6383"/>
                  <a:pt x="10964" y="6375"/>
                  <a:pt x="10964" y="6350"/>
                </a:cubicBezTo>
              </a:path>
              <a:path w="2358" h="621">
                <a:moveTo>
                  <a:pt x="11112" y="6548"/>
                </a:moveTo>
                <a:cubicBezTo>
                  <a:pt x="11112" y="6590"/>
                  <a:pt x="11112" y="6598"/>
                  <a:pt x="11112" y="6623"/>
                </a:cubicBezTo>
                <a:cubicBezTo>
                  <a:pt x="11137" y="6590"/>
                  <a:pt x="11152" y="6563"/>
                  <a:pt x="11162" y="6524"/>
                </a:cubicBezTo>
                <a:cubicBezTo>
                  <a:pt x="11195" y="6524"/>
                  <a:pt x="11228" y="6524"/>
                  <a:pt x="11261" y="6524"/>
                </a:cubicBezTo>
              </a:path>
              <a:path w="2358" h="621">
                <a:moveTo>
                  <a:pt x="11336" y="6548"/>
                </a:moveTo>
                <a:cubicBezTo>
                  <a:pt x="11345" y="6574"/>
                  <a:pt x="11354" y="6594"/>
                  <a:pt x="11385" y="6598"/>
                </a:cubicBezTo>
                <a:cubicBezTo>
                  <a:pt x="11431" y="6604"/>
                  <a:pt x="11455" y="6595"/>
                  <a:pt x="11460" y="6548"/>
                </a:cubicBezTo>
                <a:cubicBezTo>
                  <a:pt x="11460" y="6524"/>
                  <a:pt x="11460" y="6515"/>
                  <a:pt x="11460" y="6499"/>
                </a:cubicBezTo>
                <a:cubicBezTo>
                  <a:pt x="11395" y="6499"/>
                  <a:pt x="11391" y="6506"/>
                  <a:pt x="11385" y="6573"/>
                </a:cubicBezTo>
                <a:cubicBezTo>
                  <a:pt x="11381" y="6617"/>
                  <a:pt x="11380" y="6703"/>
                  <a:pt x="11435" y="6722"/>
                </a:cubicBezTo>
                <a:cubicBezTo>
                  <a:pt x="11498" y="6744"/>
                  <a:pt x="11565" y="6713"/>
                  <a:pt x="11609" y="6672"/>
                </a:cubicBezTo>
                <a:cubicBezTo>
                  <a:pt x="11665" y="6620"/>
                  <a:pt x="11689" y="6558"/>
                  <a:pt x="11733" y="6499"/>
                </a:cubicBezTo>
                <a:cubicBezTo>
                  <a:pt x="11741" y="6491"/>
                  <a:pt x="11749" y="6482"/>
                  <a:pt x="11757" y="6474"/>
                </a:cubicBezTo>
                <a:cubicBezTo>
                  <a:pt x="11725" y="6529"/>
                  <a:pt x="11719" y="6587"/>
                  <a:pt x="11757" y="6648"/>
                </a:cubicBezTo>
                <a:cubicBezTo>
                  <a:pt x="11787" y="6696"/>
                  <a:pt x="11863" y="6718"/>
                  <a:pt x="11906" y="6672"/>
                </a:cubicBezTo>
                <a:cubicBezTo>
                  <a:pt x="11964" y="6610"/>
                  <a:pt x="11956" y="6526"/>
                  <a:pt x="11956" y="6449"/>
                </a:cubicBezTo>
                <a:cubicBezTo>
                  <a:pt x="11956" y="6433"/>
                  <a:pt x="11956" y="6416"/>
                  <a:pt x="11956" y="6400"/>
                </a:cubicBezTo>
                <a:cubicBezTo>
                  <a:pt x="11956" y="6343"/>
                  <a:pt x="11973" y="6475"/>
                  <a:pt x="11981" y="6499"/>
                </a:cubicBezTo>
                <a:cubicBezTo>
                  <a:pt x="12010" y="6583"/>
                  <a:pt x="12037" y="6647"/>
                  <a:pt x="12080" y="6722"/>
                </a:cubicBezTo>
              </a:path>
              <a:path w="2358" h="621">
                <a:moveTo>
                  <a:pt x="12129" y="6697"/>
                </a:moveTo>
                <a:cubicBezTo>
                  <a:pt x="12119" y="6633"/>
                  <a:pt x="12104" y="6629"/>
                  <a:pt x="12030" y="6623"/>
                </a:cubicBezTo>
                <a:cubicBezTo>
                  <a:pt x="12008" y="6621"/>
                  <a:pt x="11942" y="6650"/>
                  <a:pt x="11931" y="6672"/>
                </a:cubicBezTo>
                <a:cubicBezTo>
                  <a:pt x="11931" y="6680"/>
                  <a:pt x="11931" y="6689"/>
                  <a:pt x="11931" y="6697"/>
                </a:cubicBezTo>
              </a:path>
              <a:path w="2358" h="621">
                <a:moveTo>
                  <a:pt x="12105" y="6648"/>
                </a:moveTo>
                <a:cubicBezTo>
                  <a:pt x="12175" y="6687"/>
                  <a:pt x="12193" y="6695"/>
                  <a:pt x="12204" y="6772"/>
                </a:cubicBezTo>
              </a:path>
              <a:path w="2358" h="621">
                <a:moveTo>
                  <a:pt x="12154" y="6524"/>
                </a:moveTo>
                <a:cubicBezTo>
                  <a:pt x="12154" y="6479"/>
                  <a:pt x="12151" y="6466"/>
                  <a:pt x="12179" y="6449"/>
                </a:cubicBezTo>
              </a:path>
              <a:path w="2358" h="621">
                <a:moveTo>
                  <a:pt x="12328" y="6648"/>
                </a:moveTo>
                <a:cubicBezTo>
                  <a:pt x="12356" y="6648"/>
                  <a:pt x="12415" y="6634"/>
                  <a:pt x="12427" y="6672"/>
                </a:cubicBezTo>
                <a:cubicBezTo>
                  <a:pt x="12437" y="6703"/>
                  <a:pt x="12427" y="6761"/>
                  <a:pt x="12427" y="6796"/>
                </a:cubicBezTo>
                <a:cubicBezTo>
                  <a:pt x="12396" y="6789"/>
                  <a:pt x="12348" y="6776"/>
                  <a:pt x="12328" y="6747"/>
                </a:cubicBezTo>
                <a:cubicBezTo>
                  <a:pt x="12313" y="6726"/>
                  <a:pt x="12286" y="6654"/>
                  <a:pt x="12303" y="6623"/>
                </a:cubicBezTo>
                <a:cubicBezTo>
                  <a:pt x="12311" y="6615"/>
                  <a:pt x="12320" y="6606"/>
                  <a:pt x="12328" y="6598"/>
                </a:cubicBezTo>
                <a:cubicBezTo>
                  <a:pt x="12389" y="6610"/>
                  <a:pt x="12404" y="6641"/>
                  <a:pt x="12452" y="6672"/>
                </a:cubicBezTo>
                <a:cubicBezTo>
                  <a:pt x="12491" y="6697"/>
                  <a:pt x="12544" y="6717"/>
                  <a:pt x="12576" y="6672"/>
                </a:cubicBezTo>
                <a:cubicBezTo>
                  <a:pt x="12595" y="6645"/>
                  <a:pt x="12625" y="6559"/>
                  <a:pt x="12675" y="6573"/>
                </a:cubicBezTo>
                <a:cubicBezTo>
                  <a:pt x="12744" y="6593"/>
                  <a:pt x="12800" y="6673"/>
                  <a:pt x="12849" y="6722"/>
                </a:cubicBezTo>
                <a:cubicBezTo>
                  <a:pt x="12857" y="6730"/>
                  <a:pt x="12866" y="6739"/>
                  <a:pt x="12874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22920" y="236700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13543" y="6573"/>
                </a:moveTo>
                <a:cubicBezTo>
                  <a:pt x="13551" y="6573"/>
                  <a:pt x="13560" y="6573"/>
                  <a:pt x="13568" y="6573"/>
                </a:cubicBezTo>
                <a:cubicBezTo>
                  <a:pt x="13555" y="6611"/>
                  <a:pt x="13539" y="6598"/>
                  <a:pt x="13494" y="6598"/>
                </a:cubicBezTo>
                <a:cubicBezTo>
                  <a:pt x="13461" y="6598"/>
                  <a:pt x="13428" y="6598"/>
                  <a:pt x="13395" y="6598"/>
                </a:cubicBezTo>
              </a:path>
              <a:path w="174" h="150">
                <a:moveTo>
                  <a:pt x="13543" y="6722"/>
                </a:moveTo>
                <a:cubicBezTo>
                  <a:pt x="13610" y="6722"/>
                  <a:pt x="13505" y="6722"/>
                  <a:pt x="13494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70320" y="2071800"/>
            <a:ext cx="1089360" cy="598320"/>
          </a:xfrm>
          <a:custGeom>
            <a:avLst/>
            <a:gdLst/>
            <a:ahLst/>
            <a:rect l="l" t="t" r="r" b="b"/>
            <a:pathLst>
              <a:path w="3027" h="1663">
                <a:moveTo>
                  <a:pt x="15280" y="6003"/>
                </a:moveTo>
                <a:cubicBezTo>
                  <a:pt x="15308" y="5993"/>
                  <a:pt x="15323" y="5970"/>
                  <a:pt x="15304" y="5978"/>
                </a:cubicBezTo>
                <a:cubicBezTo>
                  <a:pt x="15266" y="5994"/>
                  <a:pt x="15236" y="6003"/>
                  <a:pt x="15230" y="6052"/>
                </a:cubicBezTo>
                <a:cubicBezTo>
                  <a:pt x="15226" y="6088"/>
                  <a:pt x="15239" y="6140"/>
                  <a:pt x="15280" y="6152"/>
                </a:cubicBezTo>
                <a:cubicBezTo>
                  <a:pt x="15344" y="6171"/>
                  <a:pt x="15388" y="6179"/>
                  <a:pt x="15453" y="6201"/>
                </a:cubicBezTo>
                <a:cubicBezTo>
                  <a:pt x="15483" y="6211"/>
                  <a:pt x="15527" y="6258"/>
                  <a:pt x="15503" y="6300"/>
                </a:cubicBezTo>
                <a:cubicBezTo>
                  <a:pt x="15475" y="6350"/>
                  <a:pt x="15430" y="6372"/>
                  <a:pt x="15379" y="6375"/>
                </a:cubicBezTo>
                <a:cubicBezTo>
                  <a:pt x="15322" y="6378"/>
                  <a:pt x="15299" y="6377"/>
                  <a:pt x="15255" y="6350"/>
                </a:cubicBezTo>
              </a:path>
              <a:path w="3027" h="1663">
                <a:moveTo>
                  <a:pt x="15652" y="5953"/>
                </a:moveTo>
                <a:cubicBezTo>
                  <a:pt x="15660" y="5953"/>
                  <a:pt x="15669" y="5953"/>
                  <a:pt x="15677" y="5953"/>
                </a:cubicBezTo>
                <a:cubicBezTo>
                  <a:pt x="15653" y="5917"/>
                  <a:pt x="15610" y="5928"/>
                  <a:pt x="15553" y="5928"/>
                </a:cubicBezTo>
                <a:cubicBezTo>
                  <a:pt x="15520" y="5928"/>
                  <a:pt x="15503" y="5928"/>
                  <a:pt x="15478" y="5928"/>
                </a:cubicBezTo>
              </a:path>
              <a:path w="3027" h="1663">
                <a:moveTo>
                  <a:pt x="15850" y="6201"/>
                </a:moveTo>
                <a:cubicBezTo>
                  <a:pt x="15842" y="6201"/>
                  <a:pt x="15833" y="6201"/>
                  <a:pt x="15825" y="6201"/>
                </a:cubicBezTo>
                <a:cubicBezTo>
                  <a:pt x="15885" y="6201"/>
                  <a:pt x="15918" y="6186"/>
                  <a:pt x="15974" y="6176"/>
                </a:cubicBezTo>
                <a:cubicBezTo>
                  <a:pt x="16027" y="6167"/>
                  <a:pt x="16093" y="6176"/>
                  <a:pt x="16148" y="6176"/>
                </a:cubicBezTo>
              </a:path>
              <a:path w="3027" h="1663">
                <a:moveTo>
                  <a:pt x="16470" y="6052"/>
                </a:moveTo>
                <a:cubicBezTo>
                  <a:pt x="16470" y="6006"/>
                  <a:pt x="16478" y="5980"/>
                  <a:pt x="16520" y="5953"/>
                </a:cubicBezTo>
                <a:cubicBezTo>
                  <a:pt x="16552" y="5932"/>
                  <a:pt x="16630" y="5909"/>
                  <a:pt x="16669" y="5928"/>
                </a:cubicBezTo>
                <a:cubicBezTo>
                  <a:pt x="16702" y="5945"/>
                  <a:pt x="16739" y="5995"/>
                  <a:pt x="16743" y="6028"/>
                </a:cubicBezTo>
                <a:cubicBezTo>
                  <a:pt x="16748" y="6068"/>
                  <a:pt x="16695" y="6101"/>
                  <a:pt x="16669" y="6127"/>
                </a:cubicBezTo>
                <a:cubicBezTo>
                  <a:pt x="16640" y="6156"/>
                  <a:pt x="16628" y="6164"/>
                  <a:pt x="16619" y="6201"/>
                </a:cubicBezTo>
                <a:cubicBezTo>
                  <a:pt x="16694" y="6216"/>
                  <a:pt x="16763" y="6249"/>
                  <a:pt x="16818" y="6300"/>
                </a:cubicBezTo>
                <a:cubicBezTo>
                  <a:pt x="16845" y="6325"/>
                  <a:pt x="16859" y="6388"/>
                  <a:pt x="16842" y="6424"/>
                </a:cubicBezTo>
                <a:cubicBezTo>
                  <a:pt x="16822" y="6466"/>
                  <a:pt x="16708" y="6458"/>
                  <a:pt x="16669" y="6449"/>
                </a:cubicBezTo>
                <a:cubicBezTo>
                  <a:pt x="16589" y="6431"/>
                  <a:pt x="16521" y="6410"/>
                  <a:pt x="16446" y="6400"/>
                </a:cubicBezTo>
              </a:path>
              <a:path w="3027" h="1663">
                <a:moveTo>
                  <a:pt x="14932" y="6921"/>
                </a:moveTo>
                <a:cubicBezTo>
                  <a:pt x="14940" y="6921"/>
                  <a:pt x="14949" y="6921"/>
                  <a:pt x="14957" y="6921"/>
                </a:cubicBezTo>
                <a:cubicBezTo>
                  <a:pt x="14914" y="6931"/>
                  <a:pt x="14881" y="6962"/>
                  <a:pt x="14833" y="6970"/>
                </a:cubicBezTo>
                <a:cubicBezTo>
                  <a:pt x="14776" y="6980"/>
                  <a:pt x="14758" y="6966"/>
                  <a:pt x="14709" y="6995"/>
                </a:cubicBezTo>
              </a:path>
              <a:path w="3027" h="1663">
                <a:moveTo>
                  <a:pt x="15180" y="6846"/>
                </a:moveTo>
                <a:cubicBezTo>
                  <a:pt x="15158" y="6823"/>
                  <a:pt x="15150" y="6818"/>
                  <a:pt x="15156" y="6796"/>
                </a:cubicBezTo>
                <a:cubicBezTo>
                  <a:pt x="15210" y="6783"/>
                  <a:pt x="15218" y="6752"/>
                  <a:pt x="15280" y="6747"/>
                </a:cubicBezTo>
                <a:cubicBezTo>
                  <a:pt x="15357" y="6740"/>
                  <a:pt x="15373" y="6746"/>
                  <a:pt x="15379" y="6821"/>
                </a:cubicBezTo>
                <a:cubicBezTo>
                  <a:pt x="15384" y="6882"/>
                  <a:pt x="15380" y="6922"/>
                  <a:pt x="15354" y="6970"/>
                </a:cubicBezTo>
                <a:cubicBezTo>
                  <a:pt x="15332" y="7012"/>
                  <a:pt x="15285" y="7050"/>
                  <a:pt x="15280" y="7094"/>
                </a:cubicBezTo>
                <a:cubicBezTo>
                  <a:pt x="15280" y="7102"/>
                  <a:pt x="15280" y="7111"/>
                  <a:pt x="15280" y="7119"/>
                </a:cubicBezTo>
                <a:cubicBezTo>
                  <a:pt x="15371" y="7119"/>
                  <a:pt x="15462" y="7119"/>
                  <a:pt x="15553" y="7119"/>
                </a:cubicBezTo>
              </a:path>
              <a:path w="3027" h="1663">
                <a:moveTo>
                  <a:pt x="15900" y="6970"/>
                </a:moveTo>
                <a:cubicBezTo>
                  <a:pt x="15892" y="6970"/>
                  <a:pt x="15883" y="6970"/>
                  <a:pt x="15875" y="6970"/>
                </a:cubicBezTo>
                <a:cubicBezTo>
                  <a:pt x="15919" y="6937"/>
                  <a:pt x="15941" y="6945"/>
                  <a:pt x="15999" y="6945"/>
                </a:cubicBezTo>
                <a:cubicBezTo>
                  <a:pt x="16053" y="6945"/>
                  <a:pt x="16158" y="6925"/>
                  <a:pt x="16173" y="6970"/>
                </a:cubicBezTo>
              </a:path>
              <a:path w="3027" h="1663">
                <a:moveTo>
                  <a:pt x="16495" y="6896"/>
                </a:moveTo>
                <a:cubicBezTo>
                  <a:pt x="16495" y="6855"/>
                  <a:pt x="16507" y="6930"/>
                  <a:pt x="16495" y="6970"/>
                </a:cubicBezTo>
                <a:cubicBezTo>
                  <a:pt x="16476" y="7035"/>
                  <a:pt x="16448" y="7122"/>
                  <a:pt x="16470" y="7193"/>
                </a:cubicBezTo>
                <a:cubicBezTo>
                  <a:pt x="16478" y="7210"/>
                  <a:pt x="16487" y="7226"/>
                  <a:pt x="16495" y="7243"/>
                </a:cubicBezTo>
              </a:path>
              <a:path w="3027" h="1663">
                <a:moveTo>
                  <a:pt x="17066" y="5779"/>
                </a:moveTo>
                <a:cubicBezTo>
                  <a:pt x="17082" y="5795"/>
                  <a:pt x="17099" y="5813"/>
                  <a:pt x="17115" y="5829"/>
                </a:cubicBezTo>
                <a:cubicBezTo>
                  <a:pt x="17162" y="5876"/>
                  <a:pt x="17196" y="5901"/>
                  <a:pt x="17239" y="5953"/>
                </a:cubicBezTo>
                <a:cubicBezTo>
                  <a:pt x="17294" y="6019"/>
                  <a:pt x="17371" y="6114"/>
                  <a:pt x="17388" y="6201"/>
                </a:cubicBezTo>
                <a:cubicBezTo>
                  <a:pt x="17412" y="6327"/>
                  <a:pt x="17398" y="6503"/>
                  <a:pt x="17363" y="6623"/>
                </a:cubicBezTo>
                <a:cubicBezTo>
                  <a:pt x="17331" y="6734"/>
                  <a:pt x="17253" y="6826"/>
                  <a:pt x="17190" y="6921"/>
                </a:cubicBezTo>
                <a:cubicBezTo>
                  <a:pt x="17133" y="7006"/>
                  <a:pt x="17085" y="7095"/>
                  <a:pt x="17016" y="7169"/>
                </a:cubicBezTo>
                <a:cubicBezTo>
                  <a:pt x="16991" y="7193"/>
                  <a:pt x="16982" y="7201"/>
                  <a:pt x="16966" y="7218"/>
                </a:cubicBezTo>
              </a:path>
              <a:path w="3027" h="1663">
                <a:moveTo>
                  <a:pt x="14883" y="5779"/>
                </a:moveTo>
                <a:cubicBezTo>
                  <a:pt x="14899" y="5771"/>
                  <a:pt x="14916" y="5763"/>
                  <a:pt x="14932" y="5755"/>
                </a:cubicBezTo>
                <a:cubicBezTo>
                  <a:pt x="14893" y="5789"/>
                  <a:pt x="14848" y="5833"/>
                  <a:pt x="14808" y="5879"/>
                </a:cubicBezTo>
                <a:cubicBezTo>
                  <a:pt x="14751" y="5944"/>
                  <a:pt x="14689" y="6008"/>
                  <a:pt x="14635" y="6077"/>
                </a:cubicBezTo>
                <a:cubicBezTo>
                  <a:pt x="14575" y="6154"/>
                  <a:pt x="14527" y="6240"/>
                  <a:pt x="14486" y="6325"/>
                </a:cubicBezTo>
                <a:cubicBezTo>
                  <a:pt x="14453" y="6394"/>
                  <a:pt x="14442" y="6456"/>
                  <a:pt x="14412" y="6524"/>
                </a:cubicBezTo>
                <a:cubicBezTo>
                  <a:pt x="14378" y="6600"/>
                  <a:pt x="14365" y="6689"/>
                  <a:pt x="14362" y="6772"/>
                </a:cubicBezTo>
                <a:cubicBezTo>
                  <a:pt x="14356" y="6918"/>
                  <a:pt x="14371" y="7053"/>
                  <a:pt x="14387" y="7193"/>
                </a:cubicBezTo>
                <a:cubicBezTo>
                  <a:pt x="14396" y="7272"/>
                  <a:pt x="14412" y="7336"/>
                  <a:pt x="14412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15080" y="2116080"/>
            <a:ext cx="857160" cy="546120"/>
          </a:xfrm>
          <a:custGeom>
            <a:avLst/>
            <a:gdLst/>
            <a:ahLst/>
            <a:rect l="l" t="t" r="r" b="b"/>
            <a:pathLst>
              <a:path w="2382" h="1514">
                <a:moveTo>
                  <a:pt x="18777" y="6524"/>
                </a:moveTo>
                <a:cubicBezTo>
                  <a:pt x="18814" y="6496"/>
                  <a:pt x="18820" y="6485"/>
                  <a:pt x="18852" y="6474"/>
                </a:cubicBezTo>
                <a:cubicBezTo>
                  <a:pt x="18798" y="6447"/>
                  <a:pt x="18797" y="6482"/>
                  <a:pt x="18728" y="6499"/>
                </a:cubicBezTo>
                <a:cubicBezTo>
                  <a:pt x="18707" y="6504"/>
                  <a:pt x="18675" y="6499"/>
                  <a:pt x="18653" y="6499"/>
                </a:cubicBezTo>
              </a:path>
              <a:path w="2382" h="1514">
                <a:moveTo>
                  <a:pt x="18802" y="6598"/>
                </a:moveTo>
                <a:cubicBezTo>
                  <a:pt x="18810" y="6598"/>
                  <a:pt x="18819" y="6598"/>
                  <a:pt x="18827" y="6598"/>
                </a:cubicBezTo>
                <a:cubicBezTo>
                  <a:pt x="18827" y="6650"/>
                  <a:pt x="18829" y="6648"/>
                  <a:pt x="18777" y="6648"/>
                </a:cubicBezTo>
                <a:cubicBezTo>
                  <a:pt x="18744" y="6648"/>
                  <a:pt x="18711" y="6648"/>
                  <a:pt x="18678" y="6648"/>
                </a:cubicBezTo>
              </a:path>
              <a:path w="2382" h="1514">
                <a:moveTo>
                  <a:pt x="19893" y="6176"/>
                </a:moveTo>
                <a:cubicBezTo>
                  <a:pt x="19893" y="6124"/>
                  <a:pt x="19888" y="6124"/>
                  <a:pt x="19918" y="6102"/>
                </a:cubicBezTo>
                <a:cubicBezTo>
                  <a:pt x="19970" y="6063"/>
                  <a:pt x="19971" y="6052"/>
                  <a:pt x="20042" y="6052"/>
                </a:cubicBezTo>
                <a:cubicBezTo>
                  <a:pt x="20091" y="6052"/>
                  <a:pt x="20111" y="6106"/>
                  <a:pt x="20092" y="6152"/>
                </a:cubicBezTo>
                <a:cubicBezTo>
                  <a:pt x="20075" y="6193"/>
                  <a:pt x="20034" y="6236"/>
                  <a:pt x="20017" y="6276"/>
                </a:cubicBezTo>
                <a:cubicBezTo>
                  <a:pt x="20011" y="6290"/>
                  <a:pt x="19940" y="6377"/>
                  <a:pt x="19968" y="6400"/>
                </a:cubicBezTo>
                <a:cubicBezTo>
                  <a:pt x="20016" y="6438"/>
                  <a:pt x="20038" y="6409"/>
                  <a:pt x="20092" y="6400"/>
                </a:cubicBezTo>
                <a:cubicBezTo>
                  <a:pt x="20154" y="6389"/>
                  <a:pt x="20226" y="6400"/>
                  <a:pt x="20290" y="6400"/>
                </a:cubicBezTo>
              </a:path>
              <a:path w="2382" h="1514">
                <a:moveTo>
                  <a:pt x="19621" y="6945"/>
                </a:moveTo>
                <a:cubicBezTo>
                  <a:pt x="19682" y="6945"/>
                  <a:pt x="19713" y="6908"/>
                  <a:pt x="19769" y="6896"/>
                </a:cubicBezTo>
                <a:cubicBezTo>
                  <a:pt x="19823" y="6884"/>
                  <a:pt x="19869" y="6883"/>
                  <a:pt x="19918" y="6871"/>
                </a:cubicBezTo>
              </a:path>
              <a:path w="2382" h="1514">
                <a:moveTo>
                  <a:pt x="20216" y="6821"/>
                </a:moveTo>
                <a:cubicBezTo>
                  <a:pt x="20194" y="6799"/>
                  <a:pt x="20185" y="6794"/>
                  <a:pt x="20191" y="6772"/>
                </a:cubicBezTo>
                <a:cubicBezTo>
                  <a:pt x="20212" y="6740"/>
                  <a:pt x="20261" y="6726"/>
                  <a:pt x="20315" y="6722"/>
                </a:cubicBezTo>
                <a:cubicBezTo>
                  <a:pt x="20365" y="6718"/>
                  <a:pt x="20409" y="6749"/>
                  <a:pt x="20414" y="6796"/>
                </a:cubicBezTo>
                <a:cubicBezTo>
                  <a:pt x="20421" y="6856"/>
                  <a:pt x="20385" y="6849"/>
                  <a:pt x="20365" y="6896"/>
                </a:cubicBezTo>
                <a:cubicBezTo>
                  <a:pt x="20351" y="6929"/>
                  <a:pt x="20353" y="6918"/>
                  <a:pt x="20315" y="6945"/>
                </a:cubicBezTo>
                <a:cubicBezTo>
                  <a:pt x="20326" y="6988"/>
                  <a:pt x="20355" y="7012"/>
                  <a:pt x="20389" y="7045"/>
                </a:cubicBezTo>
                <a:cubicBezTo>
                  <a:pt x="20432" y="7087"/>
                  <a:pt x="20468" y="7120"/>
                  <a:pt x="20489" y="7169"/>
                </a:cubicBezTo>
                <a:cubicBezTo>
                  <a:pt x="20509" y="7209"/>
                  <a:pt x="20517" y="7216"/>
                  <a:pt x="20513" y="7243"/>
                </a:cubicBezTo>
                <a:cubicBezTo>
                  <a:pt x="20470" y="7276"/>
                  <a:pt x="20447" y="7268"/>
                  <a:pt x="20389" y="7268"/>
                </a:cubicBezTo>
                <a:cubicBezTo>
                  <a:pt x="20333" y="7268"/>
                  <a:pt x="20296" y="7226"/>
                  <a:pt x="20241" y="7218"/>
                </a:cubicBezTo>
              </a:path>
              <a:path w="2382" h="1514">
                <a:moveTo>
                  <a:pt x="20613" y="6077"/>
                </a:moveTo>
                <a:cubicBezTo>
                  <a:pt x="20650" y="6082"/>
                  <a:pt x="20682" y="6083"/>
                  <a:pt x="20712" y="6102"/>
                </a:cubicBezTo>
                <a:cubicBezTo>
                  <a:pt x="20712" y="6102"/>
                  <a:pt x="20802" y="6166"/>
                  <a:pt x="20811" y="6176"/>
                </a:cubicBezTo>
                <a:cubicBezTo>
                  <a:pt x="20853" y="6225"/>
                  <a:pt x="20902" y="6295"/>
                  <a:pt x="20935" y="6350"/>
                </a:cubicBezTo>
                <a:cubicBezTo>
                  <a:pt x="20963" y="6396"/>
                  <a:pt x="20998" y="6495"/>
                  <a:pt x="21010" y="6548"/>
                </a:cubicBezTo>
                <a:cubicBezTo>
                  <a:pt x="21023" y="6608"/>
                  <a:pt x="21031" y="6660"/>
                  <a:pt x="21034" y="6722"/>
                </a:cubicBezTo>
                <a:cubicBezTo>
                  <a:pt x="21038" y="6800"/>
                  <a:pt x="20987" y="6852"/>
                  <a:pt x="20960" y="6921"/>
                </a:cubicBezTo>
                <a:cubicBezTo>
                  <a:pt x="20919" y="7025"/>
                  <a:pt x="20874" y="7057"/>
                  <a:pt x="20811" y="7144"/>
                </a:cubicBezTo>
                <a:cubicBezTo>
                  <a:pt x="20769" y="7201"/>
                  <a:pt x="20735" y="7265"/>
                  <a:pt x="20687" y="7317"/>
                </a:cubicBezTo>
                <a:cubicBezTo>
                  <a:pt x="20657" y="7347"/>
                  <a:pt x="20646" y="7361"/>
                  <a:pt x="20638" y="7392"/>
                </a:cubicBezTo>
              </a:path>
              <a:path w="2382" h="1514">
                <a:moveTo>
                  <a:pt x="19596" y="5879"/>
                </a:moveTo>
                <a:cubicBezTo>
                  <a:pt x="19588" y="5879"/>
                  <a:pt x="19579" y="5879"/>
                  <a:pt x="19571" y="5879"/>
                </a:cubicBezTo>
                <a:cubicBezTo>
                  <a:pt x="19546" y="5922"/>
                  <a:pt x="19539" y="5929"/>
                  <a:pt x="19496" y="5953"/>
                </a:cubicBezTo>
                <a:cubicBezTo>
                  <a:pt x="19486" y="5966"/>
                  <a:pt x="19455" y="6001"/>
                  <a:pt x="19447" y="6028"/>
                </a:cubicBezTo>
                <a:cubicBezTo>
                  <a:pt x="19437" y="6063"/>
                  <a:pt x="19441" y="6097"/>
                  <a:pt x="19422" y="6127"/>
                </a:cubicBezTo>
                <a:cubicBezTo>
                  <a:pt x="19400" y="6163"/>
                  <a:pt x="19358" y="6186"/>
                  <a:pt x="19348" y="6226"/>
                </a:cubicBezTo>
                <a:cubicBezTo>
                  <a:pt x="19333" y="6284"/>
                  <a:pt x="19327" y="6317"/>
                  <a:pt x="19298" y="6375"/>
                </a:cubicBezTo>
                <a:cubicBezTo>
                  <a:pt x="19280" y="6410"/>
                  <a:pt x="19265" y="6461"/>
                  <a:pt x="19248" y="6499"/>
                </a:cubicBezTo>
                <a:cubicBezTo>
                  <a:pt x="19224" y="6554"/>
                  <a:pt x="19202" y="6590"/>
                  <a:pt x="19199" y="6648"/>
                </a:cubicBezTo>
                <a:cubicBezTo>
                  <a:pt x="19196" y="6709"/>
                  <a:pt x="19177" y="6739"/>
                  <a:pt x="19174" y="6796"/>
                </a:cubicBezTo>
                <a:cubicBezTo>
                  <a:pt x="19171" y="6864"/>
                  <a:pt x="19189" y="6909"/>
                  <a:pt x="19199" y="6970"/>
                </a:cubicBezTo>
                <a:cubicBezTo>
                  <a:pt x="19210" y="7037"/>
                  <a:pt x="19221" y="7100"/>
                  <a:pt x="19224" y="7169"/>
                </a:cubicBezTo>
                <a:cubicBezTo>
                  <a:pt x="19226" y="7220"/>
                  <a:pt x="19241" y="7244"/>
                  <a:pt x="19248" y="7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87840" y="3241800"/>
            <a:ext cx="169920" cy="223560"/>
          </a:xfrm>
          <a:custGeom>
            <a:avLst/>
            <a:gdLst/>
            <a:ahLst/>
            <a:rect l="l" t="t" r="r" b="b"/>
            <a:pathLst>
              <a:path w="473" h="621">
                <a:moveTo>
                  <a:pt x="10294" y="9351"/>
                </a:moveTo>
                <a:cubicBezTo>
                  <a:pt x="10294" y="9384"/>
                  <a:pt x="10294" y="9418"/>
                  <a:pt x="10294" y="9451"/>
                </a:cubicBezTo>
                <a:cubicBezTo>
                  <a:pt x="10245" y="9435"/>
                  <a:pt x="10286" y="9422"/>
                  <a:pt x="10269" y="9376"/>
                </a:cubicBezTo>
                <a:cubicBezTo>
                  <a:pt x="10251" y="9326"/>
                  <a:pt x="10225" y="9260"/>
                  <a:pt x="10244" y="9203"/>
                </a:cubicBezTo>
                <a:cubicBezTo>
                  <a:pt x="10270" y="9126"/>
                  <a:pt x="10273" y="9097"/>
                  <a:pt x="10344" y="9054"/>
                </a:cubicBezTo>
                <a:cubicBezTo>
                  <a:pt x="10405" y="9017"/>
                  <a:pt x="10448" y="9004"/>
                  <a:pt x="10517" y="9004"/>
                </a:cubicBezTo>
                <a:cubicBezTo>
                  <a:pt x="10550" y="9004"/>
                  <a:pt x="10583" y="9004"/>
                  <a:pt x="10616" y="9004"/>
                </a:cubicBezTo>
              </a:path>
              <a:path w="473" h="621">
                <a:moveTo>
                  <a:pt x="10716" y="9575"/>
                </a:moveTo>
                <a:cubicBezTo>
                  <a:pt x="10703" y="9611"/>
                  <a:pt x="10685" y="9599"/>
                  <a:pt x="10641" y="9599"/>
                </a:cubicBezTo>
                <a:cubicBezTo>
                  <a:pt x="10559" y="9599"/>
                  <a:pt x="10494" y="9608"/>
                  <a:pt x="10418" y="9624"/>
                </a:cubicBezTo>
                <a:cubicBezTo>
                  <a:pt x="10393" y="9624"/>
                  <a:pt x="10385" y="9624"/>
                  <a:pt x="10368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71960" y="3303720"/>
            <a:ext cx="982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1534" y="9178"/>
                </a:moveTo>
                <a:cubicBezTo>
                  <a:pt x="11542" y="9178"/>
                  <a:pt x="11551" y="9178"/>
                  <a:pt x="11559" y="9178"/>
                </a:cubicBezTo>
                <a:cubicBezTo>
                  <a:pt x="11497" y="9178"/>
                  <a:pt x="11327" y="9155"/>
                  <a:pt x="11311" y="9203"/>
                </a:cubicBezTo>
              </a:path>
              <a:path w="274" h="150">
                <a:moveTo>
                  <a:pt x="11559" y="9302"/>
                </a:moveTo>
                <a:cubicBezTo>
                  <a:pt x="11567" y="9302"/>
                  <a:pt x="11576" y="9302"/>
                  <a:pt x="11584" y="9302"/>
                </a:cubicBezTo>
                <a:cubicBezTo>
                  <a:pt x="11531" y="9302"/>
                  <a:pt x="11502" y="9295"/>
                  <a:pt x="11460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54360" y="3036960"/>
            <a:ext cx="571680" cy="606240"/>
          </a:xfrm>
          <a:custGeom>
            <a:avLst/>
            <a:gdLst/>
            <a:ahLst/>
            <a:rect l="l" t="t" r="r" b="b"/>
            <a:pathLst>
              <a:path w="1589" h="1687">
                <a:moveTo>
                  <a:pt x="13196" y="8855"/>
                </a:moveTo>
                <a:cubicBezTo>
                  <a:pt x="13188" y="8855"/>
                  <a:pt x="13179" y="8855"/>
                  <a:pt x="13171" y="8855"/>
                </a:cubicBezTo>
                <a:cubicBezTo>
                  <a:pt x="13181" y="8817"/>
                  <a:pt x="13220" y="8766"/>
                  <a:pt x="13246" y="8731"/>
                </a:cubicBezTo>
                <a:cubicBezTo>
                  <a:pt x="13290" y="8672"/>
                  <a:pt x="13354" y="8682"/>
                  <a:pt x="13419" y="8682"/>
                </a:cubicBezTo>
                <a:cubicBezTo>
                  <a:pt x="13473" y="8682"/>
                  <a:pt x="13513" y="8698"/>
                  <a:pt x="13519" y="8756"/>
                </a:cubicBezTo>
                <a:cubicBezTo>
                  <a:pt x="13527" y="8828"/>
                  <a:pt x="13502" y="8828"/>
                  <a:pt x="13469" y="8880"/>
                </a:cubicBezTo>
                <a:cubicBezTo>
                  <a:pt x="13435" y="8934"/>
                  <a:pt x="13375" y="8925"/>
                  <a:pt x="13345" y="8979"/>
                </a:cubicBezTo>
                <a:cubicBezTo>
                  <a:pt x="13323" y="9019"/>
                  <a:pt x="13361" y="9052"/>
                  <a:pt x="13395" y="9054"/>
                </a:cubicBezTo>
                <a:cubicBezTo>
                  <a:pt x="13447" y="9058"/>
                  <a:pt x="13525" y="9081"/>
                  <a:pt x="13568" y="9103"/>
                </a:cubicBezTo>
                <a:cubicBezTo>
                  <a:pt x="13602" y="9120"/>
                  <a:pt x="13609" y="9127"/>
                  <a:pt x="13618" y="9153"/>
                </a:cubicBezTo>
                <a:cubicBezTo>
                  <a:pt x="13605" y="9192"/>
                  <a:pt x="13571" y="9201"/>
                  <a:pt x="13519" y="9203"/>
                </a:cubicBezTo>
                <a:cubicBezTo>
                  <a:pt x="13439" y="9207"/>
                  <a:pt x="13377" y="9178"/>
                  <a:pt x="13295" y="9178"/>
                </a:cubicBezTo>
                <a:cubicBezTo>
                  <a:pt x="13271" y="9178"/>
                  <a:pt x="13263" y="9178"/>
                  <a:pt x="13271" y="9203"/>
                </a:cubicBezTo>
              </a:path>
              <a:path w="1589" h="1687">
                <a:moveTo>
                  <a:pt x="13345" y="9550"/>
                </a:moveTo>
                <a:cubicBezTo>
                  <a:pt x="13306" y="9511"/>
                  <a:pt x="13305" y="9654"/>
                  <a:pt x="13295" y="9699"/>
                </a:cubicBezTo>
                <a:cubicBezTo>
                  <a:pt x="13277" y="9780"/>
                  <a:pt x="13271" y="9837"/>
                  <a:pt x="13271" y="9922"/>
                </a:cubicBezTo>
              </a:path>
              <a:path w="1589" h="1687">
                <a:moveTo>
                  <a:pt x="13841" y="8582"/>
                </a:moveTo>
                <a:cubicBezTo>
                  <a:pt x="13885" y="8588"/>
                  <a:pt x="13889" y="8586"/>
                  <a:pt x="13915" y="8607"/>
                </a:cubicBezTo>
                <a:cubicBezTo>
                  <a:pt x="13969" y="8651"/>
                  <a:pt x="14000" y="8703"/>
                  <a:pt x="14039" y="8756"/>
                </a:cubicBezTo>
                <a:cubicBezTo>
                  <a:pt x="14079" y="8810"/>
                  <a:pt x="14101" y="8874"/>
                  <a:pt x="14139" y="8930"/>
                </a:cubicBezTo>
                <a:cubicBezTo>
                  <a:pt x="14169" y="8973"/>
                  <a:pt x="14204" y="9025"/>
                  <a:pt x="14213" y="9079"/>
                </a:cubicBezTo>
                <a:cubicBezTo>
                  <a:pt x="14221" y="9124"/>
                  <a:pt x="14233" y="9185"/>
                  <a:pt x="14238" y="9227"/>
                </a:cubicBezTo>
                <a:cubicBezTo>
                  <a:pt x="14249" y="9311"/>
                  <a:pt x="14249" y="9432"/>
                  <a:pt x="14213" y="9500"/>
                </a:cubicBezTo>
                <a:cubicBezTo>
                  <a:pt x="14183" y="9556"/>
                  <a:pt x="14168" y="9615"/>
                  <a:pt x="14139" y="9674"/>
                </a:cubicBezTo>
                <a:cubicBezTo>
                  <a:pt x="14103" y="9745"/>
                  <a:pt x="14051" y="9799"/>
                  <a:pt x="14015" y="9872"/>
                </a:cubicBezTo>
                <a:cubicBezTo>
                  <a:pt x="13990" y="9922"/>
                  <a:pt x="13962" y="9977"/>
                  <a:pt x="13940" y="10021"/>
                </a:cubicBezTo>
              </a:path>
              <a:path w="1589" h="1687">
                <a:moveTo>
                  <a:pt x="13022" y="8434"/>
                </a:moveTo>
                <a:cubicBezTo>
                  <a:pt x="13030" y="8434"/>
                  <a:pt x="13039" y="8434"/>
                  <a:pt x="13047" y="8434"/>
                </a:cubicBezTo>
                <a:cubicBezTo>
                  <a:pt x="13028" y="8458"/>
                  <a:pt x="13030" y="8476"/>
                  <a:pt x="12998" y="8508"/>
                </a:cubicBezTo>
                <a:cubicBezTo>
                  <a:pt x="12957" y="8549"/>
                  <a:pt x="12911" y="8598"/>
                  <a:pt x="12898" y="8657"/>
                </a:cubicBezTo>
                <a:cubicBezTo>
                  <a:pt x="12881" y="8734"/>
                  <a:pt x="12859" y="8814"/>
                  <a:pt x="12824" y="8880"/>
                </a:cubicBezTo>
                <a:cubicBezTo>
                  <a:pt x="12791" y="8941"/>
                  <a:pt x="12794" y="8995"/>
                  <a:pt x="12774" y="9054"/>
                </a:cubicBezTo>
                <a:cubicBezTo>
                  <a:pt x="12754" y="9111"/>
                  <a:pt x="12743" y="9172"/>
                  <a:pt x="12725" y="9227"/>
                </a:cubicBezTo>
                <a:cubicBezTo>
                  <a:pt x="12706" y="9283"/>
                  <a:pt x="12699" y="9354"/>
                  <a:pt x="12675" y="9401"/>
                </a:cubicBezTo>
                <a:cubicBezTo>
                  <a:pt x="12653" y="9445"/>
                  <a:pt x="12650" y="9472"/>
                  <a:pt x="12650" y="9525"/>
                </a:cubicBezTo>
                <a:cubicBezTo>
                  <a:pt x="12650" y="9646"/>
                  <a:pt x="12660" y="9758"/>
                  <a:pt x="12675" y="9872"/>
                </a:cubicBezTo>
                <a:cubicBezTo>
                  <a:pt x="12684" y="9940"/>
                  <a:pt x="12711" y="9982"/>
                  <a:pt x="12725" y="10046"/>
                </a:cubicBezTo>
                <a:cubicBezTo>
                  <a:pt x="12730" y="10069"/>
                  <a:pt x="12722" y="10096"/>
                  <a:pt x="12725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5960" y="3348000"/>
            <a:ext cx="169920" cy="1350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15156" y="9500"/>
                </a:moveTo>
                <a:cubicBezTo>
                  <a:pt x="15220" y="9500"/>
                  <a:pt x="15117" y="9500"/>
                  <a:pt x="15106" y="9500"/>
                </a:cubicBezTo>
                <a:cubicBezTo>
                  <a:pt x="14979" y="9500"/>
                  <a:pt x="14846" y="9509"/>
                  <a:pt x="14734" y="9475"/>
                </a:cubicBezTo>
                <a:cubicBezTo>
                  <a:pt x="14726" y="9475"/>
                  <a:pt x="14717" y="9475"/>
                  <a:pt x="14709" y="9475"/>
                </a:cubicBezTo>
              </a:path>
              <a:path w="472" h="373">
                <a:moveTo>
                  <a:pt x="14883" y="9302"/>
                </a:moveTo>
                <a:cubicBezTo>
                  <a:pt x="14883" y="9375"/>
                  <a:pt x="14869" y="9433"/>
                  <a:pt x="14858" y="9500"/>
                </a:cubicBezTo>
                <a:cubicBezTo>
                  <a:pt x="14849" y="9555"/>
                  <a:pt x="14858" y="9618"/>
                  <a:pt x="14858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3080" y="3106800"/>
            <a:ext cx="1116000" cy="671400"/>
          </a:xfrm>
          <a:custGeom>
            <a:avLst/>
            <a:gdLst/>
            <a:ahLst/>
            <a:rect l="l" t="t" r="r" b="b"/>
            <a:pathLst>
              <a:path w="3102" h="1861">
                <a:moveTo>
                  <a:pt x="15726" y="9153"/>
                </a:moveTo>
                <a:cubicBezTo>
                  <a:pt x="15737" y="9120"/>
                  <a:pt x="15740" y="9130"/>
                  <a:pt x="15776" y="9103"/>
                </a:cubicBezTo>
                <a:cubicBezTo>
                  <a:pt x="15766" y="9132"/>
                  <a:pt x="15734" y="9161"/>
                  <a:pt x="15726" y="9203"/>
                </a:cubicBezTo>
                <a:cubicBezTo>
                  <a:pt x="15713" y="9265"/>
                  <a:pt x="15704" y="9339"/>
                  <a:pt x="15701" y="9401"/>
                </a:cubicBezTo>
                <a:cubicBezTo>
                  <a:pt x="15697" y="9476"/>
                  <a:pt x="15700" y="9499"/>
                  <a:pt x="15751" y="9550"/>
                </a:cubicBezTo>
                <a:cubicBezTo>
                  <a:pt x="15804" y="9603"/>
                  <a:pt x="15825" y="9599"/>
                  <a:pt x="15900" y="9599"/>
                </a:cubicBezTo>
                <a:cubicBezTo>
                  <a:pt x="15964" y="9599"/>
                  <a:pt x="16010" y="9565"/>
                  <a:pt x="16073" y="9550"/>
                </a:cubicBezTo>
                <a:cubicBezTo>
                  <a:pt x="16101" y="9550"/>
                  <a:pt x="16112" y="9548"/>
                  <a:pt x="16123" y="9525"/>
                </a:cubicBezTo>
              </a:path>
              <a:path w="3102" h="1861">
                <a:moveTo>
                  <a:pt x="16024" y="9302"/>
                </a:moveTo>
                <a:cubicBezTo>
                  <a:pt x="16024" y="9294"/>
                  <a:pt x="16024" y="9285"/>
                  <a:pt x="16024" y="9277"/>
                </a:cubicBezTo>
                <a:cubicBezTo>
                  <a:pt x="15975" y="9277"/>
                  <a:pt x="15938" y="9294"/>
                  <a:pt x="15900" y="9302"/>
                </a:cubicBezTo>
                <a:cubicBezTo>
                  <a:pt x="15858" y="9302"/>
                  <a:pt x="15850" y="9302"/>
                  <a:pt x="15825" y="9302"/>
                </a:cubicBezTo>
              </a:path>
              <a:path w="3102" h="1861">
                <a:moveTo>
                  <a:pt x="16991" y="8632"/>
                </a:moveTo>
                <a:cubicBezTo>
                  <a:pt x="16999" y="8632"/>
                  <a:pt x="17008" y="8632"/>
                  <a:pt x="17016" y="8632"/>
                </a:cubicBezTo>
                <a:cubicBezTo>
                  <a:pt x="16996" y="8656"/>
                  <a:pt x="16998" y="8673"/>
                  <a:pt x="16966" y="8706"/>
                </a:cubicBezTo>
                <a:cubicBezTo>
                  <a:pt x="16921" y="8752"/>
                  <a:pt x="16873" y="8801"/>
                  <a:pt x="16842" y="8855"/>
                </a:cubicBezTo>
                <a:cubicBezTo>
                  <a:pt x="16808" y="8914"/>
                  <a:pt x="16782" y="8974"/>
                  <a:pt x="16743" y="9029"/>
                </a:cubicBezTo>
                <a:cubicBezTo>
                  <a:pt x="16680" y="9119"/>
                  <a:pt x="16646" y="9201"/>
                  <a:pt x="16619" y="9302"/>
                </a:cubicBezTo>
                <a:cubicBezTo>
                  <a:pt x="16600" y="9375"/>
                  <a:pt x="16582" y="9453"/>
                  <a:pt x="16570" y="9525"/>
                </a:cubicBezTo>
                <a:cubicBezTo>
                  <a:pt x="16550" y="9649"/>
                  <a:pt x="16581" y="9778"/>
                  <a:pt x="16594" y="9897"/>
                </a:cubicBezTo>
                <a:cubicBezTo>
                  <a:pt x="16604" y="9991"/>
                  <a:pt x="16644" y="10084"/>
                  <a:pt x="16694" y="10170"/>
                </a:cubicBezTo>
                <a:cubicBezTo>
                  <a:pt x="16746" y="10260"/>
                  <a:pt x="16793" y="10327"/>
                  <a:pt x="16867" y="10393"/>
                </a:cubicBezTo>
                <a:cubicBezTo>
                  <a:pt x="16918" y="10439"/>
                  <a:pt x="16961" y="10465"/>
                  <a:pt x="17016" y="10492"/>
                </a:cubicBezTo>
              </a:path>
              <a:path w="3102" h="1861">
                <a:moveTo>
                  <a:pt x="17462" y="9004"/>
                </a:moveTo>
                <a:cubicBezTo>
                  <a:pt x="17437" y="9004"/>
                  <a:pt x="17413" y="9004"/>
                  <a:pt x="17388" y="9004"/>
                </a:cubicBezTo>
                <a:cubicBezTo>
                  <a:pt x="17388" y="8948"/>
                  <a:pt x="17392" y="8950"/>
                  <a:pt x="17438" y="8930"/>
                </a:cubicBezTo>
                <a:cubicBezTo>
                  <a:pt x="17497" y="8904"/>
                  <a:pt x="17533" y="8887"/>
                  <a:pt x="17587" y="8930"/>
                </a:cubicBezTo>
                <a:cubicBezTo>
                  <a:pt x="17634" y="8968"/>
                  <a:pt x="17653" y="9017"/>
                  <a:pt x="17636" y="9079"/>
                </a:cubicBezTo>
                <a:cubicBezTo>
                  <a:pt x="17621" y="9134"/>
                  <a:pt x="17582" y="9201"/>
                  <a:pt x="17562" y="9252"/>
                </a:cubicBezTo>
                <a:cubicBezTo>
                  <a:pt x="17536" y="9317"/>
                  <a:pt x="17522" y="9321"/>
                  <a:pt x="17562" y="9351"/>
                </a:cubicBezTo>
                <a:cubicBezTo>
                  <a:pt x="17613" y="9389"/>
                  <a:pt x="17670" y="9376"/>
                  <a:pt x="17735" y="9376"/>
                </a:cubicBezTo>
                <a:cubicBezTo>
                  <a:pt x="17785" y="9376"/>
                  <a:pt x="17834" y="9376"/>
                  <a:pt x="17884" y="9376"/>
                </a:cubicBezTo>
              </a:path>
              <a:path w="3102" h="1861">
                <a:moveTo>
                  <a:pt x="17289" y="9897"/>
                </a:moveTo>
                <a:cubicBezTo>
                  <a:pt x="17281" y="9897"/>
                  <a:pt x="17272" y="9897"/>
                  <a:pt x="17264" y="9897"/>
                </a:cubicBezTo>
                <a:cubicBezTo>
                  <a:pt x="17277" y="9935"/>
                  <a:pt x="17293" y="9922"/>
                  <a:pt x="17338" y="9922"/>
                </a:cubicBezTo>
                <a:cubicBezTo>
                  <a:pt x="17396" y="9922"/>
                  <a:pt x="17454" y="9922"/>
                  <a:pt x="17512" y="9922"/>
                </a:cubicBezTo>
              </a:path>
              <a:path w="3102" h="1861">
                <a:moveTo>
                  <a:pt x="17835" y="9897"/>
                </a:moveTo>
                <a:cubicBezTo>
                  <a:pt x="17811" y="9879"/>
                  <a:pt x="17761" y="9865"/>
                  <a:pt x="17785" y="9823"/>
                </a:cubicBezTo>
                <a:cubicBezTo>
                  <a:pt x="17808" y="9782"/>
                  <a:pt x="17893" y="9775"/>
                  <a:pt x="17934" y="9773"/>
                </a:cubicBezTo>
                <a:cubicBezTo>
                  <a:pt x="18003" y="9769"/>
                  <a:pt x="18011" y="9777"/>
                  <a:pt x="18058" y="9823"/>
                </a:cubicBezTo>
                <a:cubicBezTo>
                  <a:pt x="18088" y="9853"/>
                  <a:pt x="18100" y="9893"/>
                  <a:pt x="18058" y="9922"/>
                </a:cubicBezTo>
                <a:cubicBezTo>
                  <a:pt x="18038" y="9936"/>
                  <a:pt x="17943" y="9982"/>
                  <a:pt x="17934" y="9996"/>
                </a:cubicBezTo>
                <a:cubicBezTo>
                  <a:pt x="17909" y="10034"/>
                  <a:pt x="17962" y="10075"/>
                  <a:pt x="17983" y="10096"/>
                </a:cubicBezTo>
                <a:cubicBezTo>
                  <a:pt x="18033" y="10145"/>
                  <a:pt x="18064" y="10163"/>
                  <a:pt x="18107" y="10220"/>
                </a:cubicBezTo>
                <a:cubicBezTo>
                  <a:pt x="18139" y="10262"/>
                  <a:pt x="18144" y="10277"/>
                  <a:pt x="18107" y="10319"/>
                </a:cubicBezTo>
                <a:cubicBezTo>
                  <a:pt x="18054" y="10380"/>
                  <a:pt x="18035" y="10308"/>
                  <a:pt x="17983" y="10294"/>
                </a:cubicBezTo>
                <a:cubicBezTo>
                  <a:pt x="17967" y="10294"/>
                  <a:pt x="17950" y="10294"/>
                  <a:pt x="17934" y="10294"/>
                </a:cubicBezTo>
              </a:path>
              <a:path w="3102" h="1861">
                <a:moveTo>
                  <a:pt x="18157" y="8682"/>
                </a:moveTo>
                <a:cubicBezTo>
                  <a:pt x="18176" y="8712"/>
                  <a:pt x="18208" y="8746"/>
                  <a:pt x="18231" y="8781"/>
                </a:cubicBezTo>
                <a:cubicBezTo>
                  <a:pt x="18249" y="8808"/>
                  <a:pt x="18295" y="8837"/>
                  <a:pt x="18331" y="8880"/>
                </a:cubicBezTo>
                <a:cubicBezTo>
                  <a:pt x="18371" y="8929"/>
                  <a:pt x="18416" y="8957"/>
                  <a:pt x="18455" y="9004"/>
                </a:cubicBezTo>
                <a:cubicBezTo>
                  <a:pt x="18488" y="9044"/>
                  <a:pt x="18527" y="9108"/>
                  <a:pt x="18554" y="9153"/>
                </a:cubicBezTo>
                <a:cubicBezTo>
                  <a:pt x="18588" y="9211"/>
                  <a:pt x="18622" y="9268"/>
                  <a:pt x="18653" y="9327"/>
                </a:cubicBezTo>
                <a:cubicBezTo>
                  <a:pt x="18674" y="9366"/>
                  <a:pt x="18716" y="9437"/>
                  <a:pt x="18728" y="9475"/>
                </a:cubicBezTo>
                <a:cubicBezTo>
                  <a:pt x="18742" y="9517"/>
                  <a:pt x="18770" y="9585"/>
                  <a:pt x="18777" y="9624"/>
                </a:cubicBezTo>
                <a:cubicBezTo>
                  <a:pt x="18788" y="9684"/>
                  <a:pt x="18799" y="9742"/>
                  <a:pt x="18802" y="9798"/>
                </a:cubicBezTo>
                <a:cubicBezTo>
                  <a:pt x="18806" y="9882"/>
                  <a:pt x="18789" y="9945"/>
                  <a:pt x="18777" y="10021"/>
                </a:cubicBezTo>
                <a:cubicBezTo>
                  <a:pt x="18768" y="10078"/>
                  <a:pt x="18747" y="10139"/>
                  <a:pt x="18728" y="10195"/>
                </a:cubicBezTo>
                <a:cubicBezTo>
                  <a:pt x="18706" y="10260"/>
                  <a:pt x="18659" y="10309"/>
                  <a:pt x="18628" y="10368"/>
                </a:cubicBezTo>
                <a:cubicBezTo>
                  <a:pt x="18600" y="10423"/>
                  <a:pt x="18569" y="10447"/>
                  <a:pt x="18529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find the vector equation of the line through (-1, 0) and parallel to y = 4x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2857680"/>
            <a:ext cx="768240" cy="322200"/>
          </a:xfrm>
          <a:custGeom>
            <a:avLst/>
            <a:gdLst/>
            <a:ahLst/>
            <a:rect l="l" t="t" r="r" b="b"/>
            <a:pathLst>
              <a:path w="2134" h="893">
                <a:moveTo>
                  <a:pt x="4018" y="8161"/>
                </a:moveTo>
                <a:cubicBezTo>
                  <a:pt x="4018" y="8087"/>
                  <a:pt x="4018" y="8012"/>
                  <a:pt x="4018" y="7938"/>
                </a:cubicBezTo>
                <a:cubicBezTo>
                  <a:pt x="3989" y="7948"/>
                  <a:pt x="3974" y="8018"/>
                  <a:pt x="3969" y="8062"/>
                </a:cubicBezTo>
                <a:cubicBezTo>
                  <a:pt x="3945" y="8261"/>
                  <a:pt x="3964" y="8491"/>
                  <a:pt x="3994" y="8682"/>
                </a:cubicBezTo>
                <a:cubicBezTo>
                  <a:pt x="3994" y="8698"/>
                  <a:pt x="3994" y="8715"/>
                  <a:pt x="3994" y="8731"/>
                </a:cubicBezTo>
              </a:path>
              <a:path w="2134" h="893">
                <a:moveTo>
                  <a:pt x="4217" y="8483"/>
                </a:moveTo>
                <a:cubicBezTo>
                  <a:pt x="4217" y="8441"/>
                  <a:pt x="4217" y="8516"/>
                  <a:pt x="4217" y="8558"/>
                </a:cubicBezTo>
                <a:cubicBezTo>
                  <a:pt x="4217" y="8632"/>
                  <a:pt x="4217" y="8707"/>
                  <a:pt x="4217" y="8781"/>
                </a:cubicBezTo>
              </a:path>
              <a:path w="2134" h="893">
                <a:moveTo>
                  <a:pt x="4266" y="8657"/>
                </a:moveTo>
                <a:cubicBezTo>
                  <a:pt x="4286" y="8543"/>
                  <a:pt x="4304" y="8502"/>
                  <a:pt x="4341" y="8409"/>
                </a:cubicBezTo>
                <a:cubicBezTo>
                  <a:pt x="4341" y="8384"/>
                  <a:pt x="4341" y="8376"/>
                  <a:pt x="4366" y="8384"/>
                </a:cubicBezTo>
                <a:cubicBezTo>
                  <a:pt x="4394" y="8432"/>
                  <a:pt x="4430" y="8523"/>
                  <a:pt x="4440" y="8582"/>
                </a:cubicBezTo>
                <a:cubicBezTo>
                  <a:pt x="4454" y="8668"/>
                  <a:pt x="4422" y="8650"/>
                  <a:pt x="4465" y="8706"/>
                </a:cubicBezTo>
              </a:path>
              <a:path w="2134" h="893">
                <a:moveTo>
                  <a:pt x="4614" y="8558"/>
                </a:moveTo>
                <a:cubicBezTo>
                  <a:pt x="4614" y="8550"/>
                  <a:pt x="4614" y="8541"/>
                  <a:pt x="4614" y="8533"/>
                </a:cubicBezTo>
                <a:cubicBezTo>
                  <a:pt x="4614" y="8583"/>
                  <a:pt x="4614" y="8632"/>
                  <a:pt x="4614" y="8682"/>
                </a:cubicBezTo>
              </a:path>
              <a:path w="2134" h="893">
                <a:moveTo>
                  <a:pt x="4614" y="8483"/>
                </a:moveTo>
                <a:cubicBezTo>
                  <a:pt x="4614" y="8409"/>
                  <a:pt x="4614" y="8400"/>
                  <a:pt x="4614" y="8359"/>
                </a:cubicBezTo>
              </a:path>
              <a:path w="2134" h="893">
                <a:moveTo>
                  <a:pt x="4837" y="8359"/>
                </a:moveTo>
                <a:cubicBezTo>
                  <a:pt x="4822" y="8418"/>
                  <a:pt x="4773" y="8464"/>
                  <a:pt x="4762" y="8533"/>
                </a:cubicBezTo>
                <a:cubicBezTo>
                  <a:pt x="4747" y="8632"/>
                  <a:pt x="4756" y="8740"/>
                  <a:pt x="4837" y="8806"/>
                </a:cubicBezTo>
                <a:cubicBezTo>
                  <a:pt x="4854" y="8814"/>
                  <a:pt x="4870" y="8822"/>
                  <a:pt x="4887" y="8830"/>
                </a:cubicBezTo>
              </a:path>
              <a:path w="2134" h="893">
                <a:moveTo>
                  <a:pt x="5060" y="8657"/>
                </a:moveTo>
                <a:cubicBezTo>
                  <a:pt x="5029" y="8580"/>
                  <a:pt x="5039" y="8558"/>
                  <a:pt x="4961" y="8558"/>
                </a:cubicBezTo>
                <a:cubicBezTo>
                  <a:pt x="4932" y="8558"/>
                  <a:pt x="4829" y="8587"/>
                  <a:pt x="4812" y="8607"/>
                </a:cubicBezTo>
                <a:cubicBezTo>
                  <a:pt x="4812" y="8615"/>
                  <a:pt x="4812" y="8624"/>
                  <a:pt x="4812" y="8632"/>
                </a:cubicBezTo>
              </a:path>
              <a:path w="2134" h="893">
                <a:moveTo>
                  <a:pt x="5060" y="8508"/>
                </a:moveTo>
                <a:cubicBezTo>
                  <a:pt x="5122" y="8559"/>
                  <a:pt x="5122" y="8622"/>
                  <a:pt x="5159" y="8706"/>
                </a:cubicBezTo>
              </a:path>
              <a:path w="2134" h="893">
                <a:moveTo>
                  <a:pt x="5110" y="8434"/>
                </a:moveTo>
                <a:cubicBezTo>
                  <a:pt x="5119" y="8321"/>
                  <a:pt x="5097" y="8348"/>
                  <a:pt x="5159" y="8285"/>
                </a:cubicBezTo>
              </a:path>
              <a:path w="2134" h="893">
                <a:moveTo>
                  <a:pt x="5407" y="8508"/>
                </a:moveTo>
                <a:cubicBezTo>
                  <a:pt x="5460" y="8428"/>
                  <a:pt x="5371" y="8556"/>
                  <a:pt x="5358" y="8582"/>
                </a:cubicBezTo>
                <a:cubicBezTo>
                  <a:pt x="5325" y="8648"/>
                  <a:pt x="5322" y="8697"/>
                  <a:pt x="5358" y="8756"/>
                </a:cubicBezTo>
                <a:cubicBezTo>
                  <a:pt x="5407" y="8744"/>
                  <a:pt x="5441" y="8691"/>
                  <a:pt x="5482" y="8657"/>
                </a:cubicBezTo>
                <a:cubicBezTo>
                  <a:pt x="5530" y="8618"/>
                  <a:pt x="5549" y="8630"/>
                  <a:pt x="5606" y="8657"/>
                </a:cubicBezTo>
                <a:cubicBezTo>
                  <a:pt x="5703" y="8703"/>
                  <a:pt x="5756" y="8615"/>
                  <a:pt x="5804" y="8533"/>
                </a:cubicBezTo>
                <a:cubicBezTo>
                  <a:pt x="5866" y="8427"/>
                  <a:pt x="5914" y="8260"/>
                  <a:pt x="5879" y="8136"/>
                </a:cubicBezTo>
                <a:cubicBezTo>
                  <a:pt x="5856" y="8113"/>
                  <a:pt x="5852" y="8105"/>
                  <a:pt x="5829" y="8111"/>
                </a:cubicBezTo>
                <a:cubicBezTo>
                  <a:pt x="5787" y="8251"/>
                  <a:pt x="5803" y="8344"/>
                  <a:pt x="5854" y="8483"/>
                </a:cubicBezTo>
                <a:cubicBezTo>
                  <a:pt x="5912" y="8640"/>
                  <a:pt x="5952" y="8693"/>
                  <a:pt x="6102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20960" y="2705040"/>
            <a:ext cx="716040" cy="652680"/>
          </a:xfrm>
          <a:custGeom>
            <a:avLst/>
            <a:gdLst/>
            <a:ahLst/>
            <a:rect l="l" t="t" r="r" b="b"/>
            <a:pathLst>
              <a:path w="1986" h="1812">
                <a:moveTo>
                  <a:pt x="8458" y="8161"/>
                </a:moveTo>
                <a:cubicBezTo>
                  <a:pt x="8556" y="8119"/>
                  <a:pt x="8532" y="8148"/>
                  <a:pt x="8458" y="8161"/>
                </a:cubicBezTo>
                <a:cubicBezTo>
                  <a:pt x="8389" y="8173"/>
                  <a:pt x="8332" y="8186"/>
                  <a:pt x="8260" y="8186"/>
                </a:cubicBezTo>
                <a:cubicBezTo>
                  <a:pt x="8252" y="8186"/>
                  <a:pt x="8243" y="8186"/>
                  <a:pt x="8235" y="8186"/>
                </a:cubicBezTo>
              </a:path>
              <a:path w="1986" h="1812">
                <a:moveTo>
                  <a:pt x="9178" y="7813"/>
                </a:moveTo>
                <a:cubicBezTo>
                  <a:pt x="9178" y="7797"/>
                  <a:pt x="9178" y="7780"/>
                  <a:pt x="9178" y="7764"/>
                </a:cubicBezTo>
                <a:cubicBezTo>
                  <a:pt x="9178" y="7842"/>
                  <a:pt x="9155" y="7908"/>
                  <a:pt x="9153" y="7987"/>
                </a:cubicBezTo>
                <a:cubicBezTo>
                  <a:pt x="9151" y="8061"/>
                  <a:pt x="9153" y="8136"/>
                  <a:pt x="9153" y="8210"/>
                </a:cubicBezTo>
              </a:path>
              <a:path w="1986" h="1812">
                <a:moveTo>
                  <a:pt x="8632" y="8954"/>
                </a:moveTo>
                <a:cubicBezTo>
                  <a:pt x="8607" y="8954"/>
                  <a:pt x="8599" y="8954"/>
                  <a:pt x="8582" y="8954"/>
                </a:cubicBezTo>
                <a:cubicBezTo>
                  <a:pt x="8582" y="8904"/>
                  <a:pt x="8583" y="8896"/>
                  <a:pt x="8607" y="8855"/>
                </a:cubicBezTo>
                <a:cubicBezTo>
                  <a:pt x="8645" y="8790"/>
                  <a:pt x="8655" y="8762"/>
                  <a:pt x="8731" y="8756"/>
                </a:cubicBezTo>
                <a:cubicBezTo>
                  <a:pt x="8814" y="8749"/>
                  <a:pt x="8832" y="8877"/>
                  <a:pt x="8855" y="8930"/>
                </a:cubicBezTo>
                <a:cubicBezTo>
                  <a:pt x="8884" y="8996"/>
                  <a:pt x="8902" y="9070"/>
                  <a:pt x="8855" y="9128"/>
                </a:cubicBezTo>
                <a:cubicBezTo>
                  <a:pt x="8815" y="9178"/>
                  <a:pt x="8748" y="9136"/>
                  <a:pt x="8706" y="9103"/>
                </a:cubicBezTo>
                <a:cubicBezTo>
                  <a:pt x="8654" y="9062"/>
                  <a:pt x="8635" y="9011"/>
                  <a:pt x="8607" y="8954"/>
                </a:cubicBezTo>
              </a:path>
              <a:path w="1986" h="1812">
                <a:moveTo>
                  <a:pt x="9401" y="7640"/>
                </a:moveTo>
                <a:cubicBezTo>
                  <a:pt x="9437" y="7649"/>
                  <a:pt x="9425" y="7639"/>
                  <a:pt x="9451" y="7665"/>
                </a:cubicBezTo>
                <a:cubicBezTo>
                  <a:pt x="9492" y="7706"/>
                  <a:pt x="9571" y="7742"/>
                  <a:pt x="9599" y="7789"/>
                </a:cubicBezTo>
                <a:cubicBezTo>
                  <a:pt x="9651" y="7876"/>
                  <a:pt x="9711" y="7964"/>
                  <a:pt x="9748" y="8062"/>
                </a:cubicBezTo>
                <a:cubicBezTo>
                  <a:pt x="9785" y="8161"/>
                  <a:pt x="9836" y="8276"/>
                  <a:pt x="9823" y="8384"/>
                </a:cubicBezTo>
                <a:cubicBezTo>
                  <a:pt x="9802" y="8552"/>
                  <a:pt x="9750" y="8802"/>
                  <a:pt x="9674" y="8954"/>
                </a:cubicBezTo>
                <a:cubicBezTo>
                  <a:pt x="9627" y="9048"/>
                  <a:pt x="9555" y="9138"/>
                  <a:pt x="9500" y="9227"/>
                </a:cubicBezTo>
                <a:cubicBezTo>
                  <a:pt x="9463" y="9284"/>
                  <a:pt x="9446" y="9287"/>
                  <a:pt x="9451" y="9327"/>
                </a:cubicBezTo>
              </a:path>
              <a:path w="1986" h="1812">
                <a:moveTo>
                  <a:pt x="8186" y="7541"/>
                </a:moveTo>
                <a:cubicBezTo>
                  <a:pt x="8194" y="7533"/>
                  <a:pt x="8202" y="7524"/>
                  <a:pt x="8210" y="7516"/>
                </a:cubicBezTo>
                <a:cubicBezTo>
                  <a:pt x="8175" y="7541"/>
                  <a:pt x="8118" y="7578"/>
                  <a:pt x="8086" y="7615"/>
                </a:cubicBezTo>
                <a:cubicBezTo>
                  <a:pt x="8016" y="7697"/>
                  <a:pt x="7983" y="7817"/>
                  <a:pt x="7938" y="7913"/>
                </a:cubicBezTo>
                <a:cubicBezTo>
                  <a:pt x="7882" y="8033"/>
                  <a:pt x="7849" y="8153"/>
                  <a:pt x="7838" y="8285"/>
                </a:cubicBezTo>
                <a:cubicBezTo>
                  <a:pt x="7825" y="8435"/>
                  <a:pt x="7825" y="8611"/>
                  <a:pt x="7863" y="8756"/>
                </a:cubicBezTo>
                <a:cubicBezTo>
                  <a:pt x="7896" y="8882"/>
                  <a:pt x="7936" y="8953"/>
                  <a:pt x="8012" y="9054"/>
                </a:cubicBezTo>
                <a:cubicBezTo>
                  <a:pt x="8054" y="9110"/>
                  <a:pt x="8087" y="9154"/>
                  <a:pt x="8136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2081160"/>
            <a:ext cx="608040" cy="544680"/>
          </a:xfrm>
          <a:custGeom>
            <a:avLst/>
            <a:gdLst/>
            <a:ahLst/>
            <a:rect l="l" t="t" r="r" b="b"/>
            <a:pathLst>
              <a:path w="1688" h="1515">
                <a:moveTo>
                  <a:pt x="19571" y="7144"/>
                </a:moveTo>
                <a:cubicBezTo>
                  <a:pt x="19643" y="7204"/>
                  <a:pt x="19602" y="7166"/>
                  <a:pt x="19621" y="7243"/>
                </a:cubicBezTo>
                <a:cubicBezTo>
                  <a:pt x="19568" y="7283"/>
                  <a:pt x="19549" y="7310"/>
                  <a:pt x="19472" y="7293"/>
                </a:cubicBezTo>
                <a:cubicBezTo>
                  <a:pt x="19375" y="7272"/>
                  <a:pt x="19229" y="7228"/>
                  <a:pt x="19149" y="7169"/>
                </a:cubicBezTo>
                <a:cubicBezTo>
                  <a:pt x="19043" y="7091"/>
                  <a:pt x="18985" y="6966"/>
                  <a:pt x="18951" y="6846"/>
                </a:cubicBezTo>
                <a:cubicBezTo>
                  <a:pt x="18920" y="6737"/>
                  <a:pt x="18904" y="6612"/>
                  <a:pt x="18901" y="6499"/>
                </a:cubicBezTo>
                <a:cubicBezTo>
                  <a:pt x="18897" y="6370"/>
                  <a:pt x="18938" y="6241"/>
                  <a:pt x="19000" y="6127"/>
                </a:cubicBezTo>
                <a:cubicBezTo>
                  <a:pt x="19055" y="6026"/>
                  <a:pt x="19165" y="5923"/>
                  <a:pt x="19273" y="5879"/>
                </a:cubicBezTo>
                <a:cubicBezTo>
                  <a:pt x="19400" y="5827"/>
                  <a:pt x="19539" y="5823"/>
                  <a:pt x="19670" y="5804"/>
                </a:cubicBezTo>
                <a:cubicBezTo>
                  <a:pt x="19816" y="5782"/>
                  <a:pt x="19972" y="5751"/>
                  <a:pt x="20117" y="5804"/>
                </a:cubicBezTo>
                <a:cubicBezTo>
                  <a:pt x="20282" y="5864"/>
                  <a:pt x="20364" y="5994"/>
                  <a:pt x="20464" y="6127"/>
                </a:cubicBezTo>
                <a:cubicBezTo>
                  <a:pt x="20569" y="6267"/>
                  <a:pt x="20605" y="6426"/>
                  <a:pt x="20563" y="6598"/>
                </a:cubicBezTo>
                <a:cubicBezTo>
                  <a:pt x="20517" y="6787"/>
                  <a:pt x="20405" y="6963"/>
                  <a:pt x="20241" y="7069"/>
                </a:cubicBezTo>
                <a:cubicBezTo>
                  <a:pt x="20077" y="7175"/>
                  <a:pt x="19837" y="7202"/>
                  <a:pt x="19645" y="7218"/>
                </a:cubicBezTo>
                <a:cubicBezTo>
                  <a:pt x="19542" y="7226"/>
                  <a:pt x="19449" y="7201"/>
                  <a:pt x="19348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6000" y="2919240"/>
            <a:ext cx="1027080" cy="366840"/>
          </a:xfrm>
          <a:custGeom>
            <a:avLst/>
            <a:gdLst/>
            <a:ahLst/>
            <a:rect l="l" t="t" r="r" b="b"/>
            <a:pathLst>
              <a:path w="2854" h="1018">
                <a:moveTo>
                  <a:pt x="16371" y="8434"/>
                </a:moveTo>
                <a:cubicBezTo>
                  <a:pt x="16427" y="8434"/>
                  <a:pt x="16433" y="8449"/>
                  <a:pt x="16446" y="8409"/>
                </a:cubicBezTo>
                <a:cubicBezTo>
                  <a:pt x="16435" y="8377"/>
                  <a:pt x="16365" y="8365"/>
                  <a:pt x="16321" y="8384"/>
                </a:cubicBezTo>
                <a:cubicBezTo>
                  <a:pt x="16210" y="8432"/>
                  <a:pt x="16133" y="8536"/>
                  <a:pt x="16148" y="8657"/>
                </a:cubicBezTo>
                <a:cubicBezTo>
                  <a:pt x="16159" y="8745"/>
                  <a:pt x="16234" y="8731"/>
                  <a:pt x="16297" y="8731"/>
                </a:cubicBezTo>
                <a:cubicBezTo>
                  <a:pt x="16397" y="8731"/>
                  <a:pt x="16443" y="8729"/>
                  <a:pt x="16495" y="8830"/>
                </a:cubicBezTo>
                <a:cubicBezTo>
                  <a:pt x="16528" y="8894"/>
                  <a:pt x="16549" y="9044"/>
                  <a:pt x="16495" y="9103"/>
                </a:cubicBezTo>
                <a:cubicBezTo>
                  <a:pt x="16438" y="9165"/>
                  <a:pt x="16311" y="9122"/>
                  <a:pt x="16247" y="9103"/>
                </a:cubicBezTo>
                <a:cubicBezTo>
                  <a:pt x="16170" y="9080"/>
                  <a:pt x="16107" y="9057"/>
                  <a:pt x="16098" y="8979"/>
                </a:cubicBezTo>
                <a:cubicBezTo>
                  <a:pt x="16098" y="8963"/>
                  <a:pt x="16098" y="8946"/>
                  <a:pt x="16098" y="8930"/>
                </a:cubicBezTo>
              </a:path>
              <a:path w="2854" h="1018">
                <a:moveTo>
                  <a:pt x="16669" y="8756"/>
                </a:moveTo>
                <a:cubicBezTo>
                  <a:pt x="16677" y="8773"/>
                  <a:pt x="16686" y="8789"/>
                  <a:pt x="16694" y="8806"/>
                </a:cubicBezTo>
                <a:cubicBezTo>
                  <a:pt x="16694" y="8754"/>
                  <a:pt x="16665" y="8609"/>
                  <a:pt x="16718" y="8582"/>
                </a:cubicBezTo>
                <a:cubicBezTo>
                  <a:pt x="16762" y="8560"/>
                  <a:pt x="16814" y="8607"/>
                  <a:pt x="16842" y="8632"/>
                </a:cubicBezTo>
                <a:cubicBezTo>
                  <a:pt x="16872" y="8659"/>
                  <a:pt x="16885" y="8658"/>
                  <a:pt x="16917" y="8682"/>
                </a:cubicBezTo>
              </a:path>
              <a:path w="2854" h="1018">
                <a:moveTo>
                  <a:pt x="17066" y="8607"/>
                </a:moveTo>
                <a:cubicBezTo>
                  <a:pt x="17043" y="8562"/>
                  <a:pt x="16997" y="8647"/>
                  <a:pt x="16966" y="8682"/>
                </a:cubicBezTo>
                <a:cubicBezTo>
                  <a:pt x="16918" y="8737"/>
                  <a:pt x="16904" y="8757"/>
                  <a:pt x="16892" y="8830"/>
                </a:cubicBezTo>
                <a:cubicBezTo>
                  <a:pt x="16952" y="8860"/>
                  <a:pt x="16971" y="8810"/>
                  <a:pt x="17016" y="8756"/>
                </a:cubicBezTo>
                <a:cubicBezTo>
                  <a:pt x="17037" y="8731"/>
                  <a:pt x="17076" y="8684"/>
                  <a:pt x="17115" y="8706"/>
                </a:cubicBezTo>
                <a:cubicBezTo>
                  <a:pt x="17157" y="8729"/>
                  <a:pt x="17203" y="8783"/>
                  <a:pt x="17239" y="8806"/>
                </a:cubicBezTo>
                <a:cubicBezTo>
                  <a:pt x="17275" y="8830"/>
                  <a:pt x="17270" y="8830"/>
                  <a:pt x="17314" y="8830"/>
                </a:cubicBezTo>
              </a:path>
              <a:path w="2854" h="1018">
                <a:moveTo>
                  <a:pt x="17363" y="8756"/>
                </a:moveTo>
                <a:cubicBezTo>
                  <a:pt x="17414" y="8688"/>
                  <a:pt x="17342" y="8724"/>
                  <a:pt x="17363" y="8682"/>
                </a:cubicBezTo>
                <a:cubicBezTo>
                  <a:pt x="17411" y="8588"/>
                  <a:pt x="17441" y="8571"/>
                  <a:pt x="17462" y="8458"/>
                </a:cubicBezTo>
                <a:cubicBezTo>
                  <a:pt x="17483" y="8345"/>
                  <a:pt x="17512" y="8252"/>
                  <a:pt x="17512" y="8136"/>
                </a:cubicBezTo>
                <a:cubicBezTo>
                  <a:pt x="17512" y="8128"/>
                  <a:pt x="17512" y="8119"/>
                  <a:pt x="17512" y="8111"/>
                </a:cubicBezTo>
                <a:cubicBezTo>
                  <a:pt x="17512" y="8297"/>
                  <a:pt x="17484" y="8503"/>
                  <a:pt x="17537" y="8682"/>
                </a:cubicBezTo>
                <a:cubicBezTo>
                  <a:pt x="17562" y="8731"/>
                  <a:pt x="17571" y="8748"/>
                  <a:pt x="17587" y="8781"/>
                </a:cubicBezTo>
                <a:cubicBezTo>
                  <a:pt x="17646" y="8766"/>
                  <a:pt x="17615" y="8729"/>
                  <a:pt x="17661" y="8706"/>
                </a:cubicBezTo>
                <a:cubicBezTo>
                  <a:pt x="17699" y="8687"/>
                  <a:pt x="17726" y="8727"/>
                  <a:pt x="17735" y="8756"/>
                </a:cubicBezTo>
                <a:cubicBezTo>
                  <a:pt x="17735" y="8764"/>
                  <a:pt x="17735" y="8773"/>
                  <a:pt x="17735" y="8781"/>
                </a:cubicBezTo>
              </a:path>
              <a:path w="2854" h="1018">
                <a:moveTo>
                  <a:pt x="17760" y="8607"/>
                </a:moveTo>
                <a:cubicBezTo>
                  <a:pt x="17744" y="8536"/>
                  <a:pt x="17735" y="8518"/>
                  <a:pt x="17735" y="8458"/>
                </a:cubicBezTo>
                <a:cubicBezTo>
                  <a:pt x="17789" y="8476"/>
                  <a:pt x="17736" y="8490"/>
                  <a:pt x="17760" y="8533"/>
                </a:cubicBezTo>
                <a:cubicBezTo>
                  <a:pt x="17780" y="8569"/>
                  <a:pt x="17846" y="8629"/>
                  <a:pt x="17884" y="8632"/>
                </a:cubicBezTo>
                <a:cubicBezTo>
                  <a:pt x="17967" y="8638"/>
                  <a:pt x="17959" y="8601"/>
                  <a:pt x="17959" y="8533"/>
                </a:cubicBezTo>
                <a:cubicBezTo>
                  <a:pt x="17959" y="8516"/>
                  <a:pt x="17959" y="8500"/>
                  <a:pt x="17959" y="8483"/>
                </a:cubicBezTo>
                <a:cubicBezTo>
                  <a:pt x="17887" y="8483"/>
                  <a:pt x="17909" y="8515"/>
                  <a:pt x="17909" y="8582"/>
                </a:cubicBezTo>
                <a:cubicBezTo>
                  <a:pt x="17909" y="8661"/>
                  <a:pt x="17951" y="8733"/>
                  <a:pt x="18033" y="8756"/>
                </a:cubicBezTo>
                <a:cubicBezTo>
                  <a:pt x="18127" y="8782"/>
                  <a:pt x="18160" y="8685"/>
                  <a:pt x="18207" y="8632"/>
                </a:cubicBezTo>
                <a:cubicBezTo>
                  <a:pt x="18252" y="8581"/>
                  <a:pt x="18231" y="8649"/>
                  <a:pt x="18231" y="8682"/>
                </a:cubicBezTo>
                <a:cubicBezTo>
                  <a:pt x="18231" y="8690"/>
                  <a:pt x="18231" y="8698"/>
                  <a:pt x="18231" y="8706"/>
                </a:cubicBezTo>
                <a:cubicBezTo>
                  <a:pt x="18242" y="8663"/>
                  <a:pt x="18255" y="8624"/>
                  <a:pt x="18281" y="8607"/>
                </a:cubicBezTo>
                <a:cubicBezTo>
                  <a:pt x="18355" y="8618"/>
                  <a:pt x="18385" y="8664"/>
                  <a:pt x="18430" y="8731"/>
                </a:cubicBezTo>
                <a:cubicBezTo>
                  <a:pt x="18456" y="8770"/>
                  <a:pt x="18514" y="8845"/>
                  <a:pt x="18579" y="8806"/>
                </a:cubicBezTo>
                <a:cubicBezTo>
                  <a:pt x="18662" y="8757"/>
                  <a:pt x="18670" y="8637"/>
                  <a:pt x="18703" y="8558"/>
                </a:cubicBezTo>
                <a:cubicBezTo>
                  <a:pt x="18724" y="8508"/>
                  <a:pt x="18728" y="8488"/>
                  <a:pt x="18728" y="8434"/>
                </a:cubicBezTo>
                <a:cubicBezTo>
                  <a:pt x="18728" y="8522"/>
                  <a:pt x="18728" y="8597"/>
                  <a:pt x="18752" y="8682"/>
                </a:cubicBezTo>
                <a:cubicBezTo>
                  <a:pt x="18778" y="8760"/>
                  <a:pt x="18789" y="8787"/>
                  <a:pt x="18827" y="8830"/>
                </a:cubicBezTo>
              </a:path>
              <a:path w="2854" h="1018">
                <a:moveTo>
                  <a:pt x="18951" y="8830"/>
                </a:moveTo>
                <a:cubicBezTo>
                  <a:pt x="18951" y="8770"/>
                  <a:pt x="18984" y="8663"/>
                  <a:pt x="18901" y="8657"/>
                </a:cubicBezTo>
                <a:cubicBezTo>
                  <a:pt x="18839" y="8652"/>
                  <a:pt x="18809" y="8661"/>
                  <a:pt x="18752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34120" y="2963880"/>
            <a:ext cx="420840" cy="243000"/>
          </a:xfrm>
          <a:custGeom>
            <a:avLst/>
            <a:gdLst/>
            <a:ahLst/>
            <a:rect l="l" t="t" r="r" b="b"/>
            <a:pathLst>
              <a:path w="1167" h="671">
                <a:moveTo>
                  <a:pt x="20042" y="8483"/>
                </a:moveTo>
                <a:cubicBezTo>
                  <a:pt x="20050" y="8483"/>
                  <a:pt x="20059" y="8483"/>
                  <a:pt x="20067" y="8483"/>
                </a:cubicBezTo>
                <a:cubicBezTo>
                  <a:pt x="20001" y="8483"/>
                  <a:pt x="19935" y="8483"/>
                  <a:pt x="19869" y="8483"/>
                </a:cubicBezTo>
              </a:path>
              <a:path w="1167" h="671">
                <a:moveTo>
                  <a:pt x="20017" y="8607"/>
                </a:moveTo>
                <a:cubicBezTo>
                  <a:pt x="20058" y="8627"/>
                  <a:pt x="20074" y="8625"/>
                  <a:pt x="20067" y="8657"/>
                </a:cubicBezTo>
                <a:cubicBezTo>
                  <a:pt x="19984" y="8657"/>
                  <a:pt x="19902" y="8657"/>
                  <a:pt x="19819" y="8657"/>
                </a:cubicBezTo>
              </a:path>
              <a:path w="1167" h="671">
                <a:moveTo>
                  <a:pt x="20464" y="8235"/>
                </a:moveTo>
                <a:cubicBezTo>
                  <a:pt x="20568" y="8246"/>
                  <a:pt x="20584" y="8256"/>
                  <a:pt x="20538" y="8359"/>
                </a:cubicBezTo>
                <a:cubicBezTo>
                  <a:pt x="20498" y="8448"/>
                  <a:pt x="20453" y="8508"/>
                  <a:pt x="20439" y="8607"/>
                </a:cubicBezTo>
                <a:cubicBezTo>
                  <a:pt x="20431" y="8665"/>
                  <a:pt x="20480" y="8717"/>
                  <a:pt x="20538" y="8731"/>
                </a:cubicBezTo>
                <a:cubicBezTo>
                  <a:pt x="20619" y="8750"/>
                  <a:pt x="20728" y="8753"/>
                  <a:pt x="20811" y="8756"/>
                </a:cubicBezTo>
                <a:cubicBezTo>
                  <a:pt x="20853" y="8758"/>
                  <a:pt x="20959" y="8769"/>
                  <a:pt x="20985" y="8806"/>
                </a:cubicBezTo>
                <a:cubicBezTo>
                  <a:pt x="20985" y="8830"/>
                  <a:pt x="20985" y="8839"/>
                  <a:pt x="20985" y="8855"/>
                </a:cubicBezTo>
              </a:path>
              <a:path w="1167" h="671">
                <a:moveTo>
                  <a:pt x="20836" y="8731"/>
                </a:moveTo>
                <a:cubicBezTo>
                  <a:pt x="20721" y="8708"/>
                  <a:pt x="20745" y="8713"/>
                  <a:pt x="20712" y="8806"/>
                </a:cubicBezTo>
                <a:cubicBezTo>
                  <a:pt x="20688" y="8854"/>
                  <a:pt x="20679" y="8868"/>
                  <a:pt x="20687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3800" y="3537000"/>
            <a:ext cx="19080" cy="195120"/>
          </a:xfrm>
          <a:custGeom>
            <a:avLst/>
            <a:gdLst/>
            <a:ahLst/>
            <a:rect l="l" t="t" r="r" b="b"/>
            <a:pathLst>
              <a:path w="51" h="546">
                <a:moveTo>
                  <a:pt x="15205" y="9947"/>
                </a:moveTo>
                <a:cubicBezTo>
                  <a:pt x="15205" y="9869"/>
                  <a:pt x="15189" y="9851"/>
                  <a:pt x="15230" y="9823"/>
                </a:cubicBezTo>
                <a:cubicBezTo>
                  <a:pt x="15230" y="10005"/>
                  <a:pt x="15214" y="10192"/>
                  <a:pt x="15255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32640" y="3554280"/>
            <a:ext cx="804600" cy="357480"/>
          </a:xfrm>
          <a:custGeom>
            <a:avLst/>
            <a:gdLst/>
            <a:ahLst/>
            <a:rect l="l" t="t" r="r" b="b"/>
            <a:pathLst>
              <a:path w="2233" h="993">
                <a:moveTo>
                  <a:pt x="15949" y="10294"/>
                </a:moveTo>
                <a:cubicBezTo>
                  <a:pt x="15941" y="10286"/>
                  <a:pt x="15933" y="10277"/>
                  <a:pt x="15925" y="10269"/>
                </a:cubicBezTo>
                <a:cubicBezTo>
                  <a:pt x="15932" y="10267"/>
                  <a:pt x="15994" y="10227"/>
                  <a:pt x="15999" y="10220"/>
                </a:cubicBezTo>
                <a:cubicBezTo>
                  <a:pt x="16022" y="10186"/>
                  <a:pt x="15950" y="10220"/>
                  <a:pt x="15999" y="10220"/>
                </a:cubicBezTo>
              </a:path>
              <a:path w="2233" h="993">
                <a:moveTo>
                  <a:pt x="15999" y="9996"/>
                </a:moveTo>
                <a:cubicBezTo>
                  <a:pt x="15999" y="10078"/>
                  <a:pt x="15978" y="10139"/>
                  <a:pt x="15974" y="10220"/>
                </a:cubicBezTo>
                <a:cubicBezTo>
                  <a:pt x="15971" y="10281"/>
                  <a:pt x="15975" y="10318"/>
                  <a:pt x="15949" y="10368"/>
                </a:cubicBezTo>
                <a:cubicBezTo>
                  <a:pt x="15949" y="10421"/>
                  <a:pt x="15962" y="10295"/>
                  <a:pt x="15974" y="10269"/>
                </a:cubicBezTo>
                <a:cubicBezTo>
                  <a:pt x="16009" y="10196"/>
                  <a:pt x="16016" y="10150"/>
                  <a:pt x="16098" y="10145"/>
                </a:cubicBezTo>
                <a:cubicBezTo>
                  <a:pt x="16153" y="10142"/>
                  <a:pt x="16226" y="10143"/>
                  <a:pt x="16272" y="10170"/>
                </a:cubicBezTo>
                <a:cubicBezTo>
                  <a:pt x="16303" y="10188"/>
                  <a:pt x="16317" y="10198"/>
                  <a:pt x="16346" y="10220"/>
                </a:cubicBezTo>
              </a:path>
              <a:path w="2233" h="993">
                <a:moveTo>
                  <a:pt x="16396" y="10170"/>
                </a:moveTo>
                <a:cubicBezTo>
                  <a:pt x="16416" y="10129"/>
                  <a:pt x="16414" y="10113"/>
                  <a:pt x="16446" y="10120"/>
                </a:cubicBezTo>
                <a:cubicBezTo>
                  <a:pt x="16446" y="10178"/>
                  <a:pt x="16446" y="10236"/>
                  <a:pt x="16446" y="10294"/>
                </a:cubicBezTo>
              </a:path>
              <a:path w="2233" h="993">
                <a:moveTo>
                  <a:pt x="16470" y="10071"/>
                </a:moveTo>
                <a:cubicBezTo>
                  <a:pt x="16458" y="10015"/>
                  <a:pt x="16418" y="9940"/>
                  <a:pt x="16470" y="9922"/>
                </a:cubicBezTo>
              </a:path>
              <a:path w="2233" h="993">
                <a:moveTo>
                  <a:pt x="16644" y="10195"/>
                </a:moveTo>
                <a:cubicBezTo>
                  <a:pt x="16688" y="10210"/>
                  <a:pt x="16669" y="10266"/>
                  <a:pt x="16669" y="10319"/>
                </a:cubicBezTo>
                <a:cubicBezTo>
                  <a:pt x="16669" y="10327"/>
                  <a:pt x="16669" y="10336"/>
                  <a:pt x="16669" y="10344"/>
                </a:cubicBezTo>
                <a:cubicBezTo>
                  <a:pt x="16729" y="10329"/>
                  <a:pt x="16744" y="10257"/>
                  <a:pt x="16818" y="10269"/>
                </a:cubicBezTo>
                <a:cubicBezTo>
                  <a:pt x="16926" y="10287"/>
                  <a:pt x="16998" y="10482"/>
                  <a:pt x="17016" y="10567"/>
                </a:cubicBezTo>
                <a:cubicBezTo>
                  <a:pt x="17040" y="10684"/>
                  <a:pt x="17040" y="10828"/>
                  <a:pt x="16917" y="10864"/>
                </a:cubicBezTo>
                <a:cubicBezTo>
                  <a:pt x="16826" y="10891"/>
                  <a:pt x="16709" y="10756"/>
                  <a:pt x="16669" y="10691"/>
                </a:cubicBezTo>
                <a:cubicBezTo>
                  <a:pt x="16652" y="10658"/>
                  <a:pt x="16636" y="10625"/>
                  <a:pt x="16619" y="10592"/>
                </a:cubicBezTo>
              </a:path>
              <a:path w="2233" h="993">
                <a:moveTo>
                  <a:pt x="17016" y="9872"/>
                </a:moveTo>
                <a:cubicBezTo>
                  <a:pt x="17076" y="9991"/>
                  <a:pt x="17068" y="10087"/>
                  <a:pt x="17090" y="10220"/>
                </a:cubicBezTo>
                <a:cubicBezTo>
                  <a:pt x="17105" y="10310"/>
                  <a:pt x="17103" y="10381"/>
                  <a:pt x="17165" y="10443"/>
                </a:cubicBezTo>
                <a:cubicBezTo>
                  <a:pt x="17217" y="10390"/>
                  <a:pt x="17212" y="10353"/>
                  <a:pt x="17239" y="10294"/>
                </a:cubicBezTo>
                <a:cubicBezTo>
                  <a:pt x="17254" y="10262"/>
                  <a:pt x="17286" y="10251"/>
                  <a:pt x="17314" y="10244"/>
                </a:cubicBezTo>
                <a:cubicBezTo>
                  <a:pt x="17362" y="10306"/>
                  <a:pt x="17390" y="10353"/>
                  <a:pt x="17462" y="10393"/>
                </a:cubicBezTo>
                <a:cubicBezTo>
                  <a:pt x="17552" y="10443"/>
                  <a:pt x="17572" y="10464"/>
                  <a:pt x="17636" y="10393"/>
                </a:cubicBezTo>
                <a:cubicBezTo>
                  <a:pt x="17682" y="10342"/>
                  <a:pt x="17661" y="10239"/>
                  <a:pt x="17661" y="10170"/>
                </a:cubicBezTo>
                <a:cubicBezTo>
                  <a:pt x="17661" y="10129"/>
                  <a:pt x="17661" y="10055"/>
                  <a:pt x="17661" y="10096"/>
                </a:cubicBezTo>
                <a:cubicBezTo>
                  <a:pt x="17629" y="10191"/>
                  <a:pt x="17625" y="10270"/>
                  <a:pt x="17661" y="10368"/>
                </a:cubicBezTo>
                <a:cubicBezTo>
                  <a:pt x="17692" y="10452"/>
                  <a:pt x="17745" y="10462"/>
                  <a:pt x="17810" y="10443"/>
                </a:cubicBezTo>
              </a:path>
              <a:path w="2233" h="993">
                <a:moveTo>
                  <a:pt x="17909" y="10294"/>
                </a:moveTo>
                <a:cubicBezTo>
                  <a:pt x="17882" y="10253"/>
                  <a:pt x="17849" y="10217"/>
                  <a:pt x="17785" y="10244"/>
                </a:cubicBezTo>
                <a:cubicBezTo>
                  <a:pt x="17755" y="10274"/>
                  <a:pt x="17741" y="10285"/>
                  <a:pt x="17711" y="10294"/>
                </a:cubicBezTo>
              </a:path>
              <a:path w="2233" h="993">
                <a:moveTo>
                  <a:pt x="18058" y="10468"/>
                </a:moveTo>
                <a:cubicBezTo>
                  <a:pt x="18130" y="10569"/>
                  <a:pt x="18216" y="10651"/>
                  <a:pt x="18107" y="10765"/>
                </a:cubicBezTo>
                <a:cubicBezTo>
                  <a:pt x="18082" y="10782"/>
                  <a:pt x="18058" y="10798"/>
                  <a:pt x="18033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29280" y="3544920"/>
            <a:ext cx="268560" cy="285840"/>
          </a:xfrm>
          <a:custGeom>
            <a:avLst/>
            <a:gdLst/>
            <a:ahLst/>
            <a:rect l="l" t="t" r="r" b="b"/>
            <a:pathLst>
              <a:path w="746" h="795">
                <a:moveTo>
                  <a:pt x="19348" y="9872"/>
                </a:moveTo>
                <a:cubicBezTo>
                  <a:pt x="19388" y="9852"/>
                  <a:pt x="19394" y="9843"/>
                  <a:pt x="19422" y="9847"/>
                </a:cubicBezTo>
                <a:cubicBezTo>
                  <a:pt x="19396" y="9912"/>
                  <a:pt x="19349" y="9970"/>
                  <a:pt x="19323" y="10046"/>
                </a:cubicBezTo>
                <a:cubicBezTo>
                  <a:pt x="19292" y="10134"/>
                  <a:pt x="19230" y="10248"/>
                  <a:pt x="19248" y="10344"/>
                </a:cubicBezTo>
                <a:cubicBezTo>
                  <a:pt x="19268" y="10454"/>
                  <a:pt x="19390" y="10443"/>
                  <a:pt x="19472" y="10443"/>
                </a:cubicBezTo>
                <a:cubicBezTo>
                  <a:pt x="19580" y="10443"/>
                  <a:pt x="19695" y="10425"/>
                  <a:pt x="19794" y="10468"/>
                </a:cubicBezTo>
                <a:cubicBezTo>
                  <a:pt x="19841" y="10489"/>
                  <a:pt x="19897" y="10512"/>
                  <a:pt x="19943" y="10517"/>
                </a:cubicBezTo>
                <a:cubicBezTo>
                  <a:pt x="19968" y="10517"/>
                  <a:pt x="19976" y="10517"/>
                  <a:pt x="19993" y="10517"/>
                </a:cubicBezTo>
              </a:path>
              <a:path w="746" h="795">
                <a:moveTo>
                  <a:pt x="19720" y="10319"/>
                </a:moveTo>
                <a:cubicBezTo>
                  <a:pt x="19677" y="10390"/>
                  <a:pt x="19714" y="10460"/>
                  <a:pt x="19695" y="10542"/>
                </a:cubicBezTo>
                <a:cubicBezTo>
                  <a:pt x="19671" y="10590"/>
                  <a:pt x="19663" y="10604"/>
                  <a:pt x="19670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92960" y="3741840"/>
            <a:ext cx="250920" cy="2505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20538" y="10418"/>
                </a:moveTo>
                <a:cubicBezTo>
                  <a:pt x="20538" y="10349"/>
                  <a:pt x="20535" y="10459"/>
                  <a:pt x="20538" y="10468"/>
                </a:cubicBezTo>
                <a:cubicBezTo>
                  <a:pt x="20554" y="10513"/>
                  <a:pt x="20589" y="10563"/>
                  <a:pt x="20638" y="10567"/>
                </a:cubicBezTo>
                <a:cubicBezTo>
                  <a:pt x="20720" y="10573"/>
                  <a:pt x="20729" y="10507"/>
                  <a:pt x="20762" y="10443"/>
                </a:cubicBezTo>
              </a:path>
              <a:path w="696" h="696">
                <a:moveTo>
                  <a:pt x="20886" y="10914"/>
                </a:moveTo>
                <a:cubicBezTo>
                  <a:pt x="20900" y="10983"/>
                  <a:pt x="20903" y="11035"/>
                  <a:pt x="20935" y="11088"/>
                </a:cubicBezTo>
                <a:cubicBezTo>
                  <a:pt x="20935" y="10952"/>
                  <a:pt x="20929" y="10824"/>
                  <a:pt x="20960" y="10691"/>
                </a:cubicBezTo>
                <a:cubicBezTo>
                  <a:pt x="20980" y="10604"/>
                  <a:pt x="21017" y="10426"/>
                  <a:pt x="21109" y="10393"/>
                </a:cubicBezTo>
                <a:cubicBezTo>
                  <a:pt x="21188" y="10365"/>
                  <a:pt x="21229" y="10397"/>
                  <a:pt x="21233" y="10468"/>
                </a:cubicBezTo>
                <a:cubicBezTo>
                  <a:pt x="21238" y="10557"/>
                  <a:pt x="21150" y="10579"/>
                  <a:pt x="21084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1080" y="4259160"/>
            <a:ext cx="857160" cy="214560"/>
          </a:xfrm>
          <a:custGeom>
            <a:avLst/>
            <a:gdLst/>
            <a:ahLst/>
            <a:rect l="l" t="t" r="r" b="b"/>
            <a:pathLst>
              <a:path w="2383" h="596">
                <a:moveTo>
                  <a:pt x="3051" y="12005"/>
                </a:moveTo>
                <a:cubicBezTo>
                  <a:pt x="3051" y="11972"/>
                  <a:pt x="3051" y="11939"/>
                  <a:pt x="3051" y="11906"/>
                </a:cubicBezTo>
                <a:cubicBezTo>
                  <a:pt x="3051" y="11988"/>
                  <a:pt x="3053" y="12047"/>
                  <a:pt x="3076" y="12129"/>
                </a:cubicBezTo>
                <a:cubicBezTo>
                  <a:pt x="3095" y="12198"/>
                  <a:pt x="3121" y="12263"/>
                  <a:pt x="3150" y="12328"/>
                </a:cubicBezTo>
              </a:path>
              <a:path w="2383" h="596">
                <a:moveTo>
                  <a:pt x="3026" y="12204"/>
                </a:moveTo>
                <a:cubicBezTo>
                  <a:pt x="3006" y="12111"/>
                  <a:pt x="2975" y="12019"/>
                  <a:pt x="3026" y="11931"/>
                </a:cubicBezTo>
                <a:cubicBezTo>
                  <a:pt x="3067" y="11859"/>
                  <a:pt x="3166" y="11876"/>
                  <a:pt x="3225" y="11906"/>
                </a:cubicBezTo>
                <a:cubicBezTo>
                  <a:pt x="3340" y="11964"/>
                  <a:pt x="3405" y="12063"/>
                  <a:pt x="3448" y="12179"/>
                </a:cubicBezTo>
                <a:cubicBezTo>
                  <a:pt x="3474" y="12249"/>
                  <a:pt x="3482" y="12348"/>
                  <a:pt x="3398" y="12378"/>
                </a:cubicBezTo>
                <a:cubicBezTo>
                  <a:pt x="3329" y="12402"/>
                  <a:pt x="3263" y="12389"/>
                  <a:pt x="3200" y="12427"/>
                </a:cubicBezTo>
              </a:path>
              <a:path w="2383" h="596">
                <a:moveTo>
                  <a:pt x="3572" y="12179"/>
                </a:moveTo>
                <a:cubicBezTo>
                  <a:pt x="3639" y="12189"/>
                  <a:pt x="3658" y="12212"/>
                  <a:pt x="3671" y="12278"/>
                </a:cubicBezTo>
                <a:cubicBezTo>
                  <a:pt x="3671" y="12295"/>
                  <a:pt x="3671" y="12311"/>
                  <a:pt x="3671" y="12328"/>
                </a:cubicBezTo>
              </a:path>
              <a:path w="2383" h="596">
                <a:moveTo>
                  <a:pt x="3621" y="12204"/>
                </a:moveTo>
                <a:cubicBezTo>
                  <a:pt x="3586" y="12139"/>
                  <a:pt x="3547" y="12098"/>
                  <a:pt x="3547" y="12030"/>
                </a:cubicBezTo>
              </a:path>
              <a:path w="2383" h="596">
                <a:moveTo>
                  <a:pt x="3746" y="12229"/>
                </a:moveTo>
                <a:cubicBezTo>
                  <a:pt x="3754" y="12237"/>
                  <a:pt x="3762" y="12246"/>
                  <a:pt x="3770" y="12254"/>
                </a:cubicBezTo>
                <a:cubicBezTo>
                  <a:pt x="3743" y="12226"/>
                  <a:pt x="3732" y="12242"/>
                  <a:pt x="3721" y="12204"/>
                </a:cubicBezTo>
                <a:cubicBezTo>
                  <a:pt x="3714" y="12180"/>
                  <a:pt x="3721" y="12133"/>
                  <a:pt x="3721" y="12105"/>
                </a:cubicBezTo>
                <a:cubicBezTo>
                  <a:pt x="3774" y="12105"/>
                  <a:pt x="3801" y="12083"/>
                  <a:pt x="3845" y="12080"/>
                </a:cubicBezTo>
                <a:cubicBezTo>
                  <a:pt x="3914" y="12075"/>
                  <a:pt x="3961" y="12074"/>
                  <a:pt x="4018" y="12055"/>
                </a:cubicBezTo>
                <a:cubicBezTo>
                  <a:pt x="4043" y="12047"/>
                  <a:pt x="4059" y="12019"/>
                  <a:pt x="4043" y="11981"/>
                </a:cubicBezTo>
                <a:cubicBezTo>
                  <a:pt x="4035" y="11973"/>
                  <a:pt x="4026" y="11964"/>
                  <a:pt x="4018" y="11956"/>
                </a:cubicBezTo>
                <a:cubicBezTo>
                  <a:pt x="3980" y="12001"/>
                  <a:pt x="3969" y="12004"/>
                  <a:pt x="3969" y="12080"/>
                </a:cubicBezTo>
                <a:cubicBezTo>
                  <a:pt x="3969" y="12156"/>
                  <a:pt x="4025" y="12221"/>
                  <a:pt x="4093" y="12229"/>
                </a:cubicBezTo>
                <a:cubicBezTo>
                  <a:pt x="4174" y="12239"/>
                  <a:pt x="4186" y="12166"/>
                  <a:pt x="4217" y="12105"/>
                </a:cubicBezTo>
                <a:cubicBezTo>
                  <a:pt x="4239" y="12061"/>
                  <a:pt x="4242" y="12050"/>
                  <a:pt x="4266" y="12030"/>
                </a:cubicBezTo>
                <a:cubicBezTo>
                  <a:pt x="4326" y="12045"/>
                  <a:pt x="4330" y="12080"/>
                  <a:pt x="4366" y="12129"/>
                </a:cubicBezTo>
                <a:cubicBezTo>
                  <a:pt x="4401" y="12176"/>
                  <a:pt x="4411" y="12171"/>
                  <a:pt x="4465" y="12179"/>
                </a:cubicBezTo>
                <a:cubicBezTo>
                  <a:pt x="4498" y="12124"/>
                  <a:pt x="4490" y="12073"/>
                  <a:pt x="4490" y="12005"/>
                </a:cubicBezTo>
                <a:cubicBezTo>
                  <a:pt x="4490" y="11951"/>
                  <a:pt x="4472" y="11910"/>
                  <a:pt x="4465" y="11857"/>
                </a:cubicBezTo>
                <a:cubicBezTo>
                  <a:pt x="4465" y="11808"/>
                  <a:pt x="4500" y="11974"/>
                  <a:pt x="4514" y="12005"/>
                </a:cubicBezTo>
                <a:cubicBezTo>
                  <a:pt x="4555" y="12096"/>
                  <a:pt x="4635" y="12221"/>
                  <a:pt x="4738" y="12254"/>
                </a:cubicBezTo>
                <a:cubicBezTo>
                  <a:pt x="4792" y="12271"/>
                  <a:pt x="4852" y="12209"/>
                  <a:pt x="4837" y="12154"/>
                </a:cubicBezTo>
                <a:cubicBezTo>
                  <a:pt x="4824" y="12104"/>
                  <a:pt x="4790" y="12068"/>
                  <a:pt x="4738" y="12080"/>
                </a:cubicBezTo>
                <a:cubicBezTo>
                  <a:pt x="4691" y="12091"/>
                  <a:pt x="4651" y="12139"/>
                  <a:pt x="4638" y="12179"/>
                </a:cubicBezTo>
                <a:cubicBezTo>
                  <a:pt x="4638" y="12204"/>
                  <a:pt x="4638" y="12212"/>
                  <a:pt x="4638" y="12229"/>
                </a:cubicBezTo>
                <a:cubicBezTo>
                  <a:pt x="4682" y="12218"/>
                  <a:pt x="4698" y="12166"/>
                  <a:pt x="4738" y="12154"/>
                </a:cubicBezTo>
                <a:cubicBezTo>
                  <a:pt x="4772" y="12144"/>
                  <a:pt x="4837" y="12164"/>
                  <a:pt x="4862" y="12179"/>
                </a:cubicBezTo>
                <a:cubicBezTo>
                  <a:pt x="4885" y="12202"/>
                  <a:pt x="4893" y="12206"/>
                  <a:pt x="4887" y="12229"/>
                </a:cubicBezTo>
              </a:path>
              <a:path w="2383" h="596">
                <a:moveTo>
                  <a:pt x="4887" y="12129"/>
                </a:moveTo>
                <a:cubicBezTo>
                  <a:pt x="4858" y="12067"/>
                  <a:pt x="4827" y="12014"/>
                  <a:pt x="4812" y="11956"/>
                </a:cubicBezTo>
              </a:path>
              <a:path w="2383" h="596">
                <a:moveTo>
                  <a:pt x="4936" y="12080"/>
                </a:moveTo>
                <a:cubicBezTo>
                  <a:pt x="4977" y="12140"/>
                  <a:pt x="4984" y="12119"/>
                  <a:pt x="5035" y="12154"/>
                </a:cubicBezTo>
                <a:cubicBezTo>
                  <a:pt x="5070" y="12178"/>
                  <a:pt x="5060" y="12221"/>
                  <a:pt x="5085" y="12254"/>
                </a:cubicBezTo>
                <a:cubicBezTo>
                  <a:pt x="5044" y="12254"/>
                  <a:pt x="5005" y="12248"/>
                  <a:pt x="4986" y="12204"/>
                </a:cubicBezTo>
                <a:cubicBezTo>
                  <a:pt x="4979" y="12188"/>
                  <a:pt x="4986" y="12147"/>
                  <a:pt x="4986" y="12129"/>
                </a:cubicBezTo>
                <a:cubicBezTo>
                  <a:pt x="5044" y="12129"/>
                  <a:pt x="5080" y="12129"/>
                  <a:pt x="5135" y="12154"/>
                </a:cubicBezTo>
                <a:cubicBezTo>
                  <a:pt x="5168" y="12169"/>
                  <a:pt x="5244" y="12201"/>
                  <a:pt x="5283" y="12179"/>
                </a:cubicBezTo>
                <a:cubicBezTo>
                  <a:pt x="5331" y="12152"/>
                  <a:pt x="5323" y="12129"/>
                  <a:pt x="5383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30680" y="3929040"/>
            <a:ext cx="634680" cy="696960"/>
          </a:xfrm>
          <a:custGeom>
            <a:avLst/>
            <a:gdLst/>
            <a:ahLst/>
            <a:rect l="l" t="t" r="r" b="b"/>
            <a:pathLst>
              <a:path w="1762" h="1936">
                <a:moveTo>
                  <a:pt x="8682" y="11137"/>
                </a:moveTo>
                <a:cubicBezTo>
                  <a:pt x="8682" y="11068"/>
                  <a:pt x="8682" y="11276"/>
                  <a:pt x="8682" y="11286"/>
                </a:cubicBezTo>
                <a:cubicBezTo>
                  <a:pt x="8682" y="11404"/>
                  <a:pt x="8706" y="11514"/>
                  <a:pt x="8706" y="11633"/>
                </a:cubicBezTo>
              </a:path>
              <a:path w="1762" h="1936">
                <a:moveTo>
                  <a:pt x="8632" y="12254"/>
                </a:moveTo>
                <a:cubicBezTo>
                  <a:pt x="8632" y="12198"/>
                  <a:pt x="8617" y="12192"/>
                  <a:pt x="8657" y="12179"/>
                </a:cubicBezTo>
                <a:cubicBezTo>
                  <a:pt x="8645" y="12227"/>
                  <a:pt x="8616" y="12275"/>
                  <a:pt x="8607" y="12328"/>
                </a:cubicBezTo>
                <a:cubicBezTo>
                  <a:pt x="8600" y="12371"/>
                  <a:pt x="8560" y="12459"/>
                  <a:pt x="8582" y="12502"/>
                </a:cubicBezTo>
                <a:cubicBezTo>
                  <a:pt x="8609" y="12556"/>
                  <a:pt x="8655" y="12551"/>
                  <a:pt x="8706" y="12551"/>
                </a:cubicBezTo>
                <a:cubicBezTo>
                  <a:pt x="8796" y="12551"/>
                  <a:pt x="8867" y="12531"/>
                  <a:pt x="8954" y="12526"/>
                </a:cubicBezTo>
                <a:cubicBezTo>
                  <a:pt x="9019" y="12522"/>
                  <a:pt x="9044" y="12536"/>
                  <a:pt x="9103" y="12551"/>
                </a:cubicBezTo>
                <a:cubicBezTo>
                  <a:pt x="9111" y="12551"/>
                  <a:pt x="9120" y="12551"/>
                  <a:pt x="9128" y="12551"/>
                </a:cubicBezTo>
              </a:path>
              <a:path w="1762" h="1936">
                <a:moveTo>
                  <a:pt x="8880" y="12402"/>
                </a:moveTo>
                <a:cubicBezTo>
                  <a:pt x="8880" y="12485"/>
                  <a:pt x="8867" y="12546"/>
                  <a:pt x="8855" y="12626"/>
                </a:cubicBezTo>
                <a:cubicBezTo>
                  <a:pt x="8855" y="12684"/>
                  <a:pt x="8855" y="12709"/>
                  <a:pt x="8855" y="12750"/>
                </a:cubicBezTo>
              </a:path>
              <a:path w="1762" h="1936">
                <a:moveTo>
                  <a:pt x="9004" y="11013"/>
                </a:moveTo>
                <a:cubicBezTo>
                  <a:pt x="9066" y="11013"/>
                  <a:pt x="9103" y="11009"/>
                  <a:pt x="9153" y="11038"/>
                </a:cubicBezTo>
                <a:cubicBezTo>
                  <a:pt x="9218" y="11075"/>
                  <a:pt x="9273" y="11133"/>
                  <a:pt x="9327" y="11187"/>
                </a:cubicBezTo>
                <a:cubicBezTo>
                  <a:pt x="9404" y="11265"/>
                  <a:pt x="9448" y="11345"/>
                  <a:pt x="9500" y="11435"/>
                </a:cubicBezTo>
                <a:cubicBezTo>
                  <a:pt x="9571" y="11558"/>
                  <a:pt x="9572" y="11649"/>
                  <a:pt x="9599" y="11782"/>
                </a:cubicBezTo>
                <a:cubicBezTo>
                  <a:pt x="9623" y="11900"/>
                  <a:pt x="9633" y="11985"/>
                  <a:pt x="9599" y="12105"/>
                </a:cubicBezTo>
                <a:cubicBezTo>
                  <a:pt x="9569" y="12213"/>
                  <a:pt x="9536" y="12320"/>
                  <a:pt x="9500" y="12427"/>
                </a:cubicBezTo>
                <a:cubicBezTo>
                  <a:pt x="9467" y="12525"/>
                  <a:pt x="9428" y="12605"/>
                  <a:pt x="9401" y="12700"/>
                </a:cubicBezTo>
                <a:cubicBezTo>
                  <a:pt x="9389" y="12742"/>
                  <a:pt x="9348" y="12785"/>
                  <a:pt x="9327" y="12824"/>
                </a:cubicBezTo>
              </a:path>
              <a:path w="1762" h="1936">
                <a:moveTo>
                  <a:pt x="8136" y="10988"/>
                </a:moveTo>
                <a:cubicBezTo>
                  <a:pt x="8136" y="10963"/>
                  <a:pt x="8136" y="10939"/>
                  <a:pt x="8136" y="10914"/>
                </a:cubicBezTo>
                <a:cubicBezTo>
                  <a:pt x="8094" y="10925"/>
                  <a:pt x="8062" y="10913"/>
                  <a:pt x="8037" y="10964"/>
                </a:cubicBezTo>
                <a:cubicBezTo>
                  <a:pt x="8006" y="11026"/>
                  <a:pt x="7982" y="11141"/>
                  <a:pt x="7962" y="11212"/>
                </a:cubicBezTo>
                <a:cubicBezTo>
                  <a:pt x="7917" y="11374"/>
                  <a:pt x="7868" y="11540"/>
                  <a:pt x="7863" y="11708"/>
                </a:cubicBezTo>
                <a:cubicBezTo>
                  <a:pt x="7859" y="11847"/>
                  <a:pt x="7895" y="11946"/>
                  <a:pt x="7913" y="12080"/>
                </a:cubicBezTo>
                <a:cubicBezTo>
                  <a:pt x="7926" y="12174"/>
                  <a:pt x="7940" y="12266"/>
                  <a:pt x="7987" y="12353"/>
                </a:cubicBezTo>
                <a:cubicBezTo>
                  <a:pt x="8045" y="12461"/>
                  <a:pt x="8114" y="12554"/>
                  <a:pt x="8186" y="12650"/>
                </a:cubicBezTo>
                <a:cubicBezTo>
                  <a:pt x="8232" y="12712"/>
                  <a:pt x="8269" y="12785"/>
                  <a:pt x="8310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21080" y="4394160"/>
            <a:ext cx="1893960" cy="320760"/>
          </a:xfrm>
          <a:custGeom>
            <a:avLst/>
            <a:gdLst/>
            <a:ahLst/>
            <a:rect l="l" t="t" r="r" b="b"/>
            <a:pathLst>
              <a:path w="5260" h="894">
                <a:moveTo>
                  <a:pt x="16669" y="12328"/>
                </a:moveTo>
                <a:cubicBezTo>
                  <a:pt x="16709" y="12287"/>
                  <a:pt x="16731" y="12276"/>
                  <a:pt x="16743" y="12229"/>
                </a:cubicBezTo>
                <a:cubicBezTo>
                  <a:pt x="16693" y="12191"/>
                  <a:pt x="16610" y="12192"/>
                  <a:pt x="16545" y="12204"/>
                </a:cubicBezTo>
                <a:cubicBezTo>
                  <a:pt x="16459" y="12220"/>
                  <a:pt x="16346" y="12288"/>
                  <a:pt x="16321" y="12378"/>
                </a:cubicBezTo>
                <a:cubicBezTo>
                  <a:pt x="16292" y="12480"/>
                  <a:pt x="16386" y="12493"/>
                  <a:pt x="16446" y="12526"/>
                </a:cubicBezTo>
                <a:cubicBezTo>
                  <a:pt x="16527" y="12571"/>
                  <a:pt x="16637" y="12626"/>
                  <a:pt x="16694" y="12700"/>
                </a:cubicBezTo>
                <a:cubicBezTo>
                  <a:pt x="16723" y="12738"/>
                  <a:pt x="16736" y="12835"/>
                  <a:pt x="16669" y="12849"/>
                </a:cubicBezTo>
                <a:cubicBezTo>
                  <a:pt x="16586" y="12866"/>
                  <a:pt x="16471" y="12856"/>
                  <a:pt x="16396" y="12824"/>
                </a:cubicBezTo>
                <a:cubicBezTo>
                  <a:pt x="16355" y="12804"/>
                  <a:pt x="16339" y="12806"/>
                  <a:pt x="16346" y="12774"/>
                </a:cubicBezTo>
              </a:path>
              <a:path w="5260" h="894">
                <a:moveTo>
                  <a:pt x="16942" y="12725"/>
                </a:moveTo>
                <a:cubicBezTo>
                  <a:pt x="16906" y="12698"/>
                  <a:pt x="16903" y="12708"/>
                  <a:pt x="16892" y="12675"/>
                </a:cubicBezTo>
                <a:cubicBezTo>
                  <a:pt x="16892" y="12605"/>
                  <a:pt x="16944" y="12587"/>
                  <a:pt x="17016" y="12576"/>
                </a:cubicBezTo>
                <a:cubicBezTo>
                  <a:pt x="17133" y="12558"/>
                  <a:pt x="17199" y="12589"/>
                  <a:pt x="17239" y="12700"/>
                </a:cubicBezTo>
                <a:cubicBezTo>
                  <a:pt x="17256" y="12748"/>
                  <a:pt x="17304" y="12923"/>
                  <a:pt x="17190" y="12923"/>
                </a:cubicBezTo>
                <a:cubicBezTo>
                  <a:pt x="17059" y="12923"/>
                  <a:pt x="16956" y="12831"/>
                  <a:pt x="16867" y="12750"/>
                </a:cubicBezTo>
              </a:path>
              <a:path w="5260" h="894">
                <a:moveTo>
                  <a:pt x="15602" y="12576"/>
                </a:moveTo>
                <a:cubicBezTo>
                  <a:pt x="15500" y="12570"/>
                  <a:pt x="15404" y="12555"/>
                  <a:pt x="15304" y="12551"/>
                </a:cubicBezTo>
                <a:cubicBezTo>
                  <a:pt x="15177" y="12546"/>
                  <a:pt x="15058" y="12530"/>
                  <a:pt x="14932" y="12526"/>
                </a:cubicBezTo>
                <a:cubicBezTo>
                  <a:pt x="14765" y="12521"/>
                  <a:pt x="14594" y="12517"/>
                  <a:pt x="14436" y="12551"/>
                </a:cubicBezTo>
                <a:cubicBezTo>
                  <a:pt x="14356" y="12568"/>
                  <a:pt x="14272" y="12615"/>
                  <a:pt x="14188" y="12626"/>
                </a:cubicBezTo>
                <a:cubicBezTo>
                  <a:pt x="14060" y="12642"/>
                  <a:pt x="13919" y="12647"/>
                  <a:pt x="13791" y="12650"/>
                </a:cubicBezTo>
                <a:cubicBezTo>
                  <a:pt x="13673" y="12653"/>
                  <a:pt x="13563" y="12626"/>
                  <a:pt x="13444" y="12626"/>
                </a:cubicBezTo>
                <a:cubicBezTo>
                  <a:pt x="13350" y="12626"/>
                  <a:pt x="13266" y="12603"/>
                  <a:pt x="13171" y="12601"/>
                </a:cubicBezTo>
                <a:cubicBezTo>
                  <a:pt x="13010" y="12597"/>
                  <a:pt x="12856" y="12613"/>
                  <a:pt x="12700" y="12626"/>
                </a:cubicBezTo>
                <a:cubicBezTo>
                  <a:pt x="12626" y="12632"/>
                  <a:pt x="12546" y="12644"/>
                  <a:pt x="12477" y="12650"/>
                </a:cubicBezTo>
                <a:cubicBezTo>
                  <a:pt x="12387" y="12658"/>
                  <a:pt x="12315" y="12653"/>
                  <a:pt x="12229" y="12675"/>
                </a:cubicBezTo>
                <a:cubicBezTo>
                  <a:pt x="12173" y="12690"/>
                  <a:pt x="12141" y="12698"/>
                  <a:pt x="12080" y="12700"/>
                </a:cubicBezTo>
                <a:cubicBezTo>
                  <a:pt x="12055" y="12701"/>
                  <a:pt x="12030" y="12700"/>
                  <a:pt x="12005" y="12700"/>
                </a:cubicBezTo>
                <a:cubicBezTo>
                  <a:pt x="12021" y="12662"/>
                  <a:pt x="12032" y="12637"/>
                  <a:pt x="12055" y="12601"/>
                </a:cubicBezTo>
                <a:cubicBezTo>
                  <a:pt x="12094" y="12541"/>
                  <a:pt x="12140" y="12502"/>
                  <a:pt x="12179" y="12452"/>
                </a:cubicBezTo>
                <a:cubicBezTo>
                  <a:pt x="12215" y="12406"/>
                  <a:pt x="12242" y="12349"/>
                  <a:pt x="12303" y="12328"/>
                </a:cubicBezTo>
                <a:cubicBezTo>
                  <a:pt x="12330" y="12318"/>
                  <a:pt x="12372" y="12332"/>
                  <a:pt x="12402" y="12328"/>
                </a:cubicBezTo>
                <a:cubicBezTo>
                  <a:pt x="12386" y="12342"/>
                  <a:pt x="12360" y="12377"/>
                  <a:pt x="12328" y="12402"/>
                </a:cubicBezTo>
                <a:cubicBezTo>
                  <a:pt x="12276" y="12443"/>
                  <a:pt x="12229" y="12478"/>
                  <a:pt x="12179" y="12526"/>
                </a:cubicBezTo>
                <a:cubicBezTo>
                  <a:pt x="12113" y="12589"/>
                  <a:pt x="12109" y="12603"/>
                  <a:pt x="12080" y="12675"/>
                </a:cubicBezTo>
                <a:cubicBezTo>
                  <a:pt x="12067" y="12707"/>
                  <a:pt x="12040" y="12730"/>
                  <a:pt x="12055" y="12774"/>
                </a:cubicBezTo>
                <a:cubicBezTo>
                  <a:pt x="12075" y="12834"/>
                  <a:pt x="12104" y="12834"/>
                  <a:pt x="12154" y="12874"/>
                </a:cubicBezTo>
                <a:cubicBezTo>
                  <a:pt x="12215" y="12922"/>
                  <a:pt x="12291" y="12952"/>
                  <a:pt x="12353" y="12998"/>
                </a:cubicBezTo>
                <a:cubicBezTo>
                  <a:pt x="12389" y="13025"/>
                  <a:pt x="12420" y="13065"/>
                  <a:pt x="12452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5303880"/>
            <a:ext cx="150840" cy="214200"/>
          </a:xfrm>
          <a:custGeom>
            <a:avLst/>
            <a:gdLst/>
            <a:ahLst/>
            <a:rect l="l" t="t" r="r" b="b"/>
            <a:pathLst>
              <a:path w="422" h="596">
                <a:moveTo>
                  <a:pt x="3621" y="14883"/>
                </a:moveTo>
                <a:cubicBezTo>
                  <a:pt x="3621" y="14936"/>
                  <a:pt x="3643" y="14963"/>
                  <a:pt x="3646" y="15007"/>
                </a:cubicBezTo>
                <a:cubicBezTo>
                  <a:pt x="3646" y="15048"/>
                  <a:pt x="3646" y="15056"/>
                  <a:pt x="3646" y="15081"/>
                </a:cubicBezTo>
                <a:cubicBezTo>
                  <a:pt x="3620" y="15021"/>
                  <a:pt x="3606" y="14948"/>
                  <a:pt x="3597" y="14883"/>
                </a:cubicBezTo>
                <a:cubicBezTo>
                  <a:pt x="3589" y="14824"/>
                  <a:pt x="3629" y="14780"/>
                  <a:pt x="3671" y="14759"/>
                </a:cubicBezTo>
                <a:cubicBezTo>
                  <a:pt x="3732" y="14729"/>
                  <a:pt x="3778" y="14734"/>
                  <a:pt x="3845" y="14734"/>
                </a:cubicBezTo>
                <a:cubicBezTo>
                  <a:pt x="3901" y="14734"/>
                  <a:pt x="3915" y="14759"/>
                  <a:pt x="3969" y="14759"/>
                </a:cubicBezTo>
              </a:path>
              <a:path w="422" h="596">
                <a:moveTo>
                  <a:pt x="3994" y="15304"/>
                </a:moveTo>
                <a:cubicBezTo>
                  <a:pt x="4049" y="15304"/>
                  <a:pt x="3954" y="15327"/>
                  <a:pt x="3944" y="15329"/>
                </a:cubicBezTo>
                <a:cubicBezTo>
                  <a:pt x="3877" y="15343"/>
                  <a:pt x="3790" y="15329"/>
                  <a:pt x="3721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87680" y="5357880"/>
            <a:ext cx="98280" cy="7128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4911" y="14883"/>
                </a:moveTo>
                <a:cubicBezTo>
                  <a:pt x="4936" y="14883"/>
                  <a:pt x="4944" y="14883"/>
                  <a:pt x="4961" y="14883"/>
                </a:cubicBezTo>
                <a:cubicBezTo>
                  <a:pt x="4872" y="14883"/>
                  <a:pt x="4789" y="14882"/>
                  <a:pt x="4713" y="14908"/>
                </a:cubicBezTo>
                <a:cubicBezTo>
                  <a:pt x="4705" y="14908"/>
                  <a:pt x="4696" y="14908"/>
                  <a:pt x="4688" y="14908"/>
                </a:cubicBezTo>
              </a:path>
              <a:path w="274" h="199">
                <a:moveTo>
                  <a:pt x="4936" y="15007"/>
                </a:moveTo>
                <a:cubicBezTo>
                  <a:pt x="4892" y="15051"/>
                  <a:pt x="4869" y="15057"/>
                  <a:pt x="4812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43080" y="5099040"/>
            <a:ext cx="598680" cy="625320"/>
          </a:xfrm>
          <a:custGeom>
            <a:avLst/>
            <a:gdLst/>
            <a:ahLst/>
            <a:rect l="l" t="t" r="r" b="b"/>
            <a:pathLst>
              <a:path w="1663" h="1738">
                <a:moveTo>
                  <a:pt x="6300" y="14908"/>
                </a:moveTo>
                <a:cubicBezTo>
                  <a:pt x="6300" y="14932"/>
                  <a:pt x="6300" y="14941"/>
                  <a:pt x="6300" y="14957"/>
                </a:cubicBezTo>
                <a:cubicBezTo>
                  <a:pt x="6339" y="14947"/>
                  <a:pt x="6385" y="14924"/>
                  <a:pt x="6424" y="14908"/>
                </a:cubicBezTo>
                <a:cubicBezTo>
                  <a:pt x="6480" y="14885"/>
                  <a:pt x="6560" y="14865"/>
                  <a:pt x="6623" y="14883"/>
                </a:cubicBezTo>
                <a:cubicBezTo>
                  <a:pt x="6673" y="14897"/>
                  <a:pt x="6693" y="14908"/>
                  <a:pt x="6747" y="14908"/>
                </a:cubicBezTo>
              </a:path>
              <a:path w="1663" h="1738">
                <a:moveTo>
                  <a:pt x="6995" y="14610"/>
                </a:moveTo>
                <a:cubicBezTo>
                  <a:pt x="6995" y="14593"/>
                  <a:pt x="6995" y="14577"/>
                  <a:pt x="6995" y="14560"/>
                </a:cubicBezTo>
                <a:cubicBezTo>
                  <a:pt x="7028" y="14615"/>
                  <a:pt x="7020" y="14666"/>
                  <a:pt x="7020" y="14734"/>
                </a:cubicBezTo>
                <a:cubicBezTo>
                  <a:pt x="7020" y="14784"/>
                  <a:pt x="7020" y="14833"/>
                  <a:pt x="7020" y="14883"/>
                </a:cubicBezTo>
              </a:path>
              <a:path w="1663" h="1738">
                <a:moveTo>
                  <a:pt x="6697" y="15553"/>
                </a:moveTo>
                <a:cubicBezTo>
                  <a:pt x="6675" y="15575"/>
                  <a:pt x="6670" y="15583"/>
                  <a:pt x="6648" y="15577"/>
                </a:cubicBezTo>
                <a:cubicBezTo>
                  <a:pt x="6619" y="15540"/>
                  <a:pt x="6623" y="15526"/>
                  <a:pt x="6623" y="15478"/>
                </a:cubicBezTo>
                <a:cubicBezTo>
                  <a:pt x="6623" y="15397"/>
                  <a:pt x="6664" y="15348"/>
                  <a:pt x="6747" y="15329"/>
                </a:cubicBezTo>
                <a:cubicBezTo>
                  <a:pt x="6836" y="15309"/>
                  <a:pt x="6897" y="15339"/>
                  <a:pt x="6945" y="15404"/>
                </a:cubicBezTo>
                <a:cubicBezTo>
                  <a:pt x="6990" y="15466"/>
                  <a:pt x="7020" y="15547"/>
                  <a:pt x="6995" y="15627"/>
                </a:cubicBezTo>
                <a:cubicBezTo>
                  <a:pt x="6987" y="15644"/>
                  <a:pt x="6978" y="15660"/>
                  <a:pt x="6970" y="15677"/>
                </a:cubicBezTo>
                <a:cubicBezTo>
                  <a:pt x="6885" y="15666"/>
                  <a:pt x="6816" y="15633"/>
                  <a:pt x="6747" y="15577"/>
                </a:cubicBezTo>
                <a:cubicBezTo>
                  <a:pt x="6730" y="15561"/>
                  <a:pt x="6714" y="15544"/>
                  <a:pt x="6697" y="15528"/>
                </a:cubicBezTo>
              </a:path>
              <a:path w="1663" h="1738">
                <a:moveTo>
                  <a:pt x="7169" y="14188"/>
                </a:moveTo>
                <a:cubicBezTo>
                  <a:pt x="7217" y="14237"/>
                  <a:pt x="7253" y="14283"/>
                  <a:pt x="7293" y="14337"/>
                </a:cubicBezTo>
                <a:cubicBezTo>
                  <a:pt x="7345" y="14407"/>
                  <a:pt x="7397" y="14458"/>
                  <a:pt x="7441" y="14536"/>
                </a:cubicBezTo>
                <a:cubicBezTo>
                  <a:pt x="7493" y="14627"/>
                  <a:pt x="7532" y="14708"/>
                  <a:pt x="7565" y="14808"/>
                </a:cubicBezTo>
                <a:cubicBezTo>
                  <a:pt x="7601" y="14915"/>
                  <a:pt x="7615" y="14993"/>
                  <a:pt x="7615" y="15106"/>
                </a:cubicBezTo>
                <a:cubicBezTo>
                  <a:pt x="7615" y="15194"/>
                  <a:pt x="7622" y="15324"/>
                  <a:pt x="7590" y="15404"/>
                </a:cubicBezTo>
                <a:cubicBezTo>
                  <a:pt x="7548" y="15509"/>
                  <a:pt x="7466" y="15578"/>
                  <a:pt x="7417" y="15677"/>
                </a:cubicBezTo>
                <a:cubicBezTo>
                  <a:pt x="7378" y="15755"/>
                  <a:pt x="7332" y="15820"/>
                  <a:pt x="7293" y="15900"/>
                </a:cubicBezTo>
              </a:path>
              <a:path w="1663" h="1738">
                <a:moveTo>
                  <a:pt x="6201" y="14213"/>
                </a:moveTo>
                <a:cubicBezTo>
                  <a:pt x="6224" y="14190"/>
                  <a:pt x="6232" y="14186"/>
                  <a:pt x="6226" y="14163"/>
                </a:cubicBezTo>
                <a:cubicBezTo>
                  <a:pt x="6205" y="14200"/>
                  <a:pt x="6175" y="14244"/>
                  <a:pt x="6152" y="14288"/>
                </a:cubicBezTo>
                <a:cubicBezTo>
                  <a:pt x="6114" y="14360"/>
                  <a:pt x="6080" y="14435"/>
                  <a:pt x="6052" y="14511"/>
                </a:cubicBezTo>
                <a:cubicBezTo>
                  <a:pt x="6020" y="14598"/>
                  <a:pt x="5995" y="14715"/>
                  <a:pt x="5978" y="14808"/>
                </a:cubicBezTo>
                <a:cubicBezTo>
                  <a:pt x="5964" y="14887"/>
                  <a:pt x="5964" y="14977"/>
                  <a:pt x="5953" y="15056"/>
                </a:cubicBezTo>
                <a:cubicBezTo>
                  <a:pt x="5943" y="15130"/>
                  <a:pt x="5958" y="15235"/>
                  <a:pt x="5978" y="15304"/>
                </a:cubicBezTo>
                <a:cubicBezTo>
                  <a:pt x="5999" y="15377"/>
                  <a:pt x="6044" y="15459"/>
                  <a:pt x="6077" y="15528"/>
                </a:cubicBezTo>
                <a:cubicBezTo>
                  <a:pt x="6107" y="15591"/>
                  <a:pt x="6158" y="15648"/>
                  <a:pt x="6201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17880" y="5411880"/>
            <a:ext cx="411120" cy="160200"/>
          </a:xfrm>
          <a:custGeom>
            <a:avLst/>
            <a:gdLst/>
            <a:ahLst/>
            <a:rect l="l" t="t" r="r" b="b"/>
            <a:pathLst>
              <a:path w="1142" h="447">
                <a:moveTo>
                  <a:pt x="8781" y="15255"/>
                </a:moveTo>
                <a:cubicBezTo>
                  <a:pt x="8848" y="15255"/>
                  <a:pt x="8742" y="15255"/>
                  <a:pt x="8731" y="15255"/>
                </a:cubicBezTo>
                <a:cubicBezTo>
                  <a:pt x="8648" y="15255"/>
                  <a:pt x="8572" y="15230"/>
                  <a:pt x="8483" y="15230"/>
                </a:cubicBezTo>
                <a:cubicBezTo>
                  <a:pt x="8450" y="15230"/>
                  <a:pt x="8417" y="15230"/>
                  <a:pt x="8384" y="15230"/>
                </a:cubicBezTo>
              </a:path>
              <a:path w="1142" h="447">
                <a:moveTo>
                  <a:pt x="8558" y="15156"/>
                </a:moveTo>
                <a:cubicBezTo>
                  <a:pt x="8582" y="15156"/>
                  <a:pt x="8591" y="15156"/>
                  <a:pt x="8607" y="15156"/>
                </a:cubicBezTo>
                <a:cubicBezTo>
                  <a:pt x="8607" y="15263"/>
                  <a:pt x="8607" y="15371"/>
                  <a:pt x="8607" y="15478"/>
                </a:cubicBezTo>
              </a:path>
              <a:path w="1142" h="447">
                <a:moveTo>
                  <a:pt x="9302" y="15032"/>
                </a:moveTo>
                <a:cubicBezTo>
                  <a:pt x="9331" y="15046"/>
                  <a:pt x="9278" y="15083"/>
                  <a:pt x="9252" y="15131"/>
                </a:cubicBezTo>
                <a:cubicBezTo>
                  <a:pt x="9213" y="15204"/>
                  <a:pt x="9203" y="15247"/>
                  <a:pt x="9203" y="15329"/>
                </a:cubicBezTo>
                <a:cubicBezTo>
                  <a:pt x="9203" y="15403"/>
                  <a:pt x="9233" y="15442"/>
                  <a:pt x="9302" y="15453"/>
                </a:cubicBezTo>
                <a:cubicBezTo>
                  <a:pt x="9374" y="15465"/>
                  <a:pt x="9434" y="15444"/>
                  <a:pt x="9500" y="15429"/>
                </a:cubicBezTo>
                <a:cubicBezTo>
                  <a:pt x="9508" y="15429"/>
                  <a:pt x="9517" y="15429"/>
                  <a:pt x="9525" y="15429"/>
                </a:cubicBezTo>
              </a:path>
              <a:path w="1142" h="447">
                <a:moveTo>
                  <a:pt x="9451" y="15255"/>
                </a:moveTo>
                <a:cubicBezTo>
                  <a:pt x="9438" y="15215"/>
                  <a:pt x="9402" y="15230"/>
                  <a:pt x="9351" y="15230"/>
                </a:cubicBezTo>
                <a:cubicBezTo>
                  <a:pt x="9302" y="15230"/>
                  <a:pt x="9252" y="15230"/>
                  <a:pt x="9203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97200" y="5214960"/>
            <a:ext cx="669960" cy="669960"/>
          </a:xfrm>
          <a:custGeom>
            <a:avLst/>
            <a:gdLst/>
            <a:ahLst/>
            <a:rect l="l" t="t" r="r" b="b"/>
            <a:pathLst>
              <a:path w="1861" h="1861">
                <a:moveTo>
                  <a:pt x="10616" y="14486"/>
                </a:moveTo>
                <a:cubicBezTo>
                  <a:pt x="10624" y="14486"/>
                  <a:pt x="10633" y="14486"/>
                  <a:pt x="10641" y="14486"/>
                </a:cubicBezTo>
                <a:cubicBezTo>
                  <a:pt x="10618" y="14509"/>
                  <a:pt x="10584" y="14529"/>
                  <a:pt x="10542" y="14560"/>
                </a:cubicBezTo>
                <a:cubicBezTo>
                  <a:pt x="10491" y="14598"/>
                  <a:pt x="10453" y="14681"/>
                  <a:pt x="10418" y="14734"/>
                </a:cubicBezTo>
                <a:cubicBezTo>
                  <a:pt x="10356" y="14828"/>
                  <a:pt x="10330" y="14926"/>
                  <a:pt x="10294" y="15032"/>
                </a:cubicBezTo>
                <a:cubicBezTo>
                  <a:pt x="10261" y="15131"/>
                  <a:pt x="10251" y="15274"/>
                  <a:pt x="10269" y="15379"/>
                </a:cubicBezTo>
                <a:cubicBezTo>
                  <a:pt x="10287" y="15484"/>
                  <a:pt x="10330" y="15627"/>
                  <a:pt x="10368" y="15726"/>
                </a:cubicBezTo>
                <a:cubicBezTo>
                  <a:pt x="10414" y="15845"/>
                  <a:pt x="10484" y="15962"/>
                  <a:pt x="10542" y="16073"/>
                </a:cubicBezTo>
                <a:cubicBezTo>
                  <a:pt x="10550" y="16090"/>
                  <a:pt x="10559" y="16106"/>
                  <a:pt x="10567" y="16123"/>
                </a:cubicBezTo>
              </a:path>
              <a:path w="1861" h="1861">
                <a:moveTo>
                  <a:pt x="11038" y="14784"/>
                </a:moveTo>
                <a:cubicBezTo>
                  <a:pt x="11046" y="14776"/>
                  <a:pt x="11055" y="14767"/>
                  <a:pt x="11063" y="14759"/>
                </a:cubicBezTo>
                <a:cubicBezTo>
                  <a:pt x="11108" y="14833"/>
                  <a:pt x="11076" y="14847"/>
                  <a:pt x="11063" y="14932"/>
                </a:cubicBezTo>
                <a:cubicBezTo>
                  <a:pt x="11052" y="15007"/>
                  <a:pt x="11065" y="15058"/>
                  <a:pt x="11038" y="15131"/>
                </a:cubicBezTo>
              </a:path>
              <a:path w="1861" h="1861">
                <a:moveTo>
                  <a:pt x="10939" y="15627"/>
                </a:moveTo>
                <a:cubicBezTo>
                  <a:pt x="10947" y="15619"/>
                  <a:pt x="10956" y="15610"/>
                  <a:pt x="10964" y="15602"/>
                </a:cubicBezTo>
                <a:cubicBezTo>
                  <a:pt x="10955" y="15646"/>
                  <a:pt x="10939" y="15679"/>
                  <a:pt x="10939" y="15726"/>
                </a:cubicBezTo>
                <a:cubicBezTo>
                  <a:pt x="10939" y="15751"/>
                  <a:pt x="10939" y="15776"/>
                  <a:pt x="10939" y="15801"/>
                </a:cubicBezTo>
                <a:cubicBezTo>
                  <a:pt x="11060" y="15801"/>
                  <a:pt x="11172" y="15806"/>
                  <a:pt x="11286" y="15825"/>
                </a:cubicBezTo>
                <a:cubicBezTo>
                  <a:pt x="11297" y="15827"/>
                  <a:pt x="11402" y="15840"/>
                  <a:pt x="11410" y="15850"/>
                </a:cubicBezTo>
                <a:cubicBezTo>
                  <a:pt x="11410" y="15875"/>
                  <a:pt x="11410" y="15883"/>
                  <a:pt x="11435" y="15875"/>
                </a:cubicBezTo>
              </a:path>
              <a:path w="1861" h="1861">
                <a:moveTo>
                  <a:pt x="11187" y="15701"/>
                </a:moveTo>
                <a:cubicBezTo>
                  <a:pt x="11151" y="15761"/>
                  <a:pt x="11162" y="15825"/>
                  <a:pt x="11162" y="15900"/>
                </a:cubicBezTo>
                <a:cubicBezTo>
                  <a:pt x="11162" y="15968"/>
                  <a:pt x="11159" y="15987"/>
                  <a:pt x="11187" y="16024"/>
                </a:cubicBezTo>
              </a:path>
              <a:path w="1861" h="1861">
                <a:moveTo>
                  <a:pt x="11534" y="14536"/>
                </a:moveTo>
                <a:cubicBezTo>
                  <a:pt x="11580" y="14576"/>
                  <a:pt x="11624" y="14612"/>
                  <a:pt x="11683" y="14635"/>
                </a:cubicBezTo>
                <a:cubicBezTo>
                  <a:pt x="11754" y="14663"/>
                  <a:pt x="11798" y="14678"/>
                  <a:pt x="11857" y="14734"/>
                </a:cubicBezTo>
                <a:cubicBezTo>
                  <a:pt x="11942" y="14815"/>
                  <a:pt x="11975" y="14909"/>
                  <a:pt x="12030" y="15007"/>
                </a:cubicBezTo>
                <a:cubicBezTo>
                  <a:pt x="12095" y="15124"/>
                  <a:pt x="12125" y="15219"/>
                  <a:pt x="12129" y="15354"/>
                </a:cubicBezTo>
                <a:cubicBezTo>
                  <a:pt x="12134" y="15523"/>
                  <a:pt x="12048" y="15653"/>
                  <a:pt x="11981" y="15801"/>
                </a:cubicBezTo>
                <a:cubicBezTo>
                  <a:pt x="11908" y="15961"/>
                  <a:pt x="11809" y="16079"/>
                  <a:pt x="11708" y="16222"/>
                </a:cubicBezTo>
                <a:cubicBezTo>
                  <a:pt x="11662" y="16291"/>
                  <a:pt x="11650" y="16311"/>
                  <a:pt x="11609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(5, -36) lie on                     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197240" y="1459080"/>
                <a:ext cx="2305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 flipV="1">
            <a:off x="2119320" y="3411360"/>
            <a:ext cx="0" cy="262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6640" y="4716360"/>
            <a:ext cx="322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8480" y="3208320"/>
            <a:ext cx="2263680" cy="271296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839680" y="5649840"/>
            <a:ext cx="144720" cy="144360"/>
            <a:chOff x="2839680" y="5649840"/>
            <a:chExt cx="144720" cy="144360"/>
          </a:xfrm>
        </p:grpSpPr>
        <p:sp>
          <p:nvSpPr>
            <p:cNvPr id="212" name=""/>
            <p:cNvSpPr/>
            <p:nvPr/>
          </p:nvSpPr>
          <p:spPr>
            <a:xfrm flipH="1">
              <a:off x="2839680" y="56498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40040" y="5649840"/>
              <a:ext cx="14436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284120" y="3762360"/>
            <a:ext cx="144720" cy="144360"/>
            <a:chOff x="1284120" y="3762360"/>
            <a:chExt cx="144720" cy="144360"/>
          </a:xfrm>
        </p:grpSpPr>
        <p:sp>
          <p:nvSpPr>
            <p:cNvPr id="215" name=""/>
            <p:cNvSpPr/>
            <p:nvPr/>
          </p:nvSpPr>
          <p:spPr>
            <a:xfrm flipH="1">
              <a:off x="1284120" y="3762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84120" y="3762360"/>
              <a:ext cx="144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046320" y="5659560"/>
            <a:ext cx="11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(2,-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6040" y="345132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 (-3,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2480" y="2379600"/>
            <a:ext cx="4630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.e. is there some value of ‘t’ which will generate the point (5, -36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it do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605480" y="3560760"/>
                <a:ext cx="23097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45080" y="4313160"/>
                <a:ext cx="22748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56160" y="5111640"/>
                <a:ext cx="21193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6095880" y="5340240"/>
            <a:ext cx="113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75480" y="586260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440480" y="5008680"/>
                <a:ext cx="7495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342200" y="5730840"/>
                <a:ext cx="8557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768320" y="6018120"/>
            <a:ext cx="4876920" cy="6426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’ can’t be both things at once – so the point is not on the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(3, 2) li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(1, -3) li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260960" y="1424160"/>
                <a:ext cx="25542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429080" y="3699000"/>
                <a:ext cx="23814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473120" y="2295360"/>
            <a:ext cx="750960" cy="231840"/>
          </a:xfrm>
          <a:custGeom>
            <a:avLst/>
            <a:gdLst/>
            <a:ahLst/>
            <a:rect l="l" t="t" r="r" b="b"/>
            <a:pathLst>
              <a:path w="2084" h="646">
                <a:moveTo>
                  <a:pt x="4142" y="6499"/>
                </a:moveTo>
                <a:cubicBezTo>
                  <a:pt x="4174" y="6475"/>
                  <a:pt x="4185" y="6473"/>
                  <a:pt x="4217" y="6449"/>
                </a:cubicBezTo>
                <a:cubicBezTo>
                  <a:pt x="4155" y="6464"/>
                  <a:pt x="4158" y="6476"/>
                  <a:pt x="4118" y="6524"/>
                </a:cubicBezTo>
                <a:cubicBezTo>
                  <a:pt x="4098" y="6548"/>
                  <a:pt x="4073" y="6613"/>
                  <a:pt x="4093" y="6648"/>
                </a:cubicBezTo>
                <a:cubicBezTo>
                  <a:pt x="4132" y="6717"/>
                  <a:pt x="4207" y="6684"/>
                  <a:pt x="4266" y="6697"/>
                </a:cubicBezTo>
                <a:cubicBezTo>
                  <a:pt x="4346" y="6714"/>
                  <a:pt x="4395" y="6747"/>
                  <a:pt x="4440" y="6796"/>
                </a:cubicBezTo>
                <a:cubicBezTo>
                  <a:pt x="4459" y="6817"/>
                  <a:pt x="4483" y="6864"/>
                  <a:pt x="4465" y="6896"/>
                </a:cubicBezTo>
                <a:cubicBezTo>
                  <a:pt x="4440" y="6941"/>
                  <a:pt x="4358" y="6921"/>
                  <a:pt x="4316" y="6921"/>
                </a:cubicBezTo>
                <a:cubicBezTo>
                  <a:pt x="4258" y="6921"/>
                  <a:pt x="4200" y="6921"/>
                  <a:pt x="4142" y="6921"/>
                </a:cubicBezTo>
              </a:path>
              <a:path w="2084" h="646">
                <a:moveTo>
                  <a:pt x="4490" y="6400"/>
                </a:moveTo>
                <a:cubicBezTo>
                  <a:pt x="4498" y="6392"/>
                  <a:pt x="4506" y="6383"/>
                  <a:pt x="4514" y="6375"/>
                </a:cubicBezTo>
                <a:cubicBezTo>
                  <a:pt x="4433" y="6375"/>
                  <a:pt x="4359" y="6386"/>
                  <a:pt x="4291" y="6400"/>
                </a:cubicBezTo>
                <a:cubicBezTo>
                  <a:pt x="4275" y="6400"/>
                  <a:pt x="4258" y="6400"/>
                  <a:pt x="4242" y="6400"/>
                </a:cubicBezTo>
              </a:path>
              <a:path w="2084" h="646">
                <a:moveTo>
                  <a:pt x="4986" y="6722"/>
                </a:moveTo>
                <a:cubicBezTo>
                  <a:pt x="4919" y="6722"/>
                  <a:pt x="4874" y="6737"/>
                  <a:pt x="4812" y="6747"/>
                </a:cubicBezTo>
                <a:cubicBezTo>
                  <a:pt x="4773" y="6753"/>
                  <a:pt x="4728" y="6747"/>
                  <a:pt x="4688" y="6747"/>
                </a:cubicBezTo>
              </a:path>
              <a:path w="2084" h="646">
                <a:moveTo>
                  <a:pt x="4762" y="6672"/>
                </a:moveTo>
                <a:cubicBezTo>
                  <a:pt x="4785" y="6650"/>
                  <a:pt x="4790" y="6642"/>
                  <a:pt x="4812" y="6648"/>
                </a:cubicBezTo>
                <a:cubicBezTo>
                  <a:pt x="4812" y="6739"/>
                  <a:pt x="4812" y="6830"/>
                  <a:pt x="4812" y="6921"/>
                </a:cubicBezTo>
              </a:path>
              <a:path w="2084" h="646">
                <a:moveTo>
                  <a:pt x="5184" y="6697"/>
                </a:moveTo>
                <a:cubicBezTo>
                  <a:pt x="5149" y="6651"/>
                  <a:pt x="5151" y="6648"/>
                  <a:pt x="5184" y="6623"/>
                </a:cubicBezTo>
                <a:cubicBezTo>
                  <a:pt x="5231" y="6588"/>
                  <a:pt x="5271" y="6598"/>
                  <a:pt x="5333" y="6598"/>
                </a:cubicBezTo>
                <a:cubicBezTo>
                  <a:pt x="5385" y="6598"/>
                  <a:pt x="5427" y="6585"/>
                  <a:pt x="5432" y="6648"/>
                </a:cubicBezTo>
                <a:cubicBezTo>
                  <a:pt x="5438" y="6729"/>
                  <a:pt x="5418" y="6774"/>
                  <a:pt x="5383" y="6846"/>
                </a:cubicBezTo>
                <a:cubicBezTo>
                  <a:pt x="5360" y="6893"/>
                  <a:pt x="5313" y="6948"/>
                  <a:pt x="5308" y="6995"/>
                </a:cubicBezTo>
                <a:cubicBezTo>
                  <a:pt x="5308" y="7003"/>
                  <a:pt x="5308" y="7012"/>
                  <a:pt x="5308" y="7020"/>
                </a:cubicBezTo>
                <a:cubicBezTo>
                  <a:pt x="5440" y="7020"/>
                  <a:pt x="5573" y="7020"/>
                  <a:pt x="5705" y="7020"/>
                </a:cubicBezTo>
              </a:path>
              <a:path w="2084" h="646">
                <a:moveTo>
                  <a:pt x="6152" y="6945"/>
                </a:moveTo>
                <a:cubicBezTo>
                  <a:pt x="6196" y="7006"/>
                  <a:pt x="6183" y="6988"/>
                  <a:pt x="6152" y="6921"/>
                </a:cubicBezTo>
                <a:cubicBezTo>
                  <a:pt x="6110" y="6832"/>
                  <a:pt x="6042" y="6746"/>
                  <a:pt x="5978" y="6672"/>
                </a:cubicBezTo>
                <a:cubicBezTo>
                  <a:pt x="5944" y="6633"/>
                  <a:pt x="5915" y="6591"/>
                  <a:pt x="5879" y="6573"/>
                </a:cubicBezTo>
              </a:path>
              <a:path w="2084" h="646">
                <a:moveTo>
                  <a:pt x="6052" y="6796"/>
                </a:moveTo>
                <a:cubicBezTo>
                  <a:pt x="6007" y="6831"/>
                  <a:pt x="5975" y="6856"/>
                  <a:pt x="5928" y="6896"/>
                </a:cubicBezTo>
                <a:cubicBezTo>
                  <a:pt x="5899" y="6926"/>
                  <a:pt x="5885" y="6937"/>
                  <a:pt x="5854" y="6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63840" y="2320920"/>
            <a:ext cx="349200" cy="196920"/>
          </a:xfrm>
          <a:custGeom>
            <a:avLst/>
            <a:gdLst/>
            <a:ahLst/>
            <a:rect l="l" t="t" r="r" b="b"/>
            <a:pathLst>
              <a:path w="968" h="547">
                <a:moveTo>
                  <a:pt x="7020" y="6672"/>
                </a:moveTo>
                <a:cubicBezTo>
                  <a:pt x="7028" y="6672"/>
                  <a:pt x="7037" y="6672"/>
                  <a:pt x="7045" y="6672"/>
                </a:cubicBezTo>
                <a:cubicBezTo>
                  <a:pt x="6975" y="6672"/>
                  <a:pt x="6900" y="6656"/>
                  <a:pt x="6846" y="6697"/>
                </a:cubicBezTo>
              </a:path>
              <a:path w="968" h="547">
                <a:moveTo>
                  <a:pt x="7094" y="6747"/>
                </a:moveTo>
                <a:cubicBezTo>
                  <a:pt x="7124" y="6787"/>
                  <a:pt x="7134" y="6802"/>
                  <a:pt x="7094" y="6821"/>
                </a:cubicBezTo>
                <a:cubicBezTo>
                  <a:pt x="7027" y="6852"/>
                  <a:pt x="6970" y="6846"/>
                  <a:pt x="6896" y="6846"/>
                </a:cubicBezTo>
              </a:path>
              <a:path w="968" h="547">
                <a:moveTo>
                  <a:pt x="7367" y="6548"/>
                </a:moveTo>
                <a:cubicBezTo>
                  <a:pt x="7379" y="6514"/>
                  <a:pt x="7403" y="6515"/>
                  <a:pt x="7441" y="6499"/>
                </a:cubicBezTo>
                <a:cubicBezTo>
                  <a:pt x="7493" y="6477"/>
                  <a:pt x="7568" y="6458"/>
                  <a:pt x="7615" y="6449"/>
                </a:cubicBezTo>
                <a:cubicBezTo>
                  <a:pt x="7697" y="6433"/>
                  <a:pt x="7733" y="6481"/>
                  <a:pt x="7739" y="6548"/>
                </a:cubicBezTo>
                <a:cubicBezTo>
                  <a:pt x="7742" y="6588"/>
                  <a:pt x="7649" y="6673"/>
                  <a:pt x="7615" y="6697"/>
                </a:cubicBezTo>
                <a:cubicBezTo>
                  <a:pt x="7566" y="6731"/>
                  <a:pt x="7531" y="6738"/>
                  <a:pt x="7516" y="6796"/>
                </a:cubicBezTo>
                <a:cubicBezTo>
                  <a:pt x="7573" y="6796"/>
                  <a:pt x="7612" y="6812"/>
                  <a:pt x="7665" y="6821"/>
                </a:cubicBezTo>
                <a:cubicBezTo>
                  <a:pt x="7736" y="6833"/>
                  <a:pt x="7736" y="6817"/>
                  <a:pt x="7789" y="6871"/>
                </a:cubicBezTo>
                <a:cubicBezTo>
                  <a:pt x="7820" y="6903"/>
                  <a:pt x="7818" y="6955"/>
                  <a:pt x="7764" y="6970"/>
                </a:cubicBezTo>
                <a:cubicBezTo>
                  <a:pt x="7685" y="6992"/>
                  <a:pt x="7599" y="6995"/>
                  <a:pt x="7516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93960" y="2616120"/>
            <a:ext cx="1079280" cy="492120"/>
          </a:xfrm>
          <a:custGeom>
            <a:avLst/>
            <a:gdLst/>
            <a:ahLst/>
            <a:rect l="l" t="t" r="r" b="b"/>
            <a:pathLst>
              <a:path w="3002" h="1365">
                <a:moveTo>
                  <a:pt x="5308" y="7541"/>
                </a:moveTo>
                <a:cubicBezTo>
                  <a:pt x="5308" y="7549"/>
                  <a:pt x="5308" y="7557"/>
                  <a:pt x="5308" y="7565"/>
                </a:cubicBezTo>
                <a:cubicBezTo>
                  <a:pt x="5258" y="7553"/>
                  <a:pt x="5259" y="7541"/>
                  <a:pt x="5259" y="7491"/>
                </a:cubicBezTo>
                <a:cubicBezTo>
                  <a:pt x="5259" y="7430"/>
                  <a:pt x="5309" y="7421"/>
                  <a:pt x="5358" y="7417"/>
                </a:cubicBezTo>
                <a:cubicBezTo>
                  <a:pt x="5390" y="7414"/>
                  <a:pt x="5439" y="7406"/>
                  <a:pt x="5457" y="7441"/>
                </a:cubicBezTo>
                <a:cubicBezTo>
                  <a:pt x="5467" y="7460"/>
                  <a:pt x="5487" y="7569"/>
                  <a:pt x="5482" y="7590"/>
                </a:cubicBezTo>
                <a:cubicBezTo>
                  <a:pt x="5470" y="7640"/>
                  <a:pt x="5428" y="7698"/>
                  <a:pt x="5407" y="7739"/>
                </a:cubicBezTo>
                <a:cubicBezTo>
                  <a:pt x="5390" y="7771"/>
                  <a:pt x="5357" y="7838"/>
                  <a:pt x="5407" y="7863"/>
                </a:cubicBezTo>
                <a:cubicBezTo>
                  <a:pt x="5440" y="7880"/>
                  <a:pt x="5507" y="7854"/>
                  <a:pt x="5531" y="7838"/>
                </a:cubicBezTo>
                <a:cubicBezTo>
                  <a:pt x="5575" y="7808"/>
                  <a:pt x="5597" y="7813"/>
                  <a:pt x="5655" y="7813"/>
                </a:cubicBezTo>
                <a:cubicBezTo>
                  <a:pt x="5680" y="7813"/>
                  <a:pt x="5688" y="7813"/>
                  <a:pt x="5705" y="7813"/>
                </a:cubicBezTo>
              </a:path>
              <a:path w="3002" h="1365">
                <a:moveTo>
                  <a:pt x="6201" y="7665"/>
                </a:moveTo>
                <a:cubicBezTo>
                  <a:pt x="6238" y="7691"/>
                  <a:pt x="6240" y="7680"/>
                  <a:pt x="6251" y="7714"/>
                </a:cubicBezTo>
                <a:cubicBezTo>
                  <a:pt x="6207" y="7671"/>
                  <a:pt x="6139" y="7632"/>
                  <a:pt x="6102" y="7590"/>
                </a:cubicBezTo>
                <a:cubicBezTo>
                  <a:pt x="6074" y="7558"/>
                  <a:pt x="6030" y="7459"/>
                  <a:pt x="6003" y="7441"/>
                </a:cubicBezTo>
                <a:cubicBezTo>
                  <a:pt x="5995" y="7441"/>
                  <a:pt x="5986" y="7441"/>
                  <a:pt x="5978" y="7441"/>
                </a:cubicBezTo>
              </a:path>
              <a:path w="3002" h="1365">
                <a:moveTo>
                  <a:pt x="6077" y="7590"/>
                </a:moveTo>
                <a:cubicBezTo>
                  <a:pt x="6044" y="7623"/>
                  <a:pt x="6011" y="7656"/>
                  <a:pt x="5978" y="7689"/>
                </a:cubicBezTo>
                <a:cubicBezTo>
                  <a:pt x="5970" y="7697"/>
                  <a:pt x="5961" y="7706"/>
                  <a:pt x="5953" y="7714"/>
                </a:cubicBezTo>
              </a:path>
              <a:path w="3002" h="1365">
                <a:moveTo>
                  <a:pt x="6846" y="7565"/>
                </a:moveTo>
                <a:cubicBezTo>
                  <a:pt x="6854" y="7557"/>
                  <a:pt x="6863" y="7549"/>
                  <a:pt x="6871" y="7541"/>
                </a:cubicBezTo>
                <a:cubicBezTo>
                  <a:pt x="6836" y="7548"/>
                  <a:pt x="6754" y="7552"/>
                  <a:pt x="6722" y="7565"/>
                </a:cubicBezTo>
                <a:cubicBezTo>
                  <a:pt x="6699" y="7588"/>
                  <a:pt x="6695" y="7596"/>
                  <a:pt x="6672" y="7590"/>
                </a:cubicBezTo>
              </a:path>
              <a:path w="3002" h="1365">
                <a:moveTo>
                  <a:pt x="6896" y="7689"/>
                </a:moveTo>
                <a:cubicBezTo>
                  <a:pt x="6926" y="7729"/>
                  <a:pt x="6933" y="7757"/>
                  <a:pt x="6871" y="7764"/>
                </a:cubicBezTo>
                <a:cubicBezTo>
                  <a:pt x="6819" y="7770"/>
                  <a:pt x="6786" y="7744"/>
                  <a:pt x="6772" y="7789"/>
                </a:cubicBezTo>
              </a:path>
              <a:path w="3002" h="1365">
                <a:moveTo>
                  <a:pt x="7392" y="7665"/>
                </a:moveTo>
                <a:cubicBezTo>
                  <a:pt x="7392" y="7657"/>
                  <a:pt x="7392" y="7648"/>
                  <a:pt x="7392" y="7640"/>
                </a:cubicBezTo>
                <a:cubicBezTo>
                  <a:pt x="7475" y="7640"/>
                  <a:pt x="7557" y="7640"/>
                  <a:pt x="7640" y="7640"/>
                </a:cubicBezTo>
              </a:path>
              <a:path w="3002" h="1365">
                <a:moveTo>
                  <a:pt x="7838" y="7491"/>
                </a:moveTo>
                <a:cubicBezTo>
                  <a:pt x="7828" y="7452"/>
                  <a:pt x="7813" y="7436"/>
                  <a:pt x="7813" y="7392"/>
                </a:cubicBezTo>
                <a:cubicBezTo>
                  <a:pt x="7813" y="7342"/>
                  <a:pt x="7819" y="7342"/>
                  <a:pt x="7863" y="7317"/>
                </a:cubicBezTo>
                <a:cubicBezTo>
                  <a:pt x="7912" y="7290"/>
                  <a:pt x="7978" y="7248"/>
                  <a:pt x="8037" y="7268"/>
                </a:cubicBezTo>
                <a:cubicBezTo>
                  <a:pt x="8101" y="7290"/>
                  <a:pt x="8103" y="7379"/>
                  <a:pt x="8086" y="7441"/>
                </a:cubicBezTo>
                <a:cubicBezTo>
                  <a:pt x="8069" y="7504"/>
                  <a:pt x="8004" y="7569"/>
                  <a:pt x="7962" y="7615"/>
                </a:cubicBezTo>
                <a:cubicBezTo>
                  <a:pt x="7941" y="7638"/>
                  <a:pt x="7910" y="7723"/>
                  <a:pt x="7962" y="7739"/>
                </a:cubicBezTo>
                <a:cubicBezTo>
                  <a:pt x="8046" y="7765"/>
                  <a:pt x="8171" y="7739"/>
                  <a:pt x="8260" y="7739"/>
                </a:cubicBezTo>
              </a:path>
              <a:path w="3002" h="1365">
                <a:moveTo>
                  <a:pt x="6449" y="8508"/>
                </a:moveTo>
                <a:cubicBezTo>
                  <a:pt x="6449" y="8525"/>
                  <a:pt x="6449" y="8541"/>
                  <a:pt x="6449" y="8558"/>
                </a:cubicBezTo>
                <a:cubicBezTo>
                  <a:pt x="6434" y="8497"/>
                  <a:pt x="6371" y="8455"/>
                  <a:pt x="6325" y="8409"/>
                </a:cubicBezTo>
                <a:cubicBezTo>
                  <a:pt x="6271" y="8355"/>
                  <a:pt x="6210" y="8332"/>
                  <a:pt x="6152" y="8285"/>
                </a:cubicBezTo>
              </a:path>
              <a:path w="3002" h="1365">
                <a:moveTo>
                  <a:pt x="6276" y="8409"/>
                </a:moveTo>
                <a:cubicBezTo>
                  <a:pt x="6264" y="8468"/>
                  <a:pt x="6230" y="8505"/>
                  <a:pt x="6201" y="8558"/>
                </a:cubicBezTo>
                <a:cubicBezTo>
                  <a:pt x="6179" y="8601"/>
                  <a:pt x="6175" y="8612"/>
                  <a:pt x="6152" y="8632"/>
                </a:cubicBezTo>
              </a:path>
              <a:path w="3002" h="1365">
                <a:moveTo>
                  <a:pt x="7069" y="8310"/>
                </a:moveTo>
                <a:cubicBezTo>
                  <a:pt x="7077" y="8310"/>
                  <a:pt x="7086" y="8310"/>
                  <a:pt x="7094" y="8310"/>
                </a:cubicBezTo>
                <a:cubicBezTo>
                  <a:pt x="7032" y="8310"/>
                  <a:pt x="7003" y="8329"/>
                  <a:pt x="6945" y="8334"/>
                </a:cubicBezTo>
                <a:cubicBezTo>
                  <a:pt x="6921" y="8334"/>
                  <a:pt x="6912" y="8334"/>
                  <a:pt x="6896" y="8334"/>
                </a:cubicBezTo>
              </a:path>
              <a:path w="3002" h="1365">
                <a:moveTo>
                  <a:pt x="7094" y="8409"/>
                </a:moveTo>
                <a:cubicBezTo>
                  <a:pt x="7116" y="8431"/>
                  <a:pt x="7125" y="8436"/>
                  <a:pt x="7119" y="8458"/>
                </a:cubicBezTo>
                <a:cubicBezTo>
                  <a:pt x="7066" y="8471"/>
                  <a:pt x="7034" y="8483"/>
                  <a:pt x="6970" y="8483"/>
                </a:cubicBezTo>
                <a:cubicBezTo>
                  <a:pt x="6954" y="8483"/>
                  <a:pt x="6937" y="8483"/>
                  <a:pt x="6921" y="8483"/>
                </a:cubicBezTo>
              </a:path>
              <a:path w="3002" h="1365">
                <a:moveTo>
                  <a:pt x="7441" y="8359"/>
                </a:moveTo>
                <a:cubicBezTo>
                  <a:pt x="7400" y="8359"/>
                  <a:pt x="7475" y="8359"/>
                  <a:pt x="7516" y="8359"/>
                </a:cubicBezTo>
                <a:cubicBezTo>
                  <a:pt x="7582" y="8359"/>
                  <a:pt x="7648" y="8359"/>
                  <a:pt x="7714" y="8359"/>
                </a:cubicBezTo>
              </a:path>
              <a:path w="3002" h="1365">
                <a:moveTo>
                  <a:pt x="8062" y="8235"/>
                </a:moveTo>
                <a:cubicBezTo>
                  <a:pt x="8062" y="8193"/>
                  <a:pt x="8074" y="8270"/>
                  <a:pt x="8062" y="8310"/>
                </a:cubicBezTo>
                <a:cubicBezTo>
                  <a:pt x="8044" y="8372"/>
                  <a:pt x="8037" y="8415"/>
                  <a:pt x="8037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0960" y="2394000"/>
            <a:ext cx="635040" cy="231840"/>
          </a:xfrm>
          <a:custGeom>
            <a:avLst/>
            <a:gdLst/>
            <a:ahLst/>
            <a:rect l="l" t="t" r="r" b="b"/>
            <a:pathLst>
              <a:path w="1762" h="646">
                <a:moveTo>
                  <a:pt x="11385" y="6945"/>
                </a:moveTo>
                <a:cubicBezTo>
                  <a:pt x="11286" y="6945"/>
                  <a:pt x="11187" y="6945"/>
                  <a:pt x="11088" y="6945"/>
                </a:cubicBezTo>
              </a:path>
              <a:path w="1762" h="646">
                <a:moveTo>
                  <a:pt x="11584" y="6672"/>
                </a:moveTo>
                <a:cubicBezTo>
                  <a:pt x="11600" y="6664"/>
                  <a:pt x="11617" y="6656"/>
                  <a:pt x="11633" y="6648"/>
                </a:cubicBezTo>
                <a:cubicBezTo>
                  <a:pt x="11633" y="6813"/>
                  <a:pt x="11633" y="6979"/>
                  <a:pt x="11633" y="7144"/>
                </a:cubicBezTo>
              </a:path>
              <a:path w="1762" h="646">
                <a:moveTo>
                  <a:pt x="11956" y="6995"/>
                </a:moveTo>
                <a:cubicBezTo>
                  <a:pt x="11984" y="7024"/>
                  <a:pt x="11996" y="7033"/>
                  <a:pt x="12005" y="7069"/>
                </a:cubicBezTo>
                <a:cubicBezTo>
                  <a:pt x="12058" y="7069"/>
                  <a:pt x="12079" y="7085"/>
                  <a:pt x="12129" y="7094"/>
                </a:cubicBezTo>
                <a:cubicBezTo>
                  <a:pt x="12179" y="7103"/>
                  <a:pt x="12203" y="7119"/>
                  <a:pt x="12254" y="7119"/>
                </a:cubicBezTo>
                <a:cubicBezTo>
                  <a:pt x="12262" y="7119"/>
                  <a:pt x="12270" y="7119"/>
                  <a:pt x="12278" y="7119"/>
                </a:cubicBezTo>
              </a:path>
              <a:path w="1762" h="646">
                <a:moveTo>
                  <a:pt x="12452" y="6896"/>
                </a:moveTo>
                <a:cubicBezTo>
                  <a:pt x="12429" y="6873"/>
                  <a:pt x="12421" y="6869"/>
                  <a:pt x="12427" y="6846"/>
                </a:cubicBezTo>
                <a:cubicBezTo>
                  <a:pt x="12475" y="6834"/>
                  <a:pt x="12483" y="6792"/>
                  <a:pt x="12526" y="6772"/>
                </a:cubicBezTo>
                <a:cubicBezTo>
                  <a:pt x="12599" y="6738"/>
                  <a:pt x="12672" y="6747"/>
                  <a:pt x="12750" y="6747"/>
                </a:cubicBezTo>
                <a:cubicBezTo>
                  <a:pt x="12766" y="6747"/>
                  <a:pt x="12783" y="6747"/>
                  <a:pt x="12799" y="6747"/>
                </a:cubicBezTo>
                <a:cubicBezTo>
                  <a:pt x="12799" y="6788"/>
                  <a:pt x="12809" y="6839"/>
                  <a:pt x="12774" y="6871"/>
                </a:cubicBezTo>
                <a:cubicBezTo>
                  <a:pt x="12735" y="6908"/>
                  <a:pt x="12621" y="6914"/>
                  <a:pt x="12601" y="6970"/>
                </a:cubicBezTo>
                <a:cubicBezTo>
                  <a:pt x="12576" y="7041"/>
                  <a:pt x="12623" y="7066"/>
                  <a:pt x="12675" y="7094"/>
                </a:cubicBezTo>
                <a:cubicBezTo>
                  <a:pt x="12719" y="7118"/>
                  <a:pt x="12826" y="7133"/>
                  <a:pt x="12849" y="7169"/>
                </a:cubicBezTo>
                <a:cubicBezTo>
                  <a:pt x="12864" y="7193"/>
                  <a:pt x="12848" y="7256"/>
                  <a:pt x="12824" y="7268"/>
                </a:cubicBezTo>
                <a:cubicBezTo>
                  <a:pt x="12794" y="7283"/>
                  <a:pt x="12710" y="7291"/>
                  <a:pt x="12675" y="7293"/>
                </a:cubicBezTo>
                <a:cubicBezTo>
                  <a:pt x="12634" y="7293"/>
                  <a:pt x="12618" y="7301"/>
                  <a:pt x="12626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86200" y="2428920"/>
            <a:ext cx="98640" cy="15228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13494" y="7069"/>
                </a:moveTo>
                <a:cubicBezTo>
                  <a:pt x="13510" y="7090"/>
                  <a:pt x="13534" y="7139"/>
                  <a:pt x="13543" y="7144"/>
                </a:cubicBezTo>
                <a:cubicBezTo>
                  <a:pt x="13568" y="7144"/>
                  <a:pt x="13576" y="7144"/>
                  <a:pt x="13568" y="7169"/>
                </a:cubicBezTo>
                <a:cubicBezTo>
                  <a:pt x="13520" y="7109"/>
                  <a:pt x="13487" y="7036"/>
                  <a:pt x="13444" y="6970"/>
                </a:cubicBezTo>
                <a:cubicBezTo>
                  <a:pt x="13390" y="6887"/>
                  <a:pt x="13366" y="6817"/>
                  <a:pt x="13295" y="6747"/>
                </a:cubicBezTo>
              </a:path>
              <a:path w="274" h="423">
                <a:moveTo>
                  <a:pt x="13444" y="6921"/>
                </a:moveTo>
                <a:cubicBezTo>
                  <a:pt x="13433" y="6965"/>
                  <a:pt x="13394" y="7000"/>
                  <a:pt x="13370" y="7045"/>
                </a:cubicBezTo>
                <a:cubicBezTo>
                  <a:pt x="13334" y="7112"/>
                  <a:pt x="13314" y="7102"/>
                  <a:pt x="13295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10120" y="2490840"/>
            <a:ext cx="81000" cy="73080"/>
          </a:xfrm>
          <a:custGeom>
            <a:avLst/>
            <a:gdLst/>
            <a:ahLst/>
            <a:rect l="l" t="t" r="r" b="b"/>
            <a:pathLst>
              <a:path w="225" h="199">
                <a:moveTo>
                  <a:pt x="14114" y="6921"/>
                </a:moveTo>
                <a:cubicBezTo>
                  <a:pt x="14122" y="6929"/>
                  <a:pt x="14131" y="6937"/>
                  <a:pt x="14139" y="6945"/>
                </a:cubicBezTo>
                <a:cubicBezTo>
                  <a:pt x="14097" y="6955"/>
                  <a:pt x="14031" y="6954"/>
                  <a:pt x="13990" y="6970"/>
                </a:cubicBezTo>
                <a:cubicBezTo>
                  <a:pt x="13967" y="6993"/>
                  <a:pt x="13963" y="7001"/>
                  <a:pt x="13940" y="6995"/>
                </a:cubicBezTo>
              </a:path>
              <a:path w="225" h="199">
                <a:moveTo>
                  <a:pt x="14114" y="7069"/>
                </a:moveTo>
                <a:cubicBezTo>
                  <a:pt x="14099" y="7129"/>
                  <a:pt x="14076" y="7119"/>
                  <a:pt x="14015" y="7119"/>
                </a:cubicBezTo>
                <a:cubicBezTo>
                  <a:pt x="13982" y="7119"/>
                  <a:pt x="13948" y="7119"/>
                  <a:pt x="13915" y="7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32240" y="2384280"/>
            <a:ext cx="169920" cy="19692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14536" y="6772"/>
                </a:moveTo>
                <a:cubicBezTo>
                  <a:pt x="14536" y="6727"/>
                  <a:pt x="14529" y="6706"/>
                  <a:pt x="14560" y="6672"/>
                </a:cubicBezTo>
                <a:cubicBezTo>
                  <a:pt x="14587" y="6642"/>
                  <a:pt x="14645" y="6626"/>
                  <a:pt x="14684" y="6623"/>
                </a:cubicBezTo>
                <a:cubicBezTo>
                  <a:pt x="14729" y="6620"/>
                  <a:pt x="14816" y="6611"/>
                  <a:pt x="14833" y="6672"/>
                </a:cubicBezTo>
                <a:cubicBezTo>
                  <a:pt x="14849" y="6728"/>
                  <a:pt x="14824" y="6821"/>
                  <a:pt x="14808" y="6871"/>
                </a:cubicBezTo>
                <a:cubicBezTo>
                  <a:pt x="14785" y="6941"/>
                  <a:pt x="14719" y="7006"/>
                  <a:pt x="14684" y="7069"/>
                </a:cubicBezTo>
                <a:cubicBezTo>
                  <a:pt x="14659" y="7113"/>
                  <a:pt x="14660" y="7124"/>
                  <a:pt x="14660" y="7169"/>
                </a:cubicBezTo>
                <a:cubicBezTo>
                  <a:pt x="14710" y="7169"/>
                  <a:pt x="14742" y="7151"/>
                  <a:pt x="14784" y="7119"/>
                </a:cubicBezTo>
                <a:cubicBezTo>
                  <a:pt x="14815" y="7096"/>
                  <a:pt x="14844" y="7073"/>
                  <a:pt x="14883" y="7069"/>
                </a:cubicBezTo>
                <a:cubicBezTo>
                  <a:pt x="14923" y="7065"/>
                  <a:pt x="14967" y="7069"/>
                  <a:pt x="15007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46720" y="2741760"/>
            <a:ext cx="63360" cy="17280"/>
          </a:xfrm>
          <a:custGeom>
            <a:avLst/>
            <a:gdLst/>
            <a:ahLst/>
            <a:rect l="l" t="t" r="r" b="b"/>
            <a:pathLst>
              <a:path w="174" h="51">
                <a:moveTo>
                  <a:pt x="12526" y="7615"/>
                </a:moveTo>
                <a:cubicBezTo>
                  <a:pt x="12526" y="7640"/>
                  <a:pt x="12526" y="7648"/>
                  <a:pt x="12526" y="7665"/>
                </a:cubicBezTo>
                <a:cubicBezTo>
                  <a:pt x="12468" y="7665"/>
                  <a:pt x="12411" y="7665"/>
                  <a:pt x="12353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33920" y="2670120"/>
            <a:ext cx="322200" cy="465120"/>
          </a:xfrm>
          <a:custGeom>
            <a:avLst/>
            <a:gdLst/>
            <a:ahLst/>
            <a:rect l="l" t="t" r="r" b="b"/>
            <a:pathLst>
              <a:path w="894" h="1290">
                <a:moveTo>
                  <a:pt x="12874" y="7466"/>
                </a:moveTo>
                <a:cubicBezTo>
                  <a:pt x="12904" y="7443"/>
                  <a:pt x="12934" y="7420"/>
                  <a:pt x="12973" y="7417"/>
                </a:cubicBezTo>
                <a:cubicBezTo>
                  <a:pt x="13017" y="7414"/>
                  <a:pt x="13064" y="7419"/>
                  <a:pt x="13097" y="7441"/>
                </a:cubicBezTo>
                <a:cubicBezTo>
                  <a:pt x="13105" y="7449"/>
                  <a:pt x="13114" y="7458"/>
                  <a:pt x="13122" y="7466"/>
                </a:cubicBezTo>
                <a:cubicBezTo>
                  <a:pt x="13108" y="7522"/>
                  <a:pt x="13074" y="7537"/>
                  <a:pt x="13022" y="7565"/>
                </a:cubicBezTo>
                <a:cubicBezTo>
                  <a:pt x="12976" y="7589"/>
                  <a:pt x="12929" y="7611"/>
                  <a:pt x="12923" y="7665"/>
                </a:cubicBezTo>
                <a:cubicBezTo>
                  <a:pt x="12918" y="7709"/>
                  <a:pt x="13015" y="7740"/>
                  <a:pt x="13047" y="7764"/>
                </a:cubicBezTo>
                <a:cubicBezTo>
                  <a:pt x="13095" y="7801"/>
                  <a:pt x="13122" y="7801"/>
                  <a:pt x="13122" y="7863"/>
                </a:cubicBezTo>
                <a:cubicBezTo>
                  <a:pt x="13122" y="7934"/>
                  <a:pt x="13049" y="7913"/>
                  <a:pt x="12998" y="7913"/>
                </a:cubicBezTo>
                <a:cubicBezTo>
                  <a:pt x="12953" y="7913"/>
                  <a:pt x="12940" y="7916"/>
                  <a:pt x="12923" y="7888"/>
                </a:cubicBezTo>
              </a:path>
              <a:path w="894" h="1290">
                <a:moveTo>
                  <a:pt x="13767" y="7938"/>
                </a:moveTo>
                <a:cubicBezTo>
                  <a:pt x="13767" y="7930"/>
                  <a:pt x="13767" y="7921"/>
                  <a:pt x="13767" y="7913"/>
                </a:cubicBezTo>
                <a:cubicBezTo>
                  <a:pt x="13735" y="7897"/>
                  <a:pt x="13692" y="7828"/>
                  <a:pt x="13667" y="7789"/>
                </a:cubicBezTo>
                <a:cubicBezTo>
                  <a:pt x="13624" y="7722"/>
                  <a:pt x="13591" y="7653"/>
                  <a:pt x="13543" y="7590"/>
                </a:cubicBezTo>
                <a:cubicBezTo>
                  <a:pt x="13521" y="7568"/>
                  <a:pt x="13513" y="7563"/>
                  <a:pt x="13519" y="7541"/>
                </a:cubicBezTo>
              </a:path>
              <a:path w="894" h="1290">
                <a:moveTo>
                  <a:pt x="13593" y="7764"/>
                </a:moveTo>
                <a:cubicBezTo>
                  <a:pt x="13563" y="7813"/>
                  <a:pt x="13557" y="7861"/>
                  <a:pt x="13519" y="7913"/>
                </a:cubicBezTo>
                <a:cubicBezTo>
                  <a:pt x="13511" y="7921"/>
                  <a:pt x="13502" y="7930"/>
                  <a:pt x="13494" y="7938"/>
                </a:cubicBezTo>
              </a:path>
              <a:path w="894" h="1290">
                <a:moveTo>
                  <a:pt x="13692" y="8508"/>
                </a:moveTo>
                <a:cubicBezTo>
                  <a:pt x="13719" y="8544"/>
                  <a:pt x="13709" y="8547"/>
                  <a:pt x="13742" y="8558"/>
                </a:cubicBezTo>
                <a:cubicBezTo>
                  <a:pt x="13693" y="8497"/>
                  <a:pt x="13650" y="8441"/>
                  <a:pt x="13593" y="8384"/>
                </a:cubicBezTo>
                <a:cubicBezTo>
                  <a:pt x="13537" y="8328"/>
                  <a:pt x="13470" y="8229"/>
                  <a:pt x="13395" y="8210"/>
                </a:cubicBezTo>
              </a:path>
              <a:path w="894" h="1290">
                <a:moveTo>
                  <a:pt x="13469" y="8434"/>
                </a:moveTo>
                <a:cubicBezTo>
                  <a:pt x="13431" y="8495"/>
                  <a:pt x="13404" y="8560"/>
                  <a:pt x="13370" y="8632"/>
                </a:cubicBezTo>
                <a:cubicBezTo>
                  <a:pt x="13348" y="8676"/>
                  <a:pt x="13345" y="8687"/>
                  <a:pt x="13320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16680" y="2732040"/>
            <a:ext cx="80640" cy="349200"/>
          </a:xfrm>
          <a:custGeom>
            <a:avLst/>
            <a:gdLst/>
            <a:ahLst/>
            <a:rect l="l" t="t" r="r" b="b"/>
            <a:pathLst>
              <a:path w="224" h="969">
                <a:moveTo>
                  <a:pt x="14362" y="7590"/>
                </a:moveTo>
                <a:cubicBezTo>
                  <a:pt x="14321" y="7590"/>
                  <a:pt x="14279" y="7590"/>
                  <a:pt x="14238" y="7590"/>
                </a:cubicBezTo>
              </a:path>
              <a:path w="224" h="969">
                <a:moveTo>
                  <a:pt x="14362" y="7665"/>
                </a:moveTo>
                <a:cubicBezTo>
                  <a:pt x="14362" y="7689"/>
                  <a:pt x="14362" y="7698"/>
                  <a:pt x="14362" y="7714"/>
                </a:cubicBezTo>
                <a:cubicBezTo>
                  <a:pt x="14308" y="7714"/>
                  <a:pt x="14283" y="7734"/>
                  <a:pt x="14238" y="7739"/>
                </a:cubicBezTo>
                <a:cubicBezTo>
                  <a:pt x="14230" y="7739"/>
                  <a:pt x="14221" y="7739"/>
                  <a:pt x="14213" y="7739"/>
                </a:cubicBezTo>
              </a:path>
              <a:path w="224" h="969">
                <a:moveTo>
                  <a:pt x="14436" y="8409"/>
                </a:moveTo>
                <a:cubicBezTo>
                  <a:pt x="14370" y="8409"/>
                  <a:pt x="14304" y="8409"/>
                  <a:pt x="14238" y="8409"/>
                </a:cubicBezTo>
              </a:path>
              <a:path w="224" h="969">
                <a:moveTo>
                  <a:pt x="14412" y="8533"/>
                </a:moveTo>
                <a:cubicBezTo>
                  <a:pt x="14412" y="8541"/>
                  <a:pt x="14412" y="8550"/>
                  <a:pt x="14412" y="8558"/>
                </a:cubicBezTo>
                <a:cubicBezTo>
                  <a:pt x="14379" y="8558"/>
                  <a:pt x="14345" y="8558"/>
                  <a:pt x="14312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84880" y="2678040"/>
            <a:ext cx="250920" cy="457200"/>
          </a:xfrm>
          <a:custGeom>
            <a:avLst/>
            <a:gdLst/>
            <a:ahLst/>
            <a:rect l="l" t="t" r="r" b="b"/>
            <a:pathLst>
              <a:path w="696" h="1266">
                <a:moveTo>
                  <a:pt x="15230" y="7516"/>
                </a:moveTo>
                <a:cubicBezTo>
                  <a:pt x="15222" y="7516"/>
                  <a:pt x="15213" y="7516"/>
                  <a:pt x="15205" y="7516"/>
                </a:cubicBezTo>
                <a:cubicBezTo>
                  <a:pt x="15217" y="7480"/>
                  <a:pt x="15241" y="7483"/>
                  <a:pt x="15280" y="7466"/>
                </a:cubicBezTo>
                <a:cubicBezTo>
                  <a:pt x="15338" y="7441"/>
                  <a:pt x="15365" y="7441"/>
                  <a:pt x="15429" y="7441"/>
                </a:cubicBezTo>
                <a:cubicBezTo>
                  <a:pt x="15470" y="7441"/>
                  <a:pt x="15493" y="7476"/>
                  <a:pt x="15478" y="7516"/>
                </a:cubicBezTo>
                <a:cubicBezTo>
                  <a:pt x="15460" y="7567"/>
                  <a:pt x="15415" y="7626"/>
                  <a:pt x="15379" y="7665"/>
                </a:cubicBezTo>
                <a:cubicBezTo>
                  <a:pt x="15344" y="7703"/>
                  <a:pt x="15344" y="7725"/>
                  <a:pt x="15379" y="7764"/>
                </a:cubicBezTo>
                <a:cubicBezTo>
                  <a:pt x="15406" y="7795"/>
                  <a:pt x="15509" y="7824"/>
                  <a:pt x="15553" y="7838"/>
                </a:cubicBezTo>
                <a:cubicBezTo>
                  <a:pt x="15602" y="7853"/>
                  <a:pt x="15646" y="7855"/>
                  <a:pt x="15652" y="7913"/>
                </a:cubicBezTo>
                <a:cubicBezTo>
                  <a:pt x="15658" y="7971"/>
                  <a:pt x="15595" y="7985"/>
                  <a:pt x="15553" y="7987"/>
                </a:cubicBezTo>
                <a:cubicBezTo>
                  <a:pt x="15496" y="7990"/>
                  <a:pt x="15436" y="7987"/>
                  <a:pt x="15379" y="7987"/>
                </a:cubicBezTo>
              </a:path>
              <a:path w="696" h="1266">
                <a:moveTo>
                  <a:pt x="14957" y="8483"/>
                </a:moveTo>
                <a:cubicBezTo>
                  <a:pt x="15015" y="8483"/>
                  <a:pt x="15073" y="8483"/>
                  <a:pt x="15131" y="8483"/>
                </a:cubicBezTo>
              </a:path>
              <a:path w="696" h="1266">
                <a:moveTo>
                  <a:pt x="15478" y="8334"/>
                </a:moveTo>
                <a:cubicBezTo>
                  <a:pt x="15478" y="8310"/>
                  <a:pt x="15478" y="8301"/>
                  <a:pt x="15478" y="8285"/>
                </a:cubicBezTo>
                <a:cubicBezTo>
                  <a:pt x="15465" y="8350"/>
                  <a:pt x="15444" y="8418"/>
                  <a:pt x="15429" y="8483"/>
                </a:cubicBezTo>
                <a:cubicBezTo>
                  <a:pt x="15411" y="8562"/>
                  <a:pt x="15404" y="8624"/>
                  <a:pt x="15404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76680" y="3259080"/>
            <a:ext cx="1260360" cy="357120"/>
          </a:xfrm>
          <a:custGeom>
            <a:avLst/>
            <a:gdLst/>
            <a:ahLst/>
            <a:rect l="l" t="t" r="r" b="b"/>
            <a:pathLst>
              <a:path w="3499" h="993">
                <a:moveTo>
                  <a:pt x="7962" y="9153"/>
                </a:moveTo>
                <a:cubicBezTo>
                  <a:pt x="7987" y="9153"/>
                  <a:pt x="7995" y="9153"/>
                  <a:pt x="8012" y="9153"/>
                </a:cubicBezTo>
                <a:cubicBezTo>
                  <a:pt x="8012" y="9119"/>
                  <a:pt x="8025" y="9073"/>
                  <a:pt x="7987" y="9054"/>
                </a:cubicBezTo>
                <a:cubicBezTo>
                  <a:pt x="7928" y="9025"/>
                  <a:pt x="7878" y="9079"/>
                  <a:pt x="7838" y="9103"/>
                </a:cubicBezTo>
                <a:cubicBezTo>
                  <a:pt x="7752" y="9155"/>
                  <a:pt x="7703" y="9228"/>
                  <a:pt x="7764" y="9327"/>
                </a:cubicBezTo>
                <a:cubicBezTo>
                  <a:pt x="7800" y="9386"/>
                  <a:pt x="7904" y="9443"/>
                  <a:pt x="7962" y="9475"/>
                </a:cubicBezTo>
                <a:cubicBezTo>
                  <a:pt x="8019" y="9507"/>
                  <a:pt x="8057" y="9527"/>
                  <a:pt x="8062" y="9599"/>
                </a:cubicBezTo>
                <a:cubicBezTo>
                  <a:pt x="8068" y="9686"/>
                  <a:pt x="8005" y="9703"/>
                  <a:pt x="7938" y="9723"/>
                </a:cubicBezTo>
                <a:cubicBezTo>
                  <a:pt x="7865" y="9745"/>
                  <a:pt x="7814" y="9748"/>
                  <a:pt x="7739" y="9748"/>
                </a:cubicBezTo>
                <a:cubicBezTo>
                  <a:pt x="7731" y="9748"/>
                  <a:pt x="7722" y="9748"/>
                  <a:pt x="7714" y="9748"/>
                </a:cubicBezTo>
              </a:path>
              <a:path w="3499" h="993">
                <a:moveTo>
                  <a:pt x="8384" y="9500"/>
                </a:moveTo>
                <a:cubicBezTo>
                  <a:pt x="8424" y="9480"/>
                  <a:pt x="8441" y="9482"/>
                  <a:pt x="8434" y="9451"/>
                </a:cubicBezTo>
                <a:cubicBezTo>
                  <a:pt x="8362" y="9451"/>
                  <a:pt x="8338" y="9475"/>
                  <a:pt x="8285" y="9525"/>
                </a:cubicBezTo>
                <a:cubicBezTo>
                  <a:pt x="8263" y="9546"/>
                  <a:pt x="8184" y="9651"/>
                  <a:pt x="8260" y="9674"/>
                </a:cubicBezTo>
                <a:cubicBezTo>
                  <a:pt x="8336" y="9697"/>
                  <a:pt x="8331" y="9648"/>
                  <a:pt x="8384" y="9624"/>
                </a:cubicBezTo>
                <a:cubicBezTo>
                  <a:pt x="8428" y="9604"/>
                  <a:pt x="8457" y="9648"/>
                  <a:pt x="8483" y="9674"/>
                </a:cubicBezTo>
                <a:cubicBezTo>
                  <a:pt x="8512" y="9703"/>
                  <a:pt x="8521" y="9714"/>
                  <a:pt x="8558" y="9723"/>
                </a:cubicBezTo>
              </a:path>
              <a:path w="3499" h="993">
                <a:moveTo>
                  <a:pt x="8607" y="9575"/>
                </a:moveTo>
                <a:cubicBezTo>
                  <a:pt x="8627" y="9534"/>
                  <a:pt x="8625" y="9518"/>
                  <a:pt x="8657" y="9525"/>
                </a:cubicBezTo>
                <a:cubicBezTo>
                  <a:pt x="8691" y="9570"/>
                  <a:pt x="8702" y="9614"/>
                  <a:pt x="8706" y="9674"/>
                </a:cubicBezTo>
                <a:cubicBezTo>
                  <a:pt x="8706" y="9699"/>
                  <a:pt x="8706" y="9707"/>
                  <a:pt x="8706" y="9723"/>
                </a:cubicBezTo>
                <a:cubicBezTo>
                  <a:pt x="8714" y="9693"/>
                  <a:pt x="8719" y="9628"/>
                  <a:pt x="8731" y="9599"/>
                </a:cubicBezTo>
                <a:cubicBezTo>
                  <a:pt x="8745" y="9567"/>
                  <a:pt x="8757" y="9558"/>
                  <a:pt x="8781" y="9550"/>
                </a:cubicBezTo>
                <a:cubicBezTo>
                  <a:pt x="8821" y="9590"/>
                  <a:pt x="8843" y="9633"/>
                  <a:pt x="8880" y="9674"/>
                </a:cubicBezTo>
                <a:cubicBezTo>
                  <a:pt x="8888" y="9682"/>
                  <a:pt x="8897" y="9691"/>
                  <a:pt x="8905" y="9699"/>
                </a:cubicBezTo>
                <a:cubicBezTo>
                  <a:pt x="8941" y="9651"/>
                  <a:pt x="8936" y="9605"/>
                  <a:pt x="8954" y="9550"/>
                </a:cubicBezTo>
                <a:cubicBezTo>
                  <a:pt x="8970" y="9502"/>
                  <a:pt x="8980" y="9466"/>
                  <a:pt x="9004" y="9426"/>
                </a:cubicBezTo>
                <a:cubicBezTo>
                  <a:pt x="9061" y="9454"/>
                  <a:pt x="9064" y="9519"/>
                  <a:pt x="9103" y="9575"/>
                </a:cubicBezTo>
                <a:cubicBezTo>
                  <a:pt x="9131" y="9616"/>
                  <a:pt x="9166" y="9626"/>
                  <a:pt x="9178" y="9674"/>
                </a:cubicBezTo>
              </a:path>
              <a:path w="3499" h="993">
                <a:moveTo>
                  <a:pt x="9178" y="9599"/>
                </a:moveTo>
                <a:cubicBezTo>
                  <a:pt x="9217" y="9609"/>
                  <a:pt x="9232" y="9624"/>
                  <a:pt x="9277" y="9624"/>
                </a:cubicBezTo>
                <a:cubicBezTo>
                  <a:pt x="9306" y="9624"/>
                  <a:pt x="9390" y="9581"/>
                  <a:pt x="9401" y="9550"/>
                </a:cubicBezTo>
                <a:cubicBezTo>
                  <a:pt x="9408" y="9529"/>
                  <a:pt x="9401" y="9477"/>
                  <a:pt x="9401" y="9451"/>
                </a:cubicBezTo>
                <a:cubicBezTo>
                  <a:pt x="9328" y="9461"/>
                  <a:pt x="9283" y="9481"/>
                  <a:pt x="9302" y="9575"/>
                </a:cubicBezTo>
                <a:cubicBezTo>
                  <a:pt x="9322" y="9676"/>
                  <a:pt x="9373" y="9729"/>
                  <a:pt x="9475" y="9748"/>
                </a:cubicBezTo>
                <a:cubicBezTo>
                  <a:pt x="9531" y="9759"/>
                  <a:pt x="9576" y="9723"/>
                  <a:pt x="9624" y="9699"/>
                </a:cubicBezTo>
              </a:path>
              <a:path w="3499" h="993">
                <a:moveTo>
                  <a:pt x="10021" y="9649"/>
                </a:moveTo>
                <a:cubicBezTo>
                  <a:pt x="10070" y="9633"/>
                  <a:pt x="10087" y="9627"/>
                  <a:pt x="10145" y="9624"/>
                </a:cubicBezTo>
                <a:cubicBezTo>
                  <a:pt x="10241" y="9619"/>
                  <a:pt x="10342" y="9649"/>
                  <a:pt x="10443" y="9649"/>
                </a:cubicBezTo>
                <a:cubicBezTo>
                  <a:pt x="10586" y="9649"/>
                  <a:pt x="10680" y="9584"/>
                  <a:pt x="10815" y="9575"/>
                </a:cubicBezTo>
                <a:cubicBezTo>
                  <a:pt x="10885" y="9570"/>
                  <a:pt x="10950" y="9575"/>
                  <a:pt x="11013" y="9599"/>
                </a:cubicBezTo>
                <a:cubicBezTo>
                  <a:pt x="11049" y="9613"/>
                  <a:pt x="11070" y="9622"/>
                  <a:pt x="11112" y="9624"/>
                </a:cubicBezTo>
                <a:cubicBezTo>
                  <a:pt x="11145" y="9626"/>
                  <a:pt x="11179" y="9624"/>
                  <a:pt x="11212" y="9624"/>
                </a:cubicBezTo>
                <a:cubicBezTo>
                  <a:pt x="11196" y="9667"/>
                  <a:pt x="11194" y="9711"/>
                  <a:pt x="11162" y="9748"/>
                </a:cubicBezTo>
                <a:cubicBezTo>
                  <a:pt x="11099" y="9820"/>
                  <a:pt x="11059" y="9934"/>
                  <a:pt x="10988" y="9996"/>
                </a:cubicBezTo>
                <a:cubicBezTo>
                  <a:pt x="10959" y="10022"/>
                  <a:pt x="10918" y="10031"/>
                  <a:pt x="10889" y="10046"/>
                </a:cubicBezTo>
                <a:cubicBezTo>
                  <a:pt x="10927" y="10019"/>
                  <a:pt x="10958" y="9997"/>
                  <a:pt x="10988" y="9947"/>
                </a:cubicBezTo>
                <a:cubicBezTo>
                  <a:pt x="11024" y="9886"/>
                  <a:pt x="11070" y="9829"/>
                  <a:pt x="11112" y="9773"/>
                </a:cubicBezTo>
                <a:cubicBezTo>
                  <a:pt x="11126" y="9754"/>
                  <a:pt x="11187" y="9700"/>
                  <a:pt x="11187" y="9699"/>
                </a:cubicBezTo>
                <a:cubicBezTo>
                  <a:pt x="11202" y="9648"/>
                  <a:pt x="11155" y="9619"/>
                  <a:pt x="11137" y="9575"/>
                </a:cubicBezTo>
                <a:cubicBezTo>
                  <a:pt x="11092" y="9465"/>
                  <a:pt x="11006" y="9379"/>
                  <a:pt x="10939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76800" y="3251160"/>
            <a:ext cx="795240" cy="338040"/>
          </a:xfrm>
          <a:custGeom>
            <a:avLst/>
            <a:gdLst/>
            <a:ahLst/>
            <a:rect l="l" t="t" r="r" b="b"/>
            <a:pathLst>
              <a:path w="2209" h="943">
                <a:moveTo>
                  <a:pt x="12204" y="9475"/>
                </a:moveTo>
                <a:cubicBezTo>
                  <a:pt x="12258" y="9462"/>
                  <a:pt x="12253" y="9439"/>
                  <a:pt x="12278" y="9401"/>
                </a:cubicBezTo>
                <a:cubicBezTo>
                  <a:pt x="12300" y="9368"/>
                  <a:pt x="12324" y="9342"/>
                  <a:pt x="12328" y="9302"/>
                </a:cubicBezTo>
                <a:cubicBezTo>
                  <a:pt x="12334" y="9245"/>
                  <a:pt x="12243" y="9402"/>
                  <a:pt x="12229" y="9426"/>
                </a:cubicBezTo>
                <a:cubicBezTo>
                  <a:pt x="12168" y="9532"/>
                  <a:pt x="12110" y="9639"/>
                  <a:pt x="12055" y="9748"/>
                </a:cubicBezTo>
                <a:cubicBezTo>
                  <a:pt x="12031" y="9796"/>
                  <a:pt x="12023" y="9810"/>
                  <a:pt x="12030" y="9847"/>
                </a:cubicBezTo>
              </a:path>
              <a:path w="2209" h="943">
                <a:moveTo>
                  <a:pt x="12105" y="9699"/>
                </a:moveTo>
                <a:cubicBezTo>
                  <a:pt x="12132" y="9595"/>
                  <a:pt x="12144" y="9607"/>
                  <a:pt x="12080" y="9550"/>
                </a:cubicBezTo>
                <a:cubicBezTo>
                  <a:pt x="12043" y="9517"/>
                  <a:pt x="11957" y="9512"/>
                  <a:pt x="11906" y="9500"/>
                </a:cubicBezTo>
                <a:cubicBezTo>
                  <a:pt x="11898" y="9500"/>
                  <a:pt x="11889" y="9500"/>
                  <a:pt x="11881" y="9500"/>
                </a:cubicBezTo>
              </a:path>
              <a:path w="2209" h="943">
                <a:moveTo>
                  <a:pt x="12626" y="9277"/>
                </a:moveTo>
                <a:cubicBezTo>
                  <a:pt x="12678" y="9254"/>
                  <a:pt x="12696" y="9252"/>
                  <a:pt x="12750" y="9252"/>
                </a:cubicBezTo>
                <a:cubicBezTo>
                  <a:pt x="12729" y="9210"/>
                  <a:pt x="12716" y="9276"/>
                  <a:pt x="12675" y="9302"/>
                </a:cubicBezTo>
                <a:cubicBezTo>
                  <a:pt x="12597" y="9353"/>
                  <a:pt x="12567" y="9392"/>
                  <a:pt x="12526" y="9475"/>
                </a:cubicBezTo>
                <a:cubicBezTo>
                  <a:pt x="12496" y="9537"/>
                  <a:pt x="12457" y="9602"/>
                  <a:pt x="12477" y="9674"/>
                </a:cubicBezTo>
                <a:cubicBezTo>
                  <a:pt x="12495" y="9740"/>
                  <a:pt x="12543" y="9791"/>
                  <a:pt x="12601" y="9798"/>
                </a:cubicBezTo>
                <a:cubicBezTo>
                  <a:pt x="12672" y="9806"/>
                  <a:pt x="12738" y="9753"/>
                  <a:pt x="12799" y="9723"/>
                </a:cubicBezTo>
                <a:cubicBezTo>
                  <a:pt x="12816" y="9715"/>
                  <a:pt x="12832" y="9707"/>
                  <a:pt x="12849" y="9699"/>
                </a:cubicBezTo>
              </a:path>
              <a:path w="2209" h="943">
                <a:moveTo>
                  <a:pt x="12849" y="9649"/>
                </a:moveTo>
                <a:cubicBezTo>
                  <a:pt x="12810" y="9581"/>
                  <a:pt x="12779" y="9563"/>
                  <a:pt x="12700" y="9550"/>
                </a:cubicBezTo>
                <a:cubicBezTo>
                  <a:pt x="12630" y="9538"/>
                  <a:pt x="12549" y="9550"/>
                  <a:pt x="12477" y="9550"/>
                </a:cubicBezTo>
              </a:path>
              <a:path w="2209" h="943">
                <a:moveTo>
                  <a:pt x="13295" y="9277"/>
                </a:moveTo>
                <a:cubicBezTo>
                  <a:pt x="13344" y="9240"/>
                  <a:pt x="13462" y="9166"/>
                  <a:pt x="13494" y="9103"/>
                </a:cubicBezTo>
                <a:cubicBezTo>
                  <a:pt x="13494" y="9079"/>
                  <a:pt x="13494" y="9070"/>
                  <a:pt x="13494" y="9054"/>
                </a:cubicBezTo>
                <a:cubicBezTo>
                  <a:pt x="13436" y="9011"/>
                  <a:pt x="13391" y="9043"/>
                  <a:pt x="13345" y="9103"/>
                </a:cubicBezTo>
                <a:cubicBezTo>
                  <a:pt x="13290" y="9175"/>
                  <a:pt x="13268" y="9245"/>
                  <a:pt x="13295" y="9327"/>
                </a:cubicBezTo>
                <a:cubicBezTo>
                  <a:pt x="13324" y="9413"/>
                  <a:pt x="13442" y="9470"/>
                  <a:pt x="13519" y="9500"/>
                </a:cubicBezTo>
                <a:cubicBezTo>
                  <a:pt x="13585" y="9525"/>
                  <a:pt x="13671" y="9546"/>
                  <a:pt x="13692" y="9624"/>
                </a:cubicBezTo>
                <a:cubicBezTo>
                  <a:pt x="13718" y="9722"/>
                  <a:pt x="13562" y="9776"/>
                  <a:pt x="13494" y="9798"/>
                </a:cubicBezTo>
                <a:cubicBezTo>
                  <a:pt x="13381" y="9834"/>
                  <a:pt x="13257" y="9813"/>
                  <a:pt x="13146" y="9847"/>
                </a:cubicBezTo>
                <a:cubicBezTo>
                  <a:pt x="13130" y="9855"/>
                  <a:pt x="13113" y="9864"/>
                  <a:pt x="13097" y="9872"/>
                </a:cubicBezTo>
              </a:path>
              <a:path w="2209" h="943">
                <a:moveTo>
                  <a:pt x="14015" y="9922"/>
                </a:moveTo>
                <a:cubicBezTo>
                  <a:pt x="14058" y="9944"/>
                  <a:pt x="14069" y="9948"/>
                  <a:pt x="14089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ametric form – each dimension (x, y, z) given in terms of a paramete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r = i + 2j – 4k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6i – 7j + 3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9000" y="4187880"/>
            <a:ext cx="179280" cy="14292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3051" y="11782"/>
                </a:moveTo>
                <a:cubicBezTo>
                  <a:pt x="3043" y="11790"/>
                  <a:pt x="3034" y="11799"/>
                  <a:pt x="3026" y="11807"/>
                </a:cubicBezTo>
                <a:cubicBezTo>
                  <a:pt x="3026" y="11758"/>
                  <a:pt x="3021" y="11728"/>
                  <a:pt x="3051" y="11683"/>
                </a:cubicBezTo>
                <a:cubicBezTo>
                  <a:pt x="3074" y="11649"/>
                  <a:pt x="3133" y="11605"/>
                  <a:pt x="3175" y="11633"/>
                </a:cubicBezTo>
                <a:cubicBezTo>
                  <a:pt x="3248" y="11682"/>
                  <a:pt x="3271" y="11776"/>
                  <a:pt x="3274" y="11857"/>
                </a:cubicBezTo>
                <a:cubicBezTo>
                  <a:pt x="3277" y="11933"/>
                  <a:pt x="3250" y="11999"/>
                  <a:pt x="3175" y="12030"/>
                </a:cubicBezTo>
                <a:cubicBezTo>
                  <a:pt x="3149" y="12041"/>
                  <a:pt x="3105" y="12030"/>
                  <a:pt x="3076" y="12030"/>
                </a:cubicBezTo>
              </a:path>
              <a:path w="497" h="398">
                <a:moveTo>
                  <a:pt x="3373" y="11708"/>
                </a:moveTo>
                <a:cubicBezTo>
                  <a:pt x="3428" y="11653"/>
                  <a:pt x="3474" y="11606"/>
                  <a:pt x="3398" y="11683"/>
                </a:cubicBezTo>
                <a:cubicBezTo>
                  <a:pt x="3344" y="11738"/>
                  <a:pt x="3301" y="11798"/>
                  <a:pt x="3324" y="11881"/>
                </a:cubicBezTo>
                <a:cubicBezTo>
                  <a:pt x="3338" y="11930"/>
                  <a:pt x="3389" y="12001"/>
                  <a:pt x="3448" y="11981"/>
                </a:cubicBezTo>
                <a:cubicBezTo>
                  <a:pt x="3478" y="11951"/>
                  <a:pt x="3492" y="11940"/>
                  <a:pt x="3522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6120" y="4241880"/>
            <a:ext cx="81000" cy="5400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4217" y="11782"/>
                </a:moveTo>
                <a:cubicBezTo>
                  <a:pt x="4147" y="11782"/>
                  <a:pt x="4101" y="11788"/>
                  <a:pt x="4043" y="11807"/>
                </a:cubicBezTo>
                <a:cubicBezTo>
                  <a:pt x="4035" y="11807"/>
                  <a:pt x="4026" y="11807"/>
                  <a:pt x="4018" y="11807"/>
                </a:cubicBezTo>
              </a:path>
              <a:path w="225" h="150">
                <a:moveTo>
                  <a:pt x="4217" y="11931"/>
                </a:moveTo>
                <a:cubicBezTo>
                  <a:pt x="4225" y="11931"/>
                  <a:pt x="4234" y="11931"/>
                  <a:pt x="4242" y="11931"/>
                </a:cubicBezTo>
                <a:cubicBezTo>
                  <a:pt x="4184" y="11931"/>
                  <a:pt x="4126" y="11931"/>
                  <a:pt x="4068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5320" y="4232160"/>
            <a:ext cx="17640" cy="223920"/>
          </a:xfrm>
          <a:custGeom>
            <a:avLst/>
            <a:gdLst/>
            <a:ahLst/>
            <a:rect l="l" t="t" r="r" b="b"/>
            <a:pathLst>
              <a:path w="50" h="622">
                <a:moveTo>
                  <a:pt x="4986" y="11807"/>
                </a:moveTo>
                <a:cubicBezTo>
                  <a:pt x="4986" y="11782"/>
                  <a:pt x="4986" y="11774"/>
                  <a:pt x="4986" y="11757"/>
                </a:cubicBezTo>
                <a:cubicBezTo>
                  <a:pt x="4986" y="11926"/>
                  <a:pt x="4994" y="12090"/>
                  <a:pt x="5011" y="12254"/>
                </a:cubicBezTo>
                <a:cubicBezTo>
                  <a:pt x="5011" y="12322"/>
                  <a:pt x="5008" y="12341"/>
                  <a:pt x="5035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4080" y="4232160"/>
            <a:ext cx="606600" cy="241560"/>
          </a:xfrm>
          <a:custGeom>
            <a:avLst/>
            <a:gdLst/>
            <a:ahLst/>
            <a:rect l="l" t="t" r="r" b="b"/>
            <a:pathLst>
              <a:path w="1688" h="671">
                <a:moveTo>
                  <a:pt x="6474" y="12278"/>
                </a:moveTo>
                <a:cubicBezTo>
                  <a:pt x="6455" y="12222"/>
                  <a:pt x="6438" y="12270"/>
                  <a:pt x="6400" y="12278"/>
                </a:cubicBezTo>
                <a:cubicBezTo>
                  <a:pt x="6333" y="12292"/>
                  <a:pt x="6267" y="12288"/>
                  <a:pt x="6201" y="12303"/>
                </a:cubicBezTo>
                <a:cubicBezTo>
                  <a:pt x="6193" y="12303"/>
                  <a:pt x="6184" y="12303"/>
                  <a:pt x="6176" y="12303"/>
                </a:cubicBezTo>
              </a:path>
              <a:path w="1688" h="671">
                <a:moveTo>
                  <a:pt x="6276" y="12129"/>
                </a:moveTo>
                <a:cubicBezTo>
                  <a:pt x="6311" y="12153"/>
                  <a:pt x="6300" y="12198"/>
                  <a:pt x="6300" y="12254"/>
                </a:cubicBezTo>
                <a:cubicBezTo>
                  <a:pt x="6300" y="12320"/>
                  <a:pt x="6300" y="12337"/>
                  <a:pt x="6300" y="12378"/>
                </a:cubicBezTo>
              </a:path>
              <a:path w="1688" h="671">
                <a:moveTo>
                  <a:pt x="6846" y="11832"/>
                </a:moveTo>
                <a:cubicBezTo>
                  <a:pt x="6898" y="11797"/>
                  <a:pt x="6888" y="11782"/>
                  <a:pt x="6945" y="11782"/>
                </a:cubicBezTo>
                <a:cubicBezTo>
                  <a:pt x="6923" y="11736"/>
                  <a:pt x="6887" y="11840"/>
                  <a:pt x="6871" y="11881"/>
                </a:cubicBezTo>
                <a:cubicBezTo>
                  <a:pt x="6825" y="11997"/>
                  <a:pt x="6791" y="12111"/>
                  <a:pt x="6821" y="12229"/>
                </a:cubicBezTo>
                <a:cubicBezTo>
                  <a:pt x="6840" y="12306"/>
                  <a:pt x="6900" y="12399"/>
                  <a:pt x="6995" y="12378"/>
                </a:cubicBezTo>
                <a:cubicBezTo>
                  <a:pt x="7061" y="12363"/>
                  <a:pt x="7082" y="12311"/>
                  <a:pt x="7094" y="12254"/>
                </a:cubicBezTo>
                <a:cubicBezTo>
                  <a:pt x="7041" y="12241"/>
                  <a:pt x="7009" y="12229"/>
                  <a:pt x="6945" y="12229"/>
                </a:cubicBezTo>
                <a:cubicBezTo>
                  <a:pt x="6937" y="12229"/>
                  <a:pt x="6929" y="12229"/>
                  <a:pt x="6921" y="12229"/>
                </a:cubicBezTo>
              </a:path>
              <a:path w="1688" h="671">
                <a:moveTo>
                  <a:pt x="7863" y="12378"/>
                </a:moveTo>
                <a:cubicBezTo>
                  <a:pt x="7849" y="12320"/>
                  <a:pt x="7784" y="12223"/>
                  <a:pt x="7739" y="12179"/>
                </a:cubicBezTo>
                <a:cubicBezTo>
                  <a:pt x="7637" y="12081"/>
                  <a:pt x="7534" y="11962"/>
                  <a:pt x="7417" y="11881"/>
                </a:cubicBezTo>
                <a:cubicBezTo>
                  <a:pt x="7376" y="11861"/>
                  <a:pt x="7359" y="11864"/>
                  <a:pt x="7367" y="11832"/>
                </a:cubicBezTo>
              </a:path>
              <a:path w="1688" h="671">
                <a:moveTo>
                  <a:pt x="7714" y="12179"/>
                </a:moveTo>
                <a:cubicBezTo>
                  <a:pt x="7722" y="12171"/>
                  <a:pt x="7731" y="12162"/>
                  <a:pt x="7739" y="12154"/>
                </a:cubicBezTo>
                <a:cubicBezTo>
                  <a:pt x="7700" y="12193"/>
                  <a:pt x="7646" y="12234"/>
                  <a:pt x="7615" y="12278"/>
                </a:cubicBezTo>
                <a:cubicBezTo>
                  <a:pt x="7580" y="12327"/>
                  <a:pt x="7548" y="12376"/>
                  <a:pt x="7516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89000" y="4653000"/>
            <a:ext cx="420840" cy="303120"/>
          </a:xfrm>
          <a:custGeom>
            <a:avLst/>
            <a:gdLst/>
            <a:ahLst/>
            <a:rect l="l" t="t" r="r" b="b"/>
            <a:pathLst>
              <a:path w="1167" h="845">
                <a:moveTo>
                  <a:pt x="3051" y="12973"/>
                </a:moveTo>
                <a:cubicBezTo>
                  <a:pt x="3038" y="12933"/>
                  <a:pt x="3039" y="12963"/>
                  <a:pt x="3026" y="12923"/>
                </a:cubicBezTo>
                <a:cubicBezTo>
                  <a:pt x="3026" y="12995"/>
                  <a:pt x="3011" y="13082"/>
                  <a:pt x="3051" y="13146"/>
                </a:cubicBezTo>
                <a:cubicBezTo>
                  <a:pt x="3093" y="13188"/>
                  <a:pt x="3101" y="13195"/>
                  <a:pt x="3125" y="13221"/>
                </a:cubicBezTo>
                <a:cubicBezTo>
                  <a:pt x="3185" y="13161"/>
                  <a:pt x="3196" y="13075"/>
                  <a:pt x="3249" y="13022"/>
                </a:cubicBezTo>
                <a:cubicBezTo>
                  <a:pt x="3266" y="13014"/>
                  <a:pt x="3282" y="13006"/>
                  <a:pt x="3299" y="12998"/>
                </a:cubicBezTo>
                <a:cubicBezTo>
                  <a:pt x="3430" y="13084"/>
                  <a:pt x="3494" y="13195"/>
                  <a:pt x="3547" y="13345"/>
                </a:cubicBezTo>
                <a:cubicBezTo>
                  <a:pt x="3582" y="13445"/>
                  <a:pt x="3634" y="13600"/>
                  <a:pt x="3547" y="13692"/>
                </a:cubicBezTo>
                <a:cubicBezTo>
                  <a:pt x="3480" y="13762"/>
                  <a:pt x="3366" y="13788"/>
                  <a:pt x="3274" y="13767"/>
                </a:cubicBezTo>
                <a:cubicBezTo>
                  <a:pt x="3231" y="13745"/>
                  <a:pt x="3219" y="13741"/>
                  <a:pt x="3200" y="13717"/>
                </a:cubicBezTo>
              </a:path>
              <a:path w="1167" h="845">
                <a:moveTo>
                  <a:pt x="4192" y="12973"/>
                </a:moveTo>
                <a:cubicBezTo>
                  <a:pt x="4147" y="12984"/>
                  <a:pt x="4122" y="12998"/>
                  <a:pt x="4068" y="12998"/>
                </a:cubicBezTo>
                <a:cubicBezTo>
                  <a:pt x="4033" y="12998"/>
                  <a:pt x="4016" y="13002"/>
                  <a:pt x="3994" y="13022"/>
                </a:cubicBezTo>
              </a:path>
              <a:path w="1167" h="845">
                <a:moveTo>
                  <a:pt x="4167" y="13097"/>
                </a:moveTo>
                <a:cubicBezTo>
                  <a:pt x="4175" y="13097"/>
                  <a:pt x="4184" y="13097"/>
                  <a:pt x="4192" y="13097"/>
                </a:cubicBezTo>
                <a:cubicBezTo>
                  <a:pt x="4179" y="13136"/>
                  <a:pt x="4153" y="13122"/>
                  <a:pt x="4118" y="13146"/>
                </a:cubicBezTo>
                <a:cubicBezTo>
                  <a:pt x="4090" y="13174"/>
                  <a:pt x="4076" y="13183"/>
                  <a:pt x="4043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14680" y="4606920"/>
            <a:ext cx="196560" cy="206280"/>
          </a:xfrm>
          <a:custGeom>
            <a:avLst/>
            <a:gdLst/>
            <a:ahLst/>
            <a:rect l="l" t="t" r="r" b="b"/>
            <a:pathLst>
              <a:path w="547" h="572">
                <a:moveTo>
                  <a:pt x="4862" y="12923"/>
                </a:moveTo>
                <a:cubicBezTo>
                  <a:pt x="4809" y="12923"/>
                  <a:pt x="4769" y="12936"/>
                  <a:pt x="4762" y="12874"/>
                </a:cubicBezTo>
                <a:cubicBezTo>
                  <a:pt x="4757" y="12828"/>
                  <a:pt x="4825" y="12806"/>
                  <a:pt x="4862" y="12799"/>
                </a:cubicBezTo>
                <a:cubicBezTo>
                  <a:pt x="4931" y="12787"/>
                  <a:pt x="4992" y="12796"/>
                  <a:pt x="5011" y="12874"/>
                </a:cubicBezTo>
                <a:cubicBezTo>
                  <a:pt x="5033" y="12965"/>
                  <a:pt x="5021" y="13113"/>
                  <a:pt x="4986" y="13196"/>
                </a:cubicBezTo>
                <a:cubicBezTo>
                  <a:pt x="4958" y="13263"/>
                  <a:pt x="4936" y="13296"/>
                  <a:pt x="4936" y="13370"/>
                </a:cubicBezTo>
                <a:cubicBezTo>
                  <a:pt x="5005" y="13370"/>
                  <a:pt x="5021" y="13361"/>
                  <a:pt x="5085" y="13345"/>
                </a:cubicBezTo>
                <a:cubicBezTo>
                  <a:pt x="5140" y="13331"/>
                  <a:pt x="5186" y="13336"/>
                  <a:pt x="5234" y="13320"/>
                </a:cubicBezTo>
                <a:cubicBezTo>
                  <a:pt x="5277" y="13306"/>
                  <a:pt x="5266" y="13327"/>
                  <a:pt x="5308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52800" y="4626000"/>
            <a:ext cx="625320" cy="204840"/>
          </a:xfrm>
          <a:custGeom>
            <a:avLst/>
            <a:gdLst/>
            <a:ahLst/>
            <a:rect l="l" t="t" r="r" b="b"/>
            <a:pathLst>
              <a:path w="1737" h="571">
                <a:moveTo>
                  <a:pt x="6152" y="13171"/>
                </a:moveTo>
                <a:cubicBezTo>
                  <a:pt x="6174" y="13194"/>
                  <a:pt x="6179" y="13202"/>
                  <a:pt x="6201" y="13196"/>
                </a:cubicBezTo>
                <a:cubicBezTo>
                  <a:pt x="6189" y="13232"/>
                  <a:pt x="6166" y="13229"/>
                  <a:pt x="6127" y="13246"/>
                </a:cubicBezTo>
                <a:cubicBezTo>
                  <a:pt x="6075" y="13268"/>
                  <a:pt x="6028" y="13283"/>
                  <a:pt x="5978" y="13295"/>
                </a:cubicBezTo>
              </a:path>
              <a:path w="1737" h="571">
                <a:moveTo>
                  <a:pt x="6524" y="12849"/>
                </a:moveTo>
                <a:cubicBezTo>
                  <a:pt x="6502" y="12871"/>
                  <a:pt x="6493" y="12876"/>
                  <a:pt x="6499" y="12898"/>
                </a:cubicBezTo>
                <a:cubicBezTo>
                  <a:pt x="6558" y="12898"/>
                  <a:pt x="6592" y="12884"/>
                  <a:pt x="6648" y="12874"/>
                </a:cubicBezTo>
                <a:cubicBezTo>
                  <a:pt x="6724" y="12861"/>
                  <a:pt x="6790" y="12849"/>
                  <a:pt x="6871" y="12849"/>
                </a:cubicBezTo>
                <a:cubicBezTo>
                  <a:pt x="6923" y="12849"/>
                  <a:pt x="6966" y="12866"/>
                  <a:pt x="6970" y="12923"/>
                </a:cubicBezTo>
                <a:cubicBezTo>
                  <a:pt x="6975" y="12998"/>
                  <a:pt x="6928" y="13080"/>
                  <a:pt x="6896" y="13146"/>
                </a:cubicBezTo>
                <a:cubicBezTo>
                  <a:pt x="6869" y="13202"/>
                  <a:pt x="6827" y="13259"/>
                  <a:pt x="6821" y="13320"/>
                </a:cubicBezTo>
                <a:cubicBezTo>
                  <a:pt x="6821" y="13345"/>
                  <a:pt x="6821" y="13353"/>
                  <a:pt x="6821" y="13370"/>
                </a:cubicBezTo>
              </a:path>
              <a:path w="1737" h="571">
                <a:moveTo>
                  <a:pt x="7689" y="13370"/>
                </a:moveTo>
                <a:cubicBezTo>
                  <a:pt x="7697" y="13370"/>
                  <a:pt x="7706" y="13370"/>
                  <a:pt x="7714" y="13370"/>
                </a:cubicBezTo>
                <a:cubicBezTo>
                  <a:pt x="7699" y="13311"/>
                  <a:pt x="7636" y="13290"/>
                  <a:pt x="7590" y="13246"/>
                </a:cubicBezTo>
                <a:cubicBezTo>
                  <a:pt x="7527" y="13186"/>
                  <a:pt x="7456" y="13093"/>
                  <a:pt x="7392" y="13047"/>
                </a:cubicBezTo>
                <a:cubicBezTo>
                  <a:pt x="7364" y="13047"/>
                  <a:pt x="7353" y="13045"/>
                  <a:pt x="7342" y="13022"/>
                </a:cubicBezTo>
              </a:path>
              <a:path w="1737" h="571">
                <a:moveTo>
                  <a:pt x="7590" y="13295"/>
                </a:moveTo>
                <a:cubicBezTo>
                  <a:pt x="7525" y="13311"/>
                  <a:pt x="7540" y="13332"/>
                  <a:pt x="7491" y="13370"/>
                </a:cubicBezTo>
                <a:cubicBezTo>
                  <a:pt x="7448" y="13392"/>
                  <a:pt x="7436" y="13395"/>
                  <a:pt x="7417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4920" y="5197320"/>
            <a:ext cx="206280" cy="133560"/>
          </a:xfrm>
          <a:custGeom>
            <a:avLst/>
            <a:gdLst/>
            <a:ahLst/>
            <a:rect l="l" t="t" r="r" b="b"/>
            <a:pathLst>
              <a:path w="571" h="373">
                <a:moveTo>
                  <a:pt x="3349" y="14511"/>
                </a:moveTo>
                <a:cubicBezTo>
                  <a:pt x="3349" y="14519"/>
                  <a:pt x="3349" y="14528"/>
                  <a:pt x="3349" y="14536"/>
                </a:cubicBezTo>
                <a:cubicBezTo>
                  <a:pt x="3391" y="14525"/>
                  <a:pt x="3430" y="14507"/>
                  <a:pt x="3473" y="14486"/>
                </a:cubicBezTo>
                <a:cubicBezTo>
                  <a:pt x="3538" y="14455"/>
                  <a:pt x="3573" y="14436"/>
                  <a:pt x="3646" y="14436"/>
                </a:cubicBezTo>
                <a:cubicBezTo>
                  <a:pt x="3688" y="14436"/>
                  <a:pt x="3696" y="14436"/>
                  <a:pt x="3721" y="14436"/>
                </a:cubicBezTo>
                <a:cubicBezTo>
                  <a:pt x="3721" y="14490"/>
                  <a:pt x="3720" y="14509"/>
                  <a:pt x="3696" y="14560"/>
                </a:cubicBezTo>
                <a:cubicBezTo>
                  <a:pt x="3668" y="14619"/>
                  <a:pt x="3645" y="14679"/>
                  <a:pt x="3621" y="14734"/>
                </a:cubicBezTo>
                <a:cubicBezTo>
                  <a:pt x="3604" y="14772"/>
                  <a:pt x="3597" y="14763"/>
                  <a:pt x="3597" y="14808"/>
                </a:cubicBezTo>
                <a:cubicBezTo>
                  <a:pt x="3646" y="14808"/>
                  <a:pt x="3683" y="14791"/>
                  <a:pt x="3721" y="14784"/>
                </a:cubicBezTo>
                <a:cubicBezTo>
                  <a:pt x="3784" y="14772"/>
                  <a:pt x="3824" y="14759"/>
                  <a:pt x="3894" y="14759"/>
                </a:cubicBezTo>
                <a:cubicBezTo>
                  <a:pt x="3902" y="14759"/>
                  <a:pt x="3911" y="14759"/>
                  <a:pt x="3919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52760" y="5232240"/>
            <a:ext cx="61920" cy="71640"/>
          </a:xfrm>
          <a:custGeom>
            <a:avLst/>
            <a:gdLst/>
            <a:ahLst/>
            <a:rect l="l" t="t" r="r" b="b"/>
            <a:pathLst>
              <a:path w="174" h="199">
                <a:moveTo>
                  <a:pt x="4738" y="14536"/>
                </a:moveTo>
                <a:cubicBezTo>
                  <a:pt x="4746" y="14536"/>
                  <a:pt x="4754" y="14536"/>
                  <a:pt x="4762" y="14536"/>
                </a:cubicBezTo>
                <a:cubicBezTo>
                  <a:pt x="4751" y="14569"/>
                  <a:pt x="4710" y="14580"/>
                  <a:pt x="4663" y="14585"/>
                </a:cubicBezTo>
                <a:cubicBezTo>
                  <a:pt x="4618" y="14590"/>
                  <a:pt x="4627" y="14581"/>
                  <a:pt x="4589" y="14610"/>
                </a:cubicBezTo>
              </a:path>
              <a:path w="174" h="199">
                <a:moveTo>
                  <a:pt x="4762" y="14635"/>
                </a:moveTo>
                <a:cubicBezTo>
                  <a:pt x="4762" y="14675"/>
                  <a:pt x="4757" y="14715"/>
                  <a:pt x="4713" y="14734"/>
                </a:cubicBezTo>
                <a:cubicBezTo>
                  <a:pt x="4688" y="14734"/>
                  <a:pt x="4680" y="14734"/>
                  <a:pt x="4663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55880" y="5106960"/>
            <a:ext cx="374400" cy="243000"/>
          </a:xfrm>
          <a:custGeom>
            <a:avLst/>
            <a:gdLst/>
            <a:ahLst/>
            <a:rect l="l" t="t" r="r" b="b"/>
            <a:pathLst>
              <a:path w="1043" h="671">
                <a:moveTo>
                  <a:pt x="5705" y="14585"/>
                </a:moveTo>
                <a:cubicBezTo>
                  <a:pt x="5713" y="14585"/>
                  <a:pt x="5722" y="14585"/>
                  <a:pt x="5730" y="14585"/>
                </a:cubicBezTo>
                <a:cubicBezTo>
                  <a:pt x="5717" y="14624"/>
                  <a:pt x="5683" y="14632"/>
                  <a:pt x="5631" y="14635"/>
                </a:cubicBezTo>
                <a:cubicBezTo>
                  <a:pt x="5560" y="14639"/>
                  <a:pt x="5506" y="14660"/>
                  <a:pt x="5432" y="14660"/>
                </a:cubicBezTo>
              </a:path>
              <a:path w="1043" h="671">
                <a:moveTo>
                  <a:pt x="5904" y="14238"/>
                </a:moveTo>
                <a:cubicBezTo>
                  <a:pt x="5924" y="14197"/>
                  <a:pt x="5921" y="14180"/>
                  <a:pt x="5953" y="14188"/>
                </a:cubicBezTo>
                <a:cubicBezTo>
                  <a:pt x="5953" y="14310"/>
                  <a:pt x="5904" y="14569"/>
                  <a:pt x="5978" y="14660"/>
                </a:cubicBezTo>
                <a:cubicBezTo>
                  <a:pt x="6014" y="14705"/>
                  <a:pt x="6099" y="14684"/>
                  <a:pt x="6152" y="14684"/>
                </a:cubicBezTo>
                <a:cubicBezTo>
                  <a:pt x="6202" y="14684"/>
                  <a:pt x="6245" y="14660"/>
                  <a:pt x="6300" y="14660"/>
                </a:cubicBezTo>
                <a:cubicBezTo>
                  <a:pt x="6352" y="14660"/>
                  <a:pt x="6459" y="14642"/>
                  <a:pt x="6474" y="14684"/>
                </a:cubicBezTo>
              </a:path>
              <a:path w="1043" h="671">
                <a:moveTo>
                  <a:pt x="6300" y="14536"/>
                </a:moveTo>
                <a:cubicBezTo>
                  <a:pt x="6300" y="14618"/>
                  <a:pt x="6321" y="14678"/>
                  <a:pt x="6325" y="14759"/>
                </a:cubicBezTo>
                <a:cubicBezTo>
                  <a:pt x="6325" y="14810"/>
                  <a:pt x="6326" y="14829"/>
                  <a:pt x="6350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90840" y="5153040"/>
            <a:ext cx="652320" cy="231840"/>
          </a:xfrm>
          <a:custGeom>
            <a:avLst/>
            <a:gdLst/>
            <a:ahLst/>
            <a:rect l="l" t="t" r="r" b="b"/>
            <a:pathLst>
              <a:path w="1811" h="646">
                <a:moveTo>
                  <a:pt x="7243" y="14660"/>
                </a:moveTo>
                <a:cubicBezTo>
                  <a:pt x="7289" y="14626"/>
                  <a:pt x="7305" y="14635"/>
                  <a:pt x="7243" y="14635"/>
                </a:cubicBezTo>
                <a:cubicBezTo>
                  <a:pt x="7145" y="14635"/>
                  <a:pt x="7062" y="14639"/>
                  <a:pt x="6970" y="14660"/>
                </a:cubicBezTo>
                <a:cubicBezTo>
                  <a:pt x="6945" y="14660"/>
                  <a:pt x="6937" y="14660"/>
                  <a:pt x="6921" y="14660"/>
                </a:cubicBezTo>
              </a:path>
              <a:path w="1811" h="646">
                <a:moveTo>
                  <a:pt x="7045" y="14560"/>
                </a:moveTo>
                <a:cubicBezTo>
                  <a:pt x="7045" y="14496"/>
                  <a:pt x="7045" y="14599"/>
                  <a:pt x="7045" y="14610"/>
                </a:cubicBezTo>
                <a:cubicBezTo>
                  <a:pt x="7045" y="14684"/>
                  <a:pt x="7045" y="14759"/>
                  <a:pt x="7045" y="14833"/>
                </a:cubicBezTo>
              </a:path>
              <a:path w="1811" h="646">
                <a:moveTo>
                  <a:pt x="7565" y="14461"/>
                </a:moveTo>
                <a:cubicBezTo>
                  <a:pt x="7520" y="14461"/>
                  <a:pt x="7504" y="14474"/>
                  <a:pt x="7491" y="14436"/>
                </a:cubicBezTo>
                <a:cubicBezTo>
                  <a:pt x="7513" y="14394"/>
                  <a:pt x="7565" y="14364"/>
                  <a:pt x="7615" y="14337"/>
                </a:cubicBezTo>
                <a:cubicBezTo>
                  <a:pt x="7682" y="14301"/>
                  <a:pt x="7729" y="14304"/>
                  <a:pt x="7789" y="14337"/>
                </a:cubicBezTo>
                <a:cubicBezTo>
                  <a:pt x="7858" y="14374"/>
                  <a:pt x="7838" y="14413"/>
                  <a:pt x="7838" y="14486"/>
                </a:cubicBezTo>
                <a:cubicBezTo>
                  <a:pt x="7838" y="14577"/>
                  <a:pt x="7799" y="14581"/>
                  <a:pt x="7739" y="14635"/>
                </a:cubicBezTo>
                <a:cubicBezTo>
                  <a:pt x="7714" y="14660"/>
                  <a:pt x="7706" y="14668"/>
                  <a:pt x="7689" y="14684"/>
                </a:cubicBezTo>
                <a:cubicBezTo>
                  <a:pt x="7735" y="14719"/>
                  <a:pt x="7760" y="14715"/>
                  <a:pt x="7813" y="14734"/>
                </a:cubicBezTo>
                <a:cubicBezTo>
                  <a:pt x="7860" y="14751"/>
                  <a:pt x="7907" y="14757"/>
                  <a:pt x="7913" y="14808"/>
                </a:cubicBezTo>
                <a:cubicBezTo>
                  <a:pt x="7919" y="14862"/>
                  <a:pt x="7894" y="14869"/>
                  <a:pt x="7838" y="14883"/>
                </a:cubicBezTo>
                <a:cubicBezTo>
                  <a:pt x="7792" y="14895"/>
                  <a:pt x="7755" y="14894"/>
                  <a:pt x="7714" y="14908"/>
                </a:cubicBezTo>
                <a:cubicBezTo>
                  <a:pt x="7706" y="14908"/>
                  <a:pt x="7697" y="14908"/>
                  <a:pt x="7689" y="14908"/>
                </a:cubicBezTo>
              </a:path>
              <a:path w="1811" h="646">
                <a:moveTo>
                  <a:pt x="8632" y="14808"/>
                </a:moveTo>
                <a:cubicBezTo>
                  <a:pt x="8665" y="14833"/>
                  <a:pt x="8691" y="14848"/>
                  <a:pt x="8731" y="14858"/>
                </a:cubicBezTo>
                <a:cubicBezTo>
                  <a:pt x="8683" y="14798"/>
                  <a:pt x="8645" y="14733"/>
                  <a:pt x="8582" y="14684"/>
                </a:cubicBezTo>
                <a:cubicBezTo>
                  <a:pt x="8501" y="14621"/>
                  <a:pt x="8432" y="14559"/>
                  <a:pt x="8359" y="14486"/>
                </a:cubicBezTo>
                <a:cubicBezTo>
                  <a:pt x="8340" y="14467"/>
                  <a:pt x="8288" y="14417"/>
                  <a:pt x="8285" y="14412"/>
                </a:cubicBezTo>
                <a:cubicBezTo>
                  <a:pt x="8285" y="14404"/>
                  <a:pt x="8285" y="14395"/>
                  <a:pt x="8285" y="14387"/>
                </a:cubicBezTo>
              </a:path>
              <a:path w="1811" h="646">
                <a:moveTo>
                  <a:pt x="8458" y="14759"/>
                </a:moveTo>
                <a:cubicBezTo>
                  <a:pt x="8471" y="14721"/>
                  <a:pt x="8483" y="14738"/>
                  <a:pt x="8483" y="14684"/>
                </a:cubicBezTo>
                <a:cubicBezTo>
                  <a:pt x="8483" y="14660"/>
                  <a:pt x="8483" y="14651"/>
                  <a:pt x="8483" y="14635"/>
                </a:cubicBezTo>
                <a:cubicBezTo>
                  <a:pt x="8524" y="14649"/>
                  <a:pt x="8514" y="14675"/>
                  <a:pt x="8483" y="14709"/>
                </a:cubicBezTo>
                <a:cubicBezTo>
                  <a:pt x="8426" y="14771"/>
                  <a:pt x="8387" y="14844"/>
                  <a:pt x="8334" y="14908"/>
                </a:cubicBezTo>
                <a:cubicBezTo>
                  <a:pt x="8318" y="14924"/>
                  <a:pt x="8301" y="14941"/>
                  <a:pt x="8285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parametric equations of the line passing through A (-2, 1, 3) and B (1, -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9:52:43Z</dcterms:created>
  <dc:creator>N Holden</dc:creator>
  <dc:description/>
  <dc:language>en-US</dc:language>
  <cp:lastModifiedBy>N Holden</cp:lastModifiedBy>
  <dcterms:modified xsi:type="dcterms:W3CDTF">2009-03-10T10:15:54Z</dcterms:modified>
  <cp:revision>14</cp:revision>
  <dc:subject/>
  <dc:title>L.O. Manipulate lines of given vector equations</dc:title>
</cp:coreProperties>
</file>